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8.jpeg" ContentType="image/jpeg"/>
  <Override PartName="/ppt/media/image16.png" ContentType="image/png"/>
  <Override PartName="/ppt/media/image15.png" ContentType="image/png"/>
  <Override PartName="/ppt/media/image14.jpeg" ContentType="image/jpeg"/>
  <Override PartName="/ppt/media/image1.wmf" ContentType="image/x-wmf"/>
  <Override PartName="/ppt/media/image2.png" ContentType="image/png"/>
  <Override PartName="/ppt/media/image9.jpeg" ContentType="image/jpeg"/>
  <Override PartName="/ppt/media/image10.png" ContentType="image/png"/>
  <Override PartName="/ppt/media/image6.wmf" ContentType="image/x-wmf"/>
  <Override PartName="/ppt/media/image11.wmf" ContentType="image/x-wmf"/>
  <Override PartName="/ppt/media/image3.png" ContentType="image/png"/>
  <Override PartName="/ppt/media/image7.jpeg" ContentType="image/jpeg"/>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9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Click to move the slide</a:t>
            </a:r>
            <a:endParaRPr b="0" lang="en-US" sz="4000" spc="-1" strike="noStrike">
              <a:solidFill>
                <a:srgbClr val="f4bc40"/>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943C-0F80-4599-BF3F-477E6C1B5E13}"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0AD7-38BC-4435-AAA3-5FEB727BC32E}"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2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D611-7C65-4A33-BAC8-F998C72A4379}"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85A48-1763-4F6A-B0F7-2478966ED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CE91D-09B1-4D6B-9E11-7D7B679DB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ED1A8-1EDF-483D-B2F5-D050B648F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D4E59-A2FE-4B17-9CD8-DD6A16466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45596-977E-4AC4-9FC5-9E69FEB75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6EA4E-89F4-4C4E-A5B9-14C964A49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38A6E-5833-4111-A44A-5A27923DA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72410-0576-4502-AC08-58D4462DD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C61CF-946B-44D3-9E76-A16FDB0B2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2E6B5-04F9-4F2C-A996-30AA04511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50296-AFE7-4036-9F01-3EDAD9F84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60FCB-E255-4464-8C80-CA18F9499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83579-7277-4CAE-8F7F-CF988779D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CE79C-2556-458D-9E05-8BE6D2E3B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0AF93-44F4-4A81-BAC7-83357BA92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6838D-CE67-4FC2-B863-63B96F44D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7850E-B9D4-4193-BBA5-B419EAF8F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B8412-60FB-4884-AA37-B6F47EA1F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C8E59-69B5-4652-8F5E-0A5585B65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727BB-36F0-4D7C-8320-14A440E80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B43A0-0BA2-4B53-B6D8-1E8A6B918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CCA4-28A4-494C-B034-D62438516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C2980-39D1-46AA-B2F6-657FDAB5A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F906B-E295-4F0C-8F9A-B8FC12C14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003399"/>
                </a:gs>
                <a:gs pos="100000">
                  <a:srgbClr val="00002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0" y="0"/>
              <a:ext cx="8078760" cy="200160"/>
            </a:xfrm>
            <a:prstGeom prst="rect">
              <a:avLst/>
            </a:prstGeom>
            <a:gradFill rotWithShape="0">
              <a:gsLst>
                <a:gs pos="0">
                  <a:srgbClr val="00002e"/>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7953480" y="0"/>
              <a:ext cx="1203120" cy="6858000"/>
            </a:xfrm>
            <a:prstGeom prst="rect">
              <a:avLst/>
            </a:prstGeom>
            <a:gradFill rotWithShape="0">
              <a:gsLst>
                <a:gs pos="0">
                  <a:srgbClr val="7c6cad"/>
                </a:gs>
                <a:gs pos="50000">
                  <a:srgbClr val="9280cc"/>
                </a:gs>
                <a:gs pos="100000">
                  <a:srgbClr val="7c6ca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rot="16200000">
                    <a:off x="8757720" y="5148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12" name="Freeform 14"/>
                  <p:cNvSpPr/>
                  <p:nvPr/>
                </p:nvSpPr>
                <p:spPr>
                  <a:xfrm rot="16200000">
                    <a:off x="8828640" y="3888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3" name="Freeform 15"/>
                  <p:cNvSpPr/>
                  <p:nvPr/>
                </p:nvSpPr>
                <p:spPr>
                  <a:xfrm rot="16200000">
                    <a:off x="8898120" y="8892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ffffff"/>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824f99"/>
                </a:gs>
                <a:gs pos="50000">
                  <a:srgbClr val="cc66ff"/>
                </a:gs>
                <a:gs pos="100000">
                  <a:srgbClr val="824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7254b"/>
                </a:gs>
                <a:gs pos="50000">
                  <a:srgbClr val="bd51a1"/>
                </a:gs>
                <a:gs pos="100000">
                  <a:srgbClr val="57254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003399"/>
                </a:gs>
                <a:gs pos="100000">
                  <a:srgbClr val="824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824f99"/>
                </a:gs>
                <a:gs pos="50000">
                  <a:srgbClr val="cc66ff"/>
                </a:gs>
                <a:gs pos="100000">
                  <a:srgbClr val="824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003399"/>
                </a:gs>
                <a:gs pos="50000">
                  <a:srgbClr val="824f99"/>
                </a:gs>
                <a:gs pos="100000">
                  <a:srgbClr val="0033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3399"/>
                </a:gs>
                <a:gs pos="100000">
                  <a:srgbClr val="00002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Click to edit the title text format</a:t>
            </a:r>
            <a:endParaRPr b="0" lang="en-US" sz="4000" spc="-1" strike="noStrike">
              <a:solidFill>
                <a:srgbClr val="f4bc40"/>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E4F7-0D00-49E1-8A85-7E0E7AB2B0ED}" type="datetime">
              <a:rPr b="0" lang="fa-IR" sz="1000" spc="-1" strike="noStrike">
                <a:solidFill>
                  <a:srgbClr val="ffffff"/>
                </a:solidFill>
                <a:latin typeface="Times New Roman"/>
              </a:rPr>
              <a:t>۲۰۲۶/۰۷/۳۱</a:t>
            </a:fld>
            <a:endParaRPr b="0" lang="en-US" sz="1000" spc="-1" strike="noStrike">
              <a:solidFill>
                <a:srgbClr val="ffffff"/>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1446-5123-44D9-AAEB-3811283CCC77}" type="slidenum">
              <a:rPr b="0" lang="fa-I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70600"/>
            <a:chOff x="0" y="-360"/>
            <a:chExt cx="9159840" cy="6870600"/>
          </a:xfrm>
        </p:grpSpPr>
        <p:sp>
          <p:nvSpPr>
            <p:cNvPr id="97" name="Rectangle 3"/>
            <p:cNvSpPr/>
            <p:nvPr/>
          </p:nvSpPr>
          <p:spPr>
            <a:xfrm>
              <a:off x="0" y="6645960"/>
              <a:ext cx="8078760" cy="224280"/>
            </a:xfrm>
            <a:prstGeom prst="rect">
              <a:avLst/>
            </a:prstGeom>
            <a:gradFill rotWithShape="0">
              <a:gsLst>
                <a:gs pos="0">
                  <a:srgbClr val="003399"/>
                </a:gs>
                <a:gs pos="100000">
                  <a:srgbClr val="00002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Rectangle 4"/>
            <p:cNvSpPr/>
            <p:nvPr/>
          </p:nvSpPr>
          <p:spPr>
            <a:xfrm>
              <a:off x="0" y="21960"/>
              <a:ext cx="8078760" cy="199440"/>
            </a:xfrm>
            <a:prstGeom prst="rect">
              <a:avLst/>
            </a:prstGeom>
            <a:gradFill rotWithShape="0">
              <a:gsLst>
                <a:gs pos="0">
                  <a:srgbClr val="00002e"/>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5"/>
            <p:cNvSpPr/>
            <p:nvPr/>
          </p:nvSpPr>
          <p:spPr>
            <a:xfrm>
              <a:off x="7953480" y="21960"/>
              <a:ext cx="1203120" cy="6835680"/>
            </a:xfrm>
            <a:prstGeom prst="rect">
              <a:avLst/>
            </a:prstGeom>
            <a:gradFill rotWithShape="0">
              <a:gsLst>
                <a:gs pos="0">
                  <a:srgbClr val="7c6cad"/>
                </a:gs>
                <a:gs pos="50000">
                  <a:srgbClr val="9280cc"/>
                </a:gs>
                <a:gs pos="100000">
                  <a:srgbClr val="7c6ca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Group 6"/>
            <p:cNvGrpSpPr/>
            <p:nvPr/>
          </p:nvGrpSpPr>
          <p:grpSpPr>
            <a:xfrm>
              <a:off x="7848720" y="-360"/>
              <a:ext cx="1295280" cy="6311880"/>
              <a:chOff x="7848720" y="-360"/>
              <a:chExt cx="1295280" cy="6311880"/>
            </a:xfrm>
          </p:grpSpPr>
          <p:grpSp>
            <p:nvGrpSpPr>
              <p:cNvPr id="101" name="Group 7"/>
              <p:cNvGrpSpPr/>
              <p:nvPr/>
            </p:nvGrpSpPr>
            <p:grpSpPr>
              <a:xfrm>
                <a:off x="8381880" y="-360"/>
                <a:ext cx="762120" cy="2286360"/>
                <a:chOff x="8381880" y="-360"/>
                <a:chExt cx="762120" cy="2286360"/>
              </a:xfrm>
            </p:grpSpPr>
            <p:grpSp>
              <p:nvGrpSpPr>
                <p:cNvPr id="102" name="Group 8"/>
                <p:cNvGrpSpPr/>
                <p:nvPr/>
              </p:nvGrpSpPr>
              <p:grpSpPr>
                <a:xfrm>
                  <a:off x="8717040" y="-360"/>
                  <a:ext cx="279360" cy="275400"/>
                  <a:chOff x="8717040" y="-360"/>
                  <a:chExt cx="279360" cy="275400"/>
                </a:xfrm>
              </p:grpSpPr>
              <p:grpSp>
                <p:nvGrpSpPr>
                  <p:cNvPr id="103" name="Group 9"/>
                  <p:cNvGrpSpPr/>
                  <p:nvPr/>
                </p:nvGrpSpPr>
                <p:grpSpPr>
                  <a:xfrm>
                    <a:off x="8717040" y="-360"/>
                    <a:ext cx="279360" cy="275400"/>
                    <a:chOff x="8717040" y="-360"/>
                    <a:chExt cx="279360" cy="275400"/>
                  </a:xfrm>
                </p:grpSpPr>
                <p:sp>
                  <p:nvSpPr>
                    <p:cNvPr id="104" name="Freeform 10"/>
                    <p:cNvSpPr/>
                    <p:nvPr/>
                  </p:nvSpPr>
                  <p:spPr>
                    <a:xfrm rot="16200000">
                      <a:off x="8755920" y="-392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Freeform 11"/>
                    <p:cNvSpPr/>
                    <p:nvPr/>
                  </p:nvSpPr>
                  <p:spPr>
                    <a:xfrm rot="16200000">
                      <a:off x="8765280" y="9180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6" name="Oval 12"/>
                  <p:cNvSpPr/>
                  <p:nvPr/>
                </p:nvSpPr>
                <p:spPr>
                  <a:xfrm rot="16200000">
                    <a:off x="8836560" y="14760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13"/>
                  <p:cNvSpPr/>
                  <p:nvPr/>
                </p:nvSpPr>
                <p:spPr>
                  <a:xfrm rot="16200000">
                    <a:off x="8770320" y="6984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108" name="Freeform 14"/>
                  <p:cNvSpPr/>
                  <p:nvPr/>
                </p:nvSpPr>
                <p:spPr>
                  <a:xfrm rot="16200000">
                    <a:off x="8841240" y="5724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09" name="Freeform 15"/>
                  <p:cNvSpPr/>
                  <p:nvPr/>
                </p:nvSpPr>
                <p:spPr>
                  <a:xfrm rot="16200000">
                    <a:off x="8910720" y="10728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ffffff"/>
                      </a:solidFill>
                      <a:latin typeface="Arial"/>
                    </a:endParaRPr>
                  </a:p>
                </p:txBody>
              </p:sp>
              <p:sp>
                <p:nvSpPr>
                  <p:cNvPr id="110" name="Freeform 16"/>
                  <p:cNvSpPr/>
                  <p:nvPr/>
                </p:nvSpPr>
                <p:spPr>
                  <a:xfrm rot="16200000">
                    <a:off x="8836560" y="209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111" name="Freeform 17"/>
                  <p:cNvSpPr/>
                  <p:nvPr/>
                </p:nvSpPr>
                <p:spPr>
                  <a:xfrm rot="16200000">
                    <a:off x="8785080" y="185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pic>
              <p:nvPicPr>
                <p:cNvPr id="112" name="Picture 18" descr=""/>
                <p:cNvPicPr/>
                <p:nvPr/>
              </p:nvPicPr>
              <p:blipFill>
                <a:blip r:embed="rId2"/>
                <a:stretch/>
              </p:blipFill>
              <p:spPr>
                <a:xfrm>
                  <a:off x="8381880" y="249840"/>
                  <a:ext cx="295560" cy="289440"/>
                </a:xfrm>
                <a:prstGeom prst="rect">
                  <a:avLst/>
                </a:prstGeom>
                <a:ln w="0">
                  <a:noFill/>
                </a:ln>
              </p:spPr>
            </p:pic>
            <p:pic>
              <p:nvPicPr>
                <p:cNvPr id="113" name="Picture 19" descr=""/>
                <p:cNvPicPr/>
                <p:nvPr/>
              </p:nvPicPr>
              <p:blipFill>
                <a:blip r:embed="rId3"/>
                <a:stretch/>
              </p:blipFill>
              <p:spPr>
                <a:xfrm>
                  <a:off x="8848800" y="249840"/>
                  <a:ext cx="295200" cy="289440"/>
                </a:xfrm>
                <a:prstGeom prst="rect">
                  <a:avLst/>
                </a:prstGeom>
                <a:ln w="0">
                  <a:noFill/>
                </a:ln>
              </p:spPr>
            </p:pic>
            <p:pic>
              <p:nvPicPr>
                <p:cNvPr id="114" name="Picture 20" descr=""/>
                <p:cNvPicPr/>
                <p:nvPr/>
              </p:nvPicPr>
              <p:blipFill>
                <a:blip r:embed="rId4"/>
                <a:stretch/>
              </p:blipFill>
              <p:spPr>
                <a:xfrm>
                  <a:off x="8610480" y="553680"/>
                  <a:ext cx="295560" cy="289440"/>
                </a:xfrm>
                <a:prstGeom prst="rect">
                  <a:avLst/>
                </a:prstGeom>
                <a:ln w="0">
                  <a:noFill/>
                </a:ln>
              </p:spPr>
            </p:pic>
            <p:pic>
              <p:nvPicPr>
                <p:cNvPr id="115" name="Picture 21" descr=""/>
                <p:cNvPicPr/>
                <p:nvPr/>
              </p:nvPicPr>
              <p:blipFill>
                <a:blip r:embed="rId5"/>
                <a:stretch/>
              </p:blipFill>
              <p:spPr>
                <a:xfrm>
                  <a:off x="8534520" y="933480"/>
                  <a:ext cx="295200" cy="289440"/>
                </a:xfrm>
                <a:prstGeom prst="rect">
                  <a:avLst/>
                </a:prstGeom>
                <a:ln w="0">
                  <a:noFill/>
                </a:ln>
              </p:spPr>
            </p:pic>
            <p:pic>
              <p:nvPicPr>
                <p:cNvPr id="116" name="Picture 22" descr=""/>
                <p:cNvPicPr/>
                <p:nvPr/>
              </p:nvPicPr>
              <p:blipFill>
                <a:blip r:embed="rId6"/>
                <a:stretch/>
              </p:blipFill>
              <p:spPr>
                <a:xfrm>
                  <a:off x="8848800" y="857520"/>
                  <a:ext cx="295200" cy="289440"/>
                </a:xfrm>
                <a:prstGeom prst="rect">
                  <a:avLst/>
                </a:prstGeom>
                <a:ln w="0">
                  <a:noFill/>
                </a:ln>
              </p:spPr>
            </p:pic>
            <p:pic>
              <p:nvPicPr>
                <p:cNvPr id="117" name="Picture 23" descr=""/>
                <p:cNvPicPr/>
                <p:nvPr/>
              </p:nvPicPr>
              <p:blipFill>
                <a:blip r:embed="rId7"/>
                <a:stretch/>
              </p:blipFill>
              <p:spPr>
                <a:xfrm>
                  <a:off x="8686800" y="1237320"/>
                  <a:ext cx="295200" cy="289440"/>
                </a:xfrm>
                <a:prstGeom prst="rect">
                  <a:avLst/>
                </a:prstGeom>
                <a:ln w="0">
                  <a:noFill/>
                </a:ln>
              </p:spPr>
            </p:pic>
            <p:pic>
              <p:nvPicPr>
                <p:cNvPr id="118" name="Picture 24" descr=""/>
                <p:cNvPicPr/>
                <p:nvPr/>
              </p:nvPicPr>
              <p:blipFill>
                <a:blip r:embed="rId8"/>
                <a:stretch/>
              </p:blipFill>
              <p:spPr>
                <a:xfrm>
                  <a:off x="8848800" y="1617120"/>
                  <a:ext cx="295200" cy="289440"/>
                </a:xfrm>
                <a:prstGeom prst="rect">
                  <a:avLst/>
                </a:prstGeom>
                <a:ln w="0">
                  <a:noFill/>
                </a:ln>
              </p:spPr>
            </p:pic>
            <p:pic>
              <p:nvPicPr>
                <p:cNvPr id="119" name="Picture 25" descr=""/>
                <p:cNvPicPr/>
                <p:nvPr/>
              </p:nvPicPr>
              <p:blipFill>
                <a:blip r:embed="rId9"/>
                <a:stretch/>
              </p:blipFill>
              <p:spPr>
                <a:xfrm>
                  <a:off x="8848800" y="1996560"/>
                  <a:ext cx="295200" cy="289440"/>
                </a:xfrm>
                <a:prstGeom prst="rect">
                  <a:avLst/>
                </a:prstGeom>
                <a:ln w="0">
                  <a:noFill/>
                </a:ln>
              </p:spPr>
            </p:pic>
          </p:grpSp>
          <p:grpSp>
            <p:nvGrpSpPr>
              <p:cNvPr id="120" name="Group 26"/>
              <p:cNvGrpSpPr/>
              <p:nvPr/>
            </p:nvGrpSpPr>
            <p:grpSpPr>
              <a:xfrm>
                <a:off x="7848720" y="1617120"/>
                <a:ext cx="828720" cy="4694400"/>
                <a:chOff x="7848720" y="1617120"/>
                <a:chExt cx="828720" cy="4694400"/>
              </a:xfrm>
            </p:grpSpPr>
            <p:pic>
              <p:nvPicPr>
                <p:cNvPr id="121" name="Picture 27" descr=""/>
                <p:cNvPicPr/>
                <p:nvPr/>
              </p:nvPicPr>
              <p:blipFill>
                <a:blip r:embed="rId10"/>
                <a:stretch/>
              </p:blipFill>
              <p:spPr>
                <a:xfrm>
                  <a:off x="8153280" y="1617120"/>
                  <a:ext cx="295560" cy="289440"/>
                </a:xfrm>
                <a:prstGeom prst="rect">
                  <a:avLst/>
                </a:prstGeom>
                <a:ln w="0">
                  <a:noFill/>
                </a:ln>
              </p:spPr>
            </p:pic>
            <p:pic>
              <p:nvPicPr>
                <p:cNvPr id="122" name="Picture 28" descr=""/>
                <p:cNvPicPr/>
                <p:nvPr/>
              </p:nvPicPr>
              <p:blipFill>
                <a:blip r:embed="rId11"/>
                <a:stretch/>
              </p:blipFill>
              <p:spPr>
                <a:xfrm>
                  <a:off x="8229600" y="1920960"/>
                  <a:ext cx="295200" cy="289440"/>
                </a:xfrm>
                <a:prstGeom prst="rect">
                  <a:avLst/>
                </a:prstGeom>
                <a:ln w="0">
                  <a:noFill/>
                </a:ln>
              </p:spPr>
            </p:pic>
            <p:pic>
              <p:nvPicPr>
                <p:cNvPr id="123" name="Picture 29" descr=""/>
                <p:cNvPicPr/>
                <p:nvPr/>
              </p:nvPicPr>
              <p:blipFill>
                <a:blip r:embed="rId12"/>
                <a:stretch/>
              </p:blipFill>
              <p:spPr>
                <a:xfrm>
                  <a:off x="8153280" y="2528280"/>
                  <a:ext cx="295560" cy="289440"/>
                </a:xfrm>
                <a:prstGeom prst="rect">
                  <a:avLst/>
                </a:prstGeom>
                <a:ln w="0">
                  <a:noFill/>
                </a:ln>
              </p:spPr>
            </p:pic>
            <p:pic>
              <p:nvPicPr>
                <p:cNvPr id="124" name="Picture 30" descr=""/>
                <p:cNvPicPr/>
                <p:nvPr/>
              </p:nvPicPr>
              <p:blipFill>
                <a:blip r:embed="rId13"/>
                <a:stretch/>
              </p:blipFill>
              <p:spPr>
                <a:xfrm>
                  <a:off x="8381880" y="2756160"/>
                  <a:ext cx="295560" cy="289440"/>
                </a:xfrm>
                <a:prstGeom prst="rect">
                  <a:avLst/>
                </a:prstGeom>
                <a:ln w="0">
                  <a:noFill/>
                </a:ln>
              </p:spPr>
            </p:pic>
            <p:pic>
              <p:nvPicPr>
                <p:cNvPr id="125" name="Picture 31" descr=""/>
                <p:cNvPicPr/>
                <p:nvPr/>
              </p:nvPicPr>
              <p:blipFill>
                <a:blip r:embed="rId14"/>
                <a:stretch/>
              </p:blipFill>
              <p:spPr>
                <a:xfrm>
                  <a:off x="8001000" y="2908080"/>
                  <a:ext cx="295200" cy="289440"/>
                </a:xfrm>
                <a:prstGeom prst="rect">
                  <a:avLst/>
                </a:prstGeom>
                <a:ln w="0">
                  <a:noFill/>
                </a:ln>
              </p:spPr>
            </p:pic>
            <p:pic>
              <p:nvPicPr>
                <p:cNvPr id="126" name="Picture 32" descr=""/>
                <p:cNvPicPr/>
                <p:nvPr/>
              </p:nvPicPr>
              <p:blipFill>
                <a:blip r:embed="rId15"/>
                <a:stretch/>
              </p:blipFill>
              <p:spPr>
                <a:xfrm>
                  <a:off x="8077320" y="3211920"/>
                  <a:ext cx="295200" cy="289440"/>
                </a:xfrm>
                <a:prstGeom prst="rect">
                  <a:avLst/>
                </a:prstGeom>
                <a:ln w="0">
                  <a:noFill/>
                </a:ln>
              </p:spPr>
            </p:pic>
            <p:pic>
              <p:nvPicPr>
                <p:cNvPr id="127" name="Picture 33" descr=""/>
                <p:cNvPicPr/>
                <p:nvPr/>
              </p:nvPicPr>
              <p:blipFill>
                <a:blip r:embed="rId16"/>
                <a:stretch/>
              </p:blipFill>
              <p:spPr>
                <a:xfrm>
                  <a:off x="8381880" y="3287880"/>
                  <a:ext cx="295560" cy="289440"/>
                </a:xfrm>
                <a:prstGeom prst="rect">
                  <a:avLst/>
                </a:prstGeom>
                <a:ln w="0">
                  <a:noFill/>
                </a:ln>
              </p:spPr>
            </p:pic>
            <p:pic>
              <p:nvPicPr>
                <p:cNvPr id="128" name="Picture 34" descr=""/>
                <p:cNvPicPr/>
                <p:nvPr/>
              </p:nvPicPr>
              <p:blipFill>
                <a:blip r:embed="rId17"/>
                <a:stretch/>
              </p:blipFill>
              <p:spPr>
                <a:xfrm>
                  <a:off x="8305920" y="3743640"/>
                  <a:ext cx="295200" cy="289440"/>
                </a:xfrm>
                <a:prstGeom prst="rect">
                  <a:avLst/>
                </a:prstGeom>
                <a:ln w="0">
                  <a:noFill/>
                </a:ln>
              </p:spPr>
            </p:pic>
            <p:pic>
              <p:nvPicPr>
                <p:cNvPr id="129" name="Picture 35" descr=""/>
                <p:cNvPicPr/>
                <p:nvPr/>
              </p:nvPicPr>
              <p:blipFill>
                <a:blip r:embed="rId18"/>
                <a:stretch/>
              </p:blipFill>
              <p:spPr>
                <a:xfrm>
                  <a:off x="7924680" y="3515760"/>
                  <a:ext cx="295560" cy="289440"/>
                </a:xfrm>
                <a:prstGeom prst="rect">
                  <a:avLst/>
                </a:prstGeom>
                <a:ln w="0">
                  <a:noFill/>
                </a:ln>
              </p:spPr>
            </p:pic>
            <p:pic>
              <p:nvPicPr>
                <p:cNvPr id="130" name="Picture 36" descr=""/>
                <p:cNvPicPr/>
                <p:nvPr/>
              </p:nvPicPr>
              <p:blipFill>
                <a:blip r:embed="rId19"/>
                <a:stretch/>
              </p:blipFill>
              <p:spPr>
                <a:xfrm>
                  <a:off x="7924680" y="3895560"/>
                  <a:ext cx="295560" cy="289440"/>
                </a:xfrm>
                <a:prstGeom prst="rect">
                  <a:avLst/>
                </a:prstGeom>
                <a:ln w="0">
                  <a:noFill/>
                </a:ln>
              </p:spPr>
            </p:pic>
            <p:pic>
              <p:nvPicPr>
                <p:cNvPr id="131" name="Picture 37" descr=""/>
                <p:cNvPicPr/>
                <p:nvPr/>
              </p:nvPicPr>
              <p:blipFill>
                <a:blip r:embed="rId20"/>
                <a:stretch/>
              </p:blipFill>
              <p:spPr>
                <a:xfrm>
                  <a:off x="8153280" y="4123440"/>
                  <a:ext cx="295560" cy="289440"/>
                </a:xfrm>
                <a:prstGeom prst="rect">
                  <a:avLst/>
                </a:prstGeom>
                <a:ln w="0">
                  <a:noFill/>
                </a:ln>
              </p:spPr>
            </p:pic>
            <p:pic>
              <p:nvPicPr>
                <p:cNvPr id="132" name="Picture 38" descr=""/>
                <p:cNvPicPr/>
                <p:nvPr/>
              </p:nvPicPr>
              <p:blipFill>
                <a:blip r:embed="rId21"/>
                <a:stretch/>
              </p:blipFill>
              <p:spPr>
                <a:xfrm>
                  <a:off x="8305920" y="2224440"/>
                  <a:ext cx="295200" cy="289440"/>
                </a:xfrm>
                <a:prstGeom prst="rect">
                  <a:avLst/>
                </a:prstGeom>
                <a:ln w="0">
                  <a:noFill/>
                </a:ln>
              </p:spPr>
            </p:pic>
            <p:pic>
              <p:nvPicPr>
                <p:cNvPr id="133" name="Picture 39" descr=""/>
                <p:cNvPicPr/>
                <p:nvPr/>
              </p:nvPicPr>
              <p:blipFill>
                <a:blip r:embed="rId22"/>
                <a:stretch/>
              </p:blipFill>
              <p:spPr>
                <a:xfrm>
                  <a:off x="7848720" y="4350960"/>
                  <a:ext cx="295200" cy="289440"/>
                </a:xfrm>
                <a:prstGeom prst="rect">
                  <a:avLst/>
                </a:prstGeom>
                <a:ln w="0">
                  <a:noFill/>
                </a:ln>
              </p:spPr>
            </p:pic>
            <p:pic>
              <p:nvPicPr>
                <p:cNvPr id="134" name="Picture 40" descr=""/>
                <p:cNvPicPr/>
                <p:nvPr/>
              </p:nvPicPr>
              <p:blipFill>
                <a:blip r:embed="rId23"/>
                <a:stretch/>
              </p:blipFill>
              <p:spPr>
                <a:xfrm>
                  <a:off x="7924680" y="4883040"/>
                  <a:ext cx="295560" cy="289440"/>
                </a:xfrm>
                <a:prstGeom prst="rect">
                  <a:avLst/>
                </a:prstGeom>
                <a:ln w="0">
                  <a:noFill/>
                </a:ln>
              </p:spPr>
            </p:pic>
            <p:pic>
              <p:nvPicPr>
                <p:cNvPr id="135" name="Picture 41" descr=""/>
                <p:cNvPicPr/>
                <p:nvPr/>
              </p:nvPicPr>
              <p:blipFill>
                <a:blip r:embed="rId24"/>
                <a:stretch/>
              </p:blipFill>
              <p:spPr>
                <a:xfrm>
                  <a:off x="8305920" y="5262480"/>
                  <a:ext cx="295200" cy="289440"/>
                </a:xfrm>
                <a:prstGeom prst="rect">
                  <a:avLst/>
                </a:prstGeom>
                <a:ln w="0">
                  <a:noFill/>
                </a:ln>
              </p:spPr>
            </p:pic>
            <p:pic>
              <p:nvPicPr>
                <p:cNvPr id="136" name="Picture 42" descr=""/>
                <p:cNvPicPr/>
                <p:nvPr/>
              </p:nvPicPr>
              <p:blipFill>
                <a:blip r:embed="rId25"/>
                <a:stretch/>
              </p:blipFill>
              <p:spPr>
                <a:xfrm>
                  <a:off x="7924680" y="5414400"/>
                  <a:ext cx="295560" cy="289440"/>
                </a:xfrm>
                <a:prstGeom prst="rect">
                  <a:avLst/>
                </a:prstGeom>
                <a:ln w="0">
                  <a:noFill/>
                </a:ln>
              </p:spPr>
            </p:pic>
            <p:pic>
              <p:nvPicPr>
                <p:cNvPr id="137" name="Picture 43" descr=""/>
                <p:cNvPicPr/>
                <p:nvPr/>
              </p:nvPicPr>
              <p:blipFill>
                <a:blip r:embed="rId26"/>
                <a:stretch/>
              </p:blipFill>
              <p:spPr>
                <a:xfrm>
                  <a:off x="8077320" y="5642280"/>
                  <a:ext cx="295200" cy="289440"/>
                </a:xfrm>
                <a:prstGeom prst="rect">
                  <a:avLst/>
                </a:prstGeom>
                <a:ln w="0">
                  <a:noFill/>
                </a:ln>
              </p:spPr>
            </p:pic>
            <p:pic>
              <p:nvPicPr>
                <p:cNvPr id="138" name="Picture 44" descr=""/>
                <p:cNvPicPr/>
                <p:nvPr/>
              </p:nvPicPr>
              <p:blipFill>
                <a:blip r:embed="rId27"/>
                <a:stretch/>
              </p:blipFill>
              <p:spPr>
                <a:xfrm>
                  <a:off x="7924680" y="6022080"/>
                  <a:ext cx="295560" cy="289440"/>
                </a:xfrm>
                <a:prstGeom prst="rect">
                  <a:avLst/>
                </a:prstGeom>
                <a:ln w="0">
                  <a:noFill/>
                </a:ln>
              </p:spPr>
            </p:pic>
            <p:pic>
              <p:nvPicPr>
                <p:cNvPr id="139" name="Picture 45" descr=""/>
                <p:cNvPicPr/>
                <p:nvPr/>
              </p:nvPicPr>
              <p:blipFill>
                <a:blip r:embed="rId28"/>
                <a:stretch/>
              </p:blipFill>
              <p:spPr>
                <a:xfrm>
                  <a:off x="8229600" y="5870160"/>
                  <a:ext cx="295200" cy="289440"/>
                </a:xfrm>
                <a:prstGeom prst="rect">
                  <a:avLst/>
                </a:prstGeom>
                <a:ln w="0">
                  <a:noFill/>
                </a:ln>
              </p:spPr>
            </p:pic>
          </p:grpSp>
        </p:grpSp>
        <p:sp>
          <p:nvSpPr>
            <p:cNvPr id="140" name="Freeform 46"/>
            <p:cNvSpPr/>
            <p:nvPr/>
          </p:nvSpPr>
          <p:spPr>
            <a:xfrm>
              <a:off x="7953480" y="4914720"/>
              <a:ext cx="1190520" cy="193356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Freeform 47"/>
            <p:cNvSpPr/>
            <p:nvPr/>
          </p:nvSpPr>
          <p:spPr>
            <a:xfrm>
              <a:off x="7939080" y="4864320"/>
              <a:ext cx="1219320" cy="199368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824f99"/>
                </a:gs>
                <a:gs pos="50000">
                  <a:srgbClr val="cc66ff"/>
                </a:gs>
                <a:gs pos="100000">
                  <a:srgbClr val="824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Freeform 48"/>
            <p:cNvSpPr/>
            <p:nvPr/>
          </p:nvSpPr>
          <p:spPr>
            <a:xfrm>
              <a:off x="7927920" y="2830680"/>
              <a:ext cx="1231920" cy="402372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7254b"/>
                </a:gs>
                <a:gs pos="50000">
                  <a:srgbClr val="bd51a1"/>
                </a:gs>
                <a:gs pos="100000">
                  <a:srgbClr val="57254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Freeform 49"/>
            <p:cNvSpPr/>
            <p:nvPr/>
          </p:nvSpPr>
          <p:spPr>
            <a:xfrm>
              <a:off x="8010360" y="3548880"/>
              <a:ext cx="979560" cy="21772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Freeform 50"/>
            <p:cNvSpPr/>
            <p:nvPr/>
          </p:nvSpPr>
          <p:spPr>
            <a:xfrm>
              <a:off x="8244000" y="447480"/>
              <a:ext cx="914400" cy="503172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Freeform 51"/>
            <p:cNvSpPr/>
            <p:nvPr/>
          </p:nvSpPr>
          <p:spPr>
            <a:xfrm>
              <a:off x="8250120" y="283320"/>
              <a:ext cx="909720" cy="306144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003399"/>
                </a:gs>
                <a:gs pos="100000">
                  <a:srgbClr val="824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Freeform 52"/>
            <p:cNvSpPr/>
            <p:nvPr/>
          </p:nvSpPr>
          <p:spPr>
            <a:xfrm>
              <a:off x="7943760" y="21960"/>
              <a:ext cx="576360" cy="33415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Freeform 53"/>
            <p:cNvSpPr/>
            <p:nvPr/>
          </p:nvSpPr>
          <p:spPr>
            <a:xfrm>
              <a:off x="7943760" y="23400"/>
              <a:ext cx="300240" cy="33418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824f99"/>
                </a:gs>
                <a:gs pos="50000">
                  <a:srgbClr val="cc66ff"/>
                </a:gs>
                <a:gs pos="100000">
                  <a:srgbClr val="824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Rectangle 54"/>
            <p:cNvSpPr/>
            <p:nvPr/>
          </p:nvSpPr>
          <p:spPr>
            <a:xfrm>
              <a:off x="7866000" y="23400"/>
              <a:ext cx="88920" cy="683568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55"/>
            <p:cNvSpPr/>
            <p:nvPr/>
          </p:nvSpPr>
          <p:spPr>
            <a:xfrm>
              <a:off x="7958160" y="6231240"/>
              <a:ext cx="1165320" cy="61704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003399"/>
                </a:gs>
                <a:gs pos="50000">
                  <a:srgbClr val="824f99"/>
                </a:gs>
                <a:gs pos="100000">
                  <a:srgbClr val="0033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AutoShape 56"/>
            <p:cNvSpPr/>
            <p:nvPr/>
          </p:nvSpPr>
          <p:spPr>
            <a:xfrm rot="5400000">
              <a:off x="4335120" y="3327120"/>
              <a:ext cx="6835680" cy="225360"/>
            </a:xfrm>
            <a:custGeom>
              <a:avLst/>
              <a:gdLst>
                <a:gd name="textAreaLeft" fmla="*/ 666000 w 6835680"/>
                <a:gd name="textAreaRight" fmla="*/ 6169680 w 683568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3399"/>
                </a:gs>
                <a:gs pos="100000">
                  <a:srgbClr val="00002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Click to edit the title text format</a:t>
            </a:r>
            <a:endParaRPr b="0" lang="en-US" sz="4000" spc="-1" strike="noStrike">
              <a:solidFill>
                <a:srgbClr val="f4bc40"/>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D6F4-ADD1-4D99-B1DD-44C190713D43}" type="datetime">
              <a:rPr b="0" lang="fa-IR" sz="1000" spc="-1" strike="noStrike">
                <a:solidFill>
                  <a:srgbClr val="ffffff"/>
                </a:solidFill>
                <a:latin typeface="Times New Roman"/>
              </a:rPr>
              <a:t>۲۰۲۶/۰۷/۳۱</a:t>
            </a:fld>
            <a:endParaRPr b="0" lang="en-US" sz="1000" spc="-1" strike="noStrike">
              <a:solidFill>
                <a:srgbClr val="ffffff"/>
              </a:solidFill>
              <a:latin typeface="Times New Roman"/>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176E-38D5-4275-8577-214E2F4036BE}" type="slidenum">
              <a:rPr b="0" lang="fa-I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mojavez.ir/" TargetMode="External"/><Relationship Id="rId2" Type="http://schemas.openxmlformats.org/officeDocument/2006/relationships/hyperlink" Target="https://karyabi-mojavvez.mcls.gov.ir/"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hyperlink" Target="https://karyabi.mcls.gov.ir/" TargetMode="External"/><Relationship Id="rId4" Type="http://schemas.openxmlformats.org/officeDocument/2006/relationships/hyperlink" Target="https://karyabi.mcls.gov.ir/"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 descr="Eslimi"/>
          <p:cNvPicPr/>
          <p:nvPr/>
        </p:nvPicPr>
        <p:blipFill>
          <a:blip r:embed="rId1"/>
          <a:stretch/>
        </p:blipFill>
        <p:spPr>
          <a:xfrm>
            <a:off x="285840" y="189000"/>
            <a:ext cx="6929280" cy="6433920"/>
          </a:xfrm>
          <a:prstGeom prst="rect">
            <a:avLst/>
          </a:prstGeom>
          <a:ln w="0">
            <a:noFill/>
          </a:ln>
        </p:spPr>
      </p:pic>
      <p:sp>
        <p:nvSpPr>
          <p:cNvPr id="200" name="Freeform 4"/>
          <p:cNvSpPr/>
          <p:nvPr/>
        </p:nvSpPr>
        <p:spPr>
          <a:xfrm>
            <a:off x="3071880" y="2357280"/>
            <a:ext cx="1641240" cy="2289240"/>
          </a:xfrm>
          <a:custGeom>
            <a:avLst/>
            <a:gdLst>
              <a:gd name="textAreaLeft" fmla="*/ 0 w 1641240"/>
              <a:gd name="textAreaRight" fmla="*/ 1641600 w 1641240"/>
              <a:gd name="textAreaTop" fmla="*/ 0 h 2289240"/>
              <a:gd name="textAreaBottom" fmla="*/ 2289600 h 2289240"/>
            </a:gdLst>
            <a:ahLst/>
            <a:rect l="textAreaLeft" t="textAreaTop" r="textAreaRight" b="textAreaBottom"/>
            <a:pathLst>
              <a:path w="2844" h="1902">
                <a:moveTo>
                  <a:pt x="1144" y="779"/>
                </a:moveTo>
                <a:lnTo>
                  <a:pt x="1138" y="775"/>
                </a:lnTo>
                <a:lnTo>
                  <a:pt x="1132" y="771"/>
                </a:lnTo>
                <a:lnTo>
                  <a:pt x="1128" y="766"/>
                </a:lnTo>
                <a:lnTo>
                  <a:pt x="1122" y="762"/>
                </a:lnTo>
                <a:lnTo>
                  <a:pt x="1118" y="759"/>
                </a:lnTo>
                <a:lnTo>
                  <a:pt x="1113" y="755"/>
                </a:lnTo>
                <a:lnTo>
                  <a:pt x="1109" y="750"/>
                </a:lnTo>
                <a:lnTo>
                  <a:pt x="1104" y="746"/>
                </a:lnTo>
                <a:lnTo>
                  <a:pt x="1102" y="742"/>
                </a:lnTo>
                <a:lnTo>
                  <a:pt x="1099" y="736"/>
                </a:lnTo>
                <a:lnTo>
                  <a:pt x="1096" y="731"/>
                </a:lnTo>
                <a:lnTo>
                  <a:pt x="1093" y="727"/>
                </a:lnTo>
                <a:lnTo>
                  <a:pt x="1091" y="723"/>
                </a:lnTo>
                <a:lnTo>
                  <a:pt x="1091" y="717"/>
                </a:lnTo>
                <a:lnTo>
                  <a:pt x="1090" y="713"/>
                </a:lnTo>
                <a:lnTo>
                  <a:pt x="1091" y="707"/>
                </a:lnTo>
                <a:lnTo>
                  <a:pt x="1091" y="694"/>
                </a:lnTo>
                <a:lnTo>
                  <a:pt x="1093" y="681"/>
                </a:lnTo>
                <a:lnTo>
                  <a:pt x="1096" y="669"/>
                </a:lnTo>
                <a:lnTo>
                  <a:pt x="1097" y="657"/>
                </a:lnTo>
                <a:lnTo>
                  <a:pt x="1100" y="647"/>
                </a:lnTo>
                <a:lnTo>
                  <a:pt x="1104" y="638"/>
                </a:lnTo>
                <a:lnTo>
                  <a:pt x="1107" y="628"/>
                </a:lnTo>
                <a:lnTo>
                  <a:pt x="1112" y="619"/>
                </a:lnTo>
                <a:lnTo>
                  <a:pt x="1116" y="611"/>
                </a:lnTo>
                <a:lnTo>
                  <a:pt x="1122" y="601"/>
                </a:lnTo>
                <a:lnTo>
                  <a:pt x="1128" y="592"/>
                </a:lnTo>
                <a:lnTo>
                  <a:pt x="1134" y="582"/>
                </a:lnTo>
                <a:lnTo>
                  <a:pt x="1141" y="571"/>
                </a:lnTo>
                <a:lnTo>
                  <a:pt x="1148" y="560"/>
                </a:lnTo>
                <a:lnTo>
                  <a:pt x="1157" y="547"/>
                </a:lnTo>
                <a:lnTo>
                  <a:pt x="1166" y="534"/>
                </a:lnTo>
                <a:lnTo>
                  <a:pt x="1163" y="519"/>
                </a:lnTo>
                <a:lnTo>
                  <a:pt x="1160" y="505"/>
                </a:lnTo>
                <a:lnTo>
                  <a:pt x="1157" y="489"/>
                </a:lnTo>
                <a:lnTo>
                  <a:pt x="1154" y="474"/>
                </a:lnTo>
                <a:lnTo>
                  <a:pt x="1151" y="460"/>
                </a:lnTo>
                <a:lnTo>
                  <a:pt x="1148" y="444"/>
                </a:lnTo>
                <a:lnTo>
                  <a:pt x="1145" y="429"/>
                </a:lnTo>
                <a:lnTo>
                  <a:pt x="1141" y="413"/>
                </a:lnTo>
                <a:lnTo>
                  <a:pt x="1138" y="398"/>
                </a:lnTo>
                <a:lnTo>
                  <a:pt x="1134" y="382"/>
                </a:lnTo>
                <a:lnTo>
                  <a:pt x="1131" y="365"/>
                </a:lnTo>
                <a:lnTo>
                  <a:pt x="1126" y="349"/>
                </a:lnTo>
                <a:lnTo>
                  <a:pt x="1123" y="332"/>
                </a:lnTo>
                <a:lnTo>
                  <a:pt x="1119" y="314"/>
                </a:lnTo>
                <a:lnTo>
                  <a:pt x="1115" y="297"/>
                </a:lnTo>
                <a:lnTo>
                  <a:pt x="1110" y="279"/>
                </a:lnTo>
                <a:lnTo>
                  <a:pt x="1122" y="238"/>
                </a:lnTo>
                <a:lnTo>
                  <a:pt x="1148" y="281"/>
                </a:lnTo>
                <a:lnTo>
                  <a:pt x="1152" y="305"/>
                </a:lnTo>
                <a:lnTo>
                  <a:pt x="1157" y="327"/>
                </a:lnTo>
                <a:lnTo>
                  <a:pt x="1160" y="349"/>
                </a:lnTo>
                <a:lnTo>
                  <a:pt x="1164" y="371"/>
                </a:lnTo>
                <a:lnTo>
                  <a:pt x="1167" y="393"/>
                </a:lnTo>
                <a:lnTo>
                  <a:pt x="1171" y="413"/>
                </a:lnTo>
                <a:lnTo>
                  <a:pt x="1174" y="432"/>
                </a:lnTo>
                <a:lnTo>
                  <a:pt x="1179" y="452"/>
                </a:lnTo>
                <a:lnTo>
                  <a:pt x="1181" y="471"/>
                </a:lnTo>
                <a:lnTo>
                  <a:pt x="1184" y="490"/>
                </a:lnTo>
                <a:lnTo>
                  <a:pt x="1187" y="509"/>
                </a:lnTo>
                <a:lnTo>
                  <a:pt x="1192" y="528"/>
                </a:lnTo>
                <a:lnTo>
                  <a:pt x="1195" y="545"/>
                </a:lnTo>
                <a:lnTo>
                  <a:pt x="1197" y="564"/>
                </a:lnTo>
                <a:lnTo>
                  <a:pt x="1200" y="583"/>
                </a:lnTo>
                <a:lnTo>
                  <a:pt x="1203" y="601"/>
                </a:lnTo>
                <a:lnTo>
                  <a:pt x="1206" y="590"/>
                </a:lnTo>
                <a:lnTo>
                  <a:pt x="1208" y="582"/>
                </a:lnTo>
                <a:lnTo>
                  <a:pt x="1211" y="573"/>
                </a:lnTo>
                <a:lnTo>
                  <a:pt x="1213" y="564"/>
                </a:lnTo>
                <a:lnTo>
                  <a:pt x="1218" y="555"/>
                </a:lnTo>
                <a:lnTo>
                  <a:pt x="1221" y="547"/>
                </a:lnTo>
                <a:lnTo>
                  <a:pt x="1225" y="538"/>
                </a:lnTo>
                <a:lnTo>
                  <a:pt x="1229" y="531"/>
                </a:lnTo>
                <a:lnTo>
                  <a:pt x="1235" y="522"/>
                </a:lnTo>
                <a:lnTo>
                  <a:pt x="1241" y="513"/>
                </a:lnTo>
                <a:lnTo>
                  <a:pt x="1247" y="503"/>
                </a:lnTo>
                <a:lnTo>
                  <a:pt x="1253" y="494"/>
                </a:lnTo>
                <a:lnTo>
                  <a:pt x="1260" y="483"/>
                </a:lnTo>
                <a:lnTo>
                  <a:pt x="1267" y="473"/>
                </a:lnTo>
                <a:lnTo>
                  <a:pt x="1274" y="460"/>
                </a:lnTo>
                <a:lnTo>
                  <a:pt x="1283" y="448"/>
                </a:lnTo>
                <a:lnTo>
                  <a:pt x="1280" y="425"/>
                </a:lnTo>
                <a:lnTo>
                  <a:pt x="1276" y="403"/>
                </a:lnTo>
                <a:lnTo>
                  <a:pt x="1273" y="381"/>
                </a:lnTo>
                <a:lnTo>
                  <a:pt x="1270" y="359"/>
                </a:lnTo>
                <a:lnTo>
                  <a:pt x="1267" y="339"/>
                </a:lnTo>
                <a:lnTo>
                  <a:pt x="1264" y="318"/>
                </a:lnTo>
                <a:lnTo>
                  <a:pt x="1260" y="298"/>
                </a:lnTo>
                <a:lnTo>
                  <a:pt x="1257" y="279"/>
                </a:lnTo>
                <a:lnTo>
                  <a:pt x="1254" y="260"/>
                </a:lnTo>
                <a:lnTo>
                  <a:pt x="1251" y="241"/>
                </a:lnTo>
                <a:lnTo>
                  <a:pt x="1248" y="224"/>
                </a:lnTo>
                <a:lnTo>
                  <a:pt x="1245" y="206"/>
                </a:lnTo>
                <a:lnTo>
                  <a:pt x="1243" y="190"/>
                </a:lnTo>
                <a:lnTo>
                  <a:pt x="1240" y="176"/>
                </a:lnTo>
                <a:lnTo>
                  <a:pt x="1237" y="160"/>
                </a:lnTo>
                <a:lnTo>
                  <a:pt x="1235" y="147"/>
                </a:lnTo>
                <a:lnTo>
                  <a:pt x="1235" y="145"/>
                </a:lnTo>
                <a:lnTo>
                  <a:pt x="1235" y="143"/>
                </a:lnTo>
                <a:lnTo>
                  <a:pt x="1235" y="141"/>
                </a:lnTo>
                <a:lnTo>
                  <a:pt x="1235" y="138"/>
                </a:lnTo>
                <a:lnTo>
                  <a:pt x="1235" y="134"/>
                </a:lnTo>
                <a:lnTo>
                  <a:pt x="1235" y="131"/>
                </a:lnTo>
                <a:lnTo>
                  <a:pt x="1235" y="127"/>
                </a:lnTo>
                <a:lnTo>
                  <a:pt x="1237" y="122"/>
                </a:lnTo>
                <a:lnTo>
                  <a:pt x="1237" y="118"/>
                </a:lnTo>
                <a:lnTo>
                  <a:pt x="1237" y="115"/>
                </a:lnTo>
                <a:lnTo>
                  <a:pt x="1238" y="111"/>
                </a:lnTo>
                <a:lnTo>
                  <a:pt x="1238" y="106"/>
                </a:lnTo>
                <a:lnTo>
                  <a:pt x="1240" y="102"/>
                </a:lnTo>
                <a:lnTo>
                  <a:pt x="1241" y="99"/>
                </a:lnTo>
                <a:lnTo>
                  <a:pt x="1243" y="96"/>
                </a:lnTo>
                <a:lnTo>
                  <a:pt x="1244" y="97"/>
                </a:lnTo>
                <a:lnTo>
                  <a:pt x="1245" y="99"/>
                </a:lnTo>
                <a:lnTo>
                  <a:pt x="1247" y="99"/>
                </a:lnTo>
                <a:lnTo>
                  <a:pt x="1248" y="100"/>
                </a:lnTo>
                <a:lnTo>
                  <a:pt x="1250" y="100"/>
                </a:lnTo>
                <a:lnTo>
                  <a:pt x="1250" y="102"/>
                </a:lnTo>
                <a:lnTo>
                  <a:pt x="1251" y="102"/>
                </a:lnTo>
                <a:lnTo>
                  <a:pt x="1251" y="103"/>
                </a:lnTo>
                <a:lnTo>
                  <a:pt x="1253" y="103"/>
                </a:lnTo>
                <a:lnTo>
                  <a:pt x="1253" y="105"/>
                </a:lnTo>
                <a:lnTo>
                  <a:pt x="1253" y="106"/>
                </a:lnTo>
                <a:lnTo>
                  <a:pt x="1254" y="106"/>
                </a:lnTo>
                <a:lnTo>
                  <a:pt x="1254" y="108"/>
                </a:lnTo>
                <a:lnTo>
                  <a:pt x="1257" y="121"/>
                </a:lnTo>
                <a:lnTo>
                  <a:pt x="1261" y="135"/>
                </a:lnTo>
                <a:lnTo>
                  <a:pt x="1266" y="154"/>
                </a:lnTo>
                <a:lnTo>
                  <a:pt x="1270" y="174"/>
                </a:lnTo>
                <a:lnTo>
                  <a:pt x="1274" y="198"/>
                </a:lnTo>
                <a:lnTo>
                  <a:pt x="1279" y="222"/>
                </a:lnTo>
                <a:lnTo>
                  <a:pt x="1285" y="250"/>
                </a:lnTo>
                <a:lnTo>
                  <a:pt x="1289" y="279"/>
                </a:lnTo>
                <a:lnTo>
                  <a:pt x="1295" y="310"/>
                </a:lnTo>
                <a:lnTo>
                  <a:pt x="1301" y="342"/>
                </a:lnTo>
                <a:lnTo>
                  <a:pt x="1305" y="374"/>
                </a:lnTo>
                <a:lnTo>
                  <a:pt x="1311" y="407"/>
                </a:lnTo>
                <a:lnTo>
                  <a:pt x="1317" y="442"/>
                </a:lnTo>
                <a:lnTo>
                  <a:pt x="1322" y="476"/>
                </a:lnTo>
                <a:lnTo>
                  <a:pt x="1328" y="510"/>
                </a:lnTo>
                <a:lnTo>
                  <a:pt x="1334" y="545"/>
                </a:lnTo>
                <a:lnTo>
                  <a:pt x="1334" y="534"/>
                </a:lnTo>
                <a:lnTo>
                  <a:pt x="1336" y="522"/>
                </a:lnTo>
                <a:lnTo>
                  <a:pt x="1338" y="512"/>
                </a:lnTo>
                <a:lnTo>
                  <a:pt x="1341" y="502"/>
                </a:lnTo>
                <a:lnTo>
                  <a:pt x="1344" y="491"/>
                </a:lnTo>
                <a:lnTo>
                  <a:pt x="1347" y="483"/>
                </a:lnTo>
                <a:lnTo>
                  <a:pt x="1352" y="474"/>
                </a:lnTo>
                <a:lnTo>
                  <a:pt x="1356" y="465"/>
                </a:lnTo>
                <a:lnTo>
                  <a:pt x="1362" y="455"/>
                </a:lnTo>
                <a:lnTo>
                  <a:pt x="1366" y="446"/>
                </a:lnTo>
                <a:lnTo>
                  <a:pt x="1373" y="436"/>
                </a:lnTo>
                <a:lnTo>
                  <a:pt x="1379" y="426"/>
                </a:lnTo>
                <a:lnTo>
                  <a:pt x="1386" y="414"/>
                </a:lnTo>
                <a:lnTo>
                  <a:pt x="1395" y="403"/>
                </a:lnTo>
                <a:lnTo>
                  <a:pt x="1404" y="390"/>
                </a:lnTo>
                <a:lnTo>
                  <a:pt x="1413" y="375"/>
                </a:lnTo>
                <a:lnTo>
                  <a:pt x="1410" y="352"/>
                </a:lnTo>
                <a:lnTo>
                  <a:pt x="1405" y="329"/>
                </a:lnTo>
                <a:lnTo>
                  <a:pt x="1402" y="305"/>
                </a:lnTo>
                <a:lnTo>
                  <a:pt x="1398" y="284"/>
                </a:lnTo>
                <a:lnTo>
                  <a:pt x="1394" y="262"/>
                </a:lnTo>
                <a:lnTo>
                  <a:pt x="1391" y="240"/>
                </a:lnTo>
                <a:lnTo>
                  <a:pt x="1386" y="220"/>
                </a:lnTo>
                <a:lnTo>
                  <a:pt x="1383" y="198"/>
                </a:lnTo>
                <a:lnTo>
                  <a:pt x="1379" y="177"/>
                </a:lnTo>
                <a:lnTo>
                  <a:pt x="1376" y="159"/>
                </a:lnTo>
                <a:lnTo>
                  <a:pt x="1373" y="138"/>
                </a:lnTo>
                <a:lnTo>
                  <a:pt x="1369" y="121"/>
                </a:lnTo>
                <a:lnTo>
                  <a:pt x="1366" y="102"/>
                </a:lnTo>
                <a:lnTo>
                  <a:pt x="1363" y="84"/>
                </a:lnTo>
                <a:lnTo>
                  <a:pt x="1360" y="67"/>
                </a:lnTo>
                <a:lnTo>
                  <a:pt x="1357" y="51"/>
                </a:lnTo>
                <a:lnTo>
                  <a:pt x="1357" y="49"/>
                </a:lnTo>
                <a:lnTo>
                  <a:pt x="1357" y="47"/>
                </a:lnTo>
                <a:lnTo>
                  <a:pt x="1357" y="45"/>
                </a:lnTo>
                <a:lnTo>
                  <a:pt x="1357" y="42"/>
                </a:lnTo>
                <a:lnTo>
                  <a:pt x="1357" y="38"/>
                </a:lnTo>
                <a:lnTo>
                  <a:pt x="1359" y="35"/>
                </a:lnTo>
                <a:lnTo>
                  <a:pt x="1359" y="31"/>
                </a:lnTo>
                <a:lnTo>
                  <a:pt x="1359" y="26"/>
                </a:lnTo>
                <a:lnTo>
                  <a:pt x="1359" y="22"/>
                </a:lnTo>
                <a:lnTo>
                  <a:pt x="1360" y="17"/>
                </a:lnTo>
                <a:lnTo>
                  <a:pt x="1360" y="15"/>
                </a:lnTo>
                <a:lnTo>
                  <a:pt x="1362" y="10"/>
                </a:lnTo>
                <a:lnTo>
                  <a:pt x="1362" y="6"/>
                </a:lnTo>
                <a:lnTo>
                  <a:pt x="1363" y="3"/>
                </a:lnTo>
                <a:lnTo>
                  <a:pt x="1365" y="0"/>
                </a:lnTo>
                <a:lnTo>
                  <a:pt x="1366" y="1"/>
                </a:lnTo>
                <a:lnTo>
                  <a:pt x="1368" y="1"/>
                </a:lnTo>
                <a:lnTo>
                  <a:pt x="1369" y="1"/>
                </a:lnTo>
                <a:lnTo>
                  <a:pt x="1369" y="3"/>
                </a:lnTo>
                <a:lnTo>
                  <a:pt x="1370" y="3"/>
                </a:lnTo>
                <a:lnTo>
                  <a:pt x="1370" y="4"/>
                </a:lnTo>
                <a:lnTo>
                  <a:pt x="1372" y="4"/>
                </a:lnTo>
                <a:lnTo>
                  <a:pt x="1373" y="6"/>
                </a:lnTo>
                <a:lnTo>
                  <a:pt x="1375" y="7"/>
                </a:lnTo>
                <a:lnTo>
                  <a:pt x="1375" y="9"/>
                </a:lnTo>
                <a:lnTo>
                  <a:pt x="1376" y="10"/>
                </a:lnTo>
                <a:lnTo>
                  <a:pt x="1378" y="12"/>
                </a:lnTo>
                <a:lnTo>
                  <a:pt x="1382" y="29"/>
                </a:lnTo>
                <a:lnTo>
                  <a:pt x="1386" y="52"/>
                </a:lnTo>
                <a:lnTo>
                  <a:pt x="1392" y="79"/>
                </a:lnTo>
                <a:lnTo>
                  <a:pt x="1399" y="111"/>
                </a:lnTo>
                <a:lnTo>
                  <a:pt x="1405" y="145"/>
                </a:lnTo>
                <a:lnTo>
                  <a:pt x="1413" y="183"/>
                </a:lnTo>
                <a:lnTo>
                  <a:pt x="1420" y="224"/>
                </a:lnTo>
                <a:lnTo>
                  <a:pt x="1427" y="266"/>
                </a:lnTo>
                <a:lnTo>
                  <a:pt x="1434" y="311"/>
                </a:lnTo>
                <a:lnTo>
                  <a:pt x="1442" y="356"/>
                </a:lnTo>
                <a:lnTo>
                  <a:pt x="1449" y="403"/>
                </a:lnTo>
                <a:lnTo>
                  <a:pt x="1455" y="448"/>
                </a:lnTo>
                <a:lnTo>
                  <a:pt x="1462" y="493"/>
                </a:lnTo>
                <a:lnTo>
                  <a:pt x="1468" y="537"/>
                </a:lnTo>
                <a:lnTo>
                  <a:pt x="1475" y="580"/>
                </a:lnTo>
                <a:lnTo>
                  <a:pt x="1481" y="621"/>
                </a:lnTo>
                <a:lnTo>
                  <a:pt x="1506" y="637"/>
                </a:lnTo>
                <a:lnTo>
                  <a:pt x="1532" y="654"/>
                </a:lnTo>
                <a:lnTo>
                  <a:pt x="1559" y="673"/>
                </a:lnTo>
                <a:lnTo>
                  <a:pt x="1588" y="694"/>
                </a:lnTo>
                <a:lnTo>
                  <a:pt x="1617" y="714"/>
                </a:lnTo>
                <a:lnTo>
                  <a:pt x="1648" y="734"/>
                </a:lnTo>
                <a:lnTo>
                  <a:pt x="1677" y="756"/>
                </a:lnTo>
                <a:lnTo>
                  <a:pt x="1705" y="779"/>
                </a:lnTo>
                <a:lnTo>
                  <a:pt x="1732" y="803"/>
                </a:lnTo>
                <a:lnTo>
                  <a:pt x="1758" y="827"/>
                </a:lnTo>
                <a:lnTo>
                  <a:pt x="1785" y="852"/>
                </a:lnTo>
                <a:lnTo>
                  <a:pt x="1806" y="878"/>
                </a:lnTo>
                <a:lnTo>
                  <a:pt x="1827" y="904"/>
                </a:lnTo>
                <a:lnTo>
                  <a:pt x="1846" y="931"/>
                </a:lnTo>
                <a:lnTo>
                  <a:pt x="1860" y="958"/>
                </a:lnTo>
                <a:lnTo>
                  <a:pt x="1872" y="986"/>
                </a:lnTo>
                <a:lnTo>
                  <a:pt x="1878" y="1002"/>
                </a:lnTo>
                <a:lnTo>
                  <a:pt x="1880" y="1019"/>
                </a:lnTo>
                <a:lnTo>
                  <a:pt x="1883" y="1037"/>
                </a:lnTo>
                <a:lnTo>
                  <a:pt x="1885" y="1054"/>
                </a:lnTo>
                <a:lnTo>
                  <a:pt x="1886" y="1072"/>
                </a:lnTo>
                <a:lnTo>
                  <a:pt x="1885" y="1089"/>
                </a:lnTo>
                <a:lnTo>
                  <a:pt x="1883" y="1107"/>
                </a:lnTo>
                <a:lnTo>
                  <a:pt x="1880" y="1124"/>
                </a:lnTo>
                <a:lnTo>
                  <a:pt x="1878" y="1141"/>
                </a:lnTo>
                <a:lnTo>
                  <a:pt x="1873" y="1157"/>
                </a:lnTo>
                <a:lnTo>
                  <a:pt x="1869" y="1175"/>
                </a:lnTo>
                <a:lnTo>
                  <a:pt x="1862" y="1191"/>
                </a:lnTo>
                <a:lnTo>
                  <a:pt x="1856" y="1207"/>
                </a:lnTo>
                <a:lnTo>
                  <a:pt x="1849" y="1223"/>
                </a:lnTo>
                <a:lnTo>
                  <a:pt x="1840" y="1237"/>
                </a:lnTo>
                <a:lnTo>
                  <a:pt x="1831" y="1252"/>
                </a:lnTo>
                <a:lnTo>
                  <a:pt x="1840" y="1261"/>
                </a:lnTo>
                <a:lnTo>
                  <a:pt x="1847" y="1268"/>
                </a:lnTo>
                <a:lnTo>
                  <a:pt x="1856" y="1277"/>
                </a:lnTo>
                <a:lnTo>
                  <a:pt x="1863" y="1284"/>
                </a:lnTo>
                <a:lnTo>
                  <a:pt x="1872" y="1293"/>
                </a:lnTo>
                <a:lnTo>
                  <a:pt x="1880" y="1300"/>
                </a:lnTo>
                <a:lnTo>
                  <a:pt x="1888" y="1307"/>
                </a:lnTo>
                <a:lnTo>
                  <a:pt x="1896" y="1316"/>
                </a:lnTo>
                <a:lnTo>
                  <a:pt x="1904" y="1323"/>
                </a:lnTo>
                <a:lnTo>
                  <a:pt x="1912" y="1331"/>
                </a:lnTo>
                <a:lnTo>
                  <a:pt x="1921" y="1338"/>
                </a:lnTo>
                <a:lnTo>
                  <a:pt x="1928" y="1345"/>
                </a:lnTo>
                <a:lnTo>
                  <a:pt x="1937" y="1352"/>
                </a:lnTo>
                <a:lnTo>
                  <a:pt x="1944" y="1360"/>
                </a:lnTo>
                <a:lnTo>
                  <a:pt x="1953" y="1365"/>
                </a:lnTo>
                <a:lnTo>
                  <a:pt x="1960" y="1373"/>
                </a:lnTo>
                <a:lnTo>
                  <a:pt x="1969" y="1380"/>
                </a:lnTo>
                <a:lnTo>
                  <a:pt x="1976" y="1386"/>
                </a:lnTo>
                <a:lnTo>
                  <a:pt x="1985" y="1392"/>
                </a:lnTo>
                <a:lnTo>
                  <a:pt x="1992" y="1397"/>
                </a:lnTo>
                <a:lnTo>
                  <a:pt x="2000" y="1402"/>
                </a:lnTo>
                <a:lnTo>
                  <a:pt x="2005" y="1408"/>
                </a:lnTo>
                <a:lnTo>
                  <a:pt x="2013" y="1412"/>
                </a:lnTo>
                <a:lnTo>
                  <a:pt x="2021" y="1415"/>
                </a:lnTo>
                <a:lnTo>
                  <a:pt x="2029" y="1419"/>
                </a:lnTo>
                <a:lnTo>
                  <a:pt x="2036" y="1422"/>
                </a:lnTo>
                <a:lnTo>
                  <a:pt x="2045" y="1425"/>
                </a:lnTo>
                <a:lnTo>
                  <a:pt x="2055" y="1428"/>
                </a:lnTo>
                <a:lnTo>
                  <a:pt x="2065" y="1429"/>
                </a:lnTo>
                <a:lnTo>
                  <a:pt x="2075" y="1431"/>
                </a:lnTo>
                <a:lnTo>
                  <a:pt x="2087" y="1432"/>
                </a:lnTo>
                <a:lnTo>
                  <a:pt x="2100" y="1432"/>
                </a:lnTo>
                <a:lnTo>
                  <a:pt x="2146" y="1435"/>
                </a:lnTo>
                <a:lnTo>
                  <a:pt x="2191" y="1437"/>
                </a:lnTo>
                <a:lnTo>
                  <a:pt x="2234" y="1438"/>
                </a:lnTo>
                <a:lnTo>
                  <a:pt x="2276" y="1440"/>
                </a:lnTo>
                <a:lnTo>
                  <a:pt x="2315" y="1440"/>
                </a:lnTo>
                <a:lnTo>
                  <a:pt x="2354" y="1442"/>
                </a:lnTo>
                <a:lnTo>
                  <a:pt x="2392" y="1444"/>
                </a:lnTo>
                <a:lnTo>
                  <a:pt x="2428" y="1445"/>
                </a:lnTo>
                <a:lnTo>
                  <a:pt x="2465" y="1448"/>
                </a:lnTo>
                <a:lnTo>
                  <a:pt x="2501" y="1451"/>
                </a:lnTo>
                <a:lnTo>
                  <a:pt x="2537" y="1456"/>
                </a:lnTo>
                <a:lnTo>
                  <a:pt x="2574" y="1460"/>
                </a:lnTo>
                <a:lnTo>
                  <a:pt x="2611" y="1464"/>
                </a:lnTo>
                <a:lnTo>
                  <a:pt x="2649" y="1470"/>
                </a:lnTo>
                <a:lnTo>
                  <a:pt x="2687" y="1477"/>
                </a:lnTo>
                <a:lnTo>
                  <a:pt x="2728" y="1486"/>
                </a:lnTo>
                <a:lnTo>
                  <a:pt x="2734" y="1488"/>
                </a:lnTo>
                <a:lnTo>
                  <a:pt x="2739" y="1488"/>
                </a:lnTo>
                <a:lnTo>
                  <a:pt x="2747" y="1489"/>
                </a:lnTo>
                <a:lnTo>
                  <a:pt x="2752" y="1489"/>
                </a:lnTo>
                <a:lnTo>
                  <a:pt x="2760" y="1490"/>
                </a:lnTo>
                <a:lnTo>
                  <a:pt x="2767" y="1490"/>
                </a:lnTo>
                <a:lnTo>
                  <a:pt x="2774" y="1492"/>
                </a:lnTo>
                <a:lnTo>
                  <a:pt x="2782" y="1492"/>
                </a:lnTo>
                <a:lnTo>
                  <a:pt x="2787" y="1492"/>
                </a:lnTo>
                <a:lnTo>
                  <a:pt x="2795" y="1492"/>
                </a:lnTo>
                <a:lnTo>
                  <a:pt x="2802" y="1492"/>
                </a:lnTo>
                <a:lnTo>
                  <a:pt x="2809" y="1493"/>
                </a:lnTo>
                <a:lnTo>
                  <a:pt x="2816" y="1493"/>
                </a:lnTo>
                <a:lnTo>
                  <a:pt x="2822" y="1493"/>
                </a:lnTo>
                <a:lnTo>
                  <a:pt x="2829" y="1495"/>
                </a:lnTo>
                <a:lnTo>
                  <a:pt x="2835" y="1496"/>
                </a:lnTo>
                <a:lnTo>
                  <a:pt x="2838" y="1496"/>
                </a:lnTo>
                <a:lnTo>
                  <a:pt x="2841" y="1498"/>
                </a:lnTo>
                <a:lnTo>
                  <a:pt x="2843" y="1499"/>
                </a:lnTo>
                <a:lnTo>
                  <a:pt x="2843" y="1501"/>
                </a:lnTo>
                <a:lnTo>
                  <a:pt x="2844" y="1502"/>
                </a:lnTo>
                <a:lnTo>
                  <a:pt x="2844" y="1504"/>
                </a:lnTo>
                <a:lnTo>
                  <a:pt x="2844" y="1505"/>
                </a:lnTo>
                <a:lnTo>
                  <a:pt x="2844" y="1506"/>
                </a:lnTo>
                <a:lnTo>
                  <a:pt x="2843" y="1508"/>
                </a:lnTo>
                <a:lnTo>
                  <a:pt x="2841" y="1509"/>
                </a:lnTo>
                <a:lnTo>
                  <a:pt x="2840" y="1511"/>
                </a:lnTo>
                <a:lnTo>
                  <a:pt x="2837" y="1512"/>
                </a:lnTo>
                <a:lnTo>
                  <a:pt x="2834" y="1514"/>
                </a:lnTo>
                <a:lnTo>
                  <a:pt x="2831" y="1515"/>
                </a:lnTo>
                <a:lnTo>
                  <a:pt x="2828" y="1517"/>
                </a:lnTo>
                <a:lnTo>
                  <a:pt x="2824" y="1517"/>
                </a:lnTo>
                <a:lnTo>
                  <a:pt x="2813" y="1517"/>
                </a:lnTo>
                <a:lnTo>
                  <a:pt x="2803" y="1517"/>
                </a:lnTo>
                <a:lnTo>
                  <a:pt x="2793" y="1515"/>
                </a:lnTo>
                <a:lnTo>
                  <a:pt x="2783" y="1515"/>
                </a:lnTo>
                <a:lnTo>
                  <a:pt x="2773" y="1515"/>
                </a:lnTo>
                <a:lnTo>
                  <a:pt x="2763" y="1514"/>
                </a:lnTo>
                <a:lnTo>
                  <a:pt x="2752" y="1514"/>
                </a:lnTo>
                <a:lnTo>
                  <a:pt x="2742" y="1512"/>
                </a:lnTo>
                <a:lnTo>
                  <a:pt x="2734" y="1512"/>
                </a:lnTo>
                <a:lnTo>
                  <a:pt x="2725" y="1511"/>
                </a:lnTo>
                <a:lnTo>
                  <a:pt x="2716" y="1511"/>
                </a:lnTo>
                <a:lnTo>
                  <a:pt x="2707" y="1509"/>
                </a:lnTo>
                <a:lnTo>
                  <a:pt x="2700" y="1508"/>
                </a:lnTo>
                <a:lnTo>
                  <a:pt x="2693" y="1508"/>
                </a:lnTo>
                <a:lnTo>
                  <a:pt x="2687" y="1506"/>
                </a:lnTo>
                <a:lnTo>
                  <a:pt x="2683" y="1505"/>
                </a:lnTo>
                <a:lnTo>
                  <a:pt x="2671" y="1502"/>
                </a:lnTo>
                <a:lnTo>
                  <a:pt x="2658" y="1499"/>
                </a:lnTo>
                <a:lnTo>
                  <a:pt x="2646" y="1496"/>
                </a:lnTo>
                <a:lnTo>
                  <a:pt x="2632" y="1495"/>
                </a:lnTo>
                <a:lnTo>
                  <a:pt x="2619" y="1492"/>
                </a:lnTo>
                <a:lnTo>
                  <a:pt x="2603" y="1490"/>
                </a:lnTo>
                <a:lnTo>
                  <a:pt x="2588" y="1489"/>
                </a:lnTo>
                <a:lnTo>
                  <a:pt x="2572" y="1488"/>
                </a:lnTo>
                <a:lnTo>
                  <a:pt x="2556" y="1486"/>
                </a:lnTo>
                <a:lnTo>
                  <a:pt x="2539" y="1485"/>
                </a:lnTo>
                <a:lnTo>
                  <a:pt x="2521" y="1483"/>
                </a:lnTo>
                <a:lnTo>
                  <a:pt x="2504" y="1482"/>
                </a:lnTo>
                <a:lnTo>
                  <a:pt x="2487" y="1480"/>
                </a:lnTo>
                <a:lnTo>
                  <a:pt x="2469" y="1479"/>
                </a:lnTo>
                <a:lnTo>
                  <a:pt x="2450" y="1477"/>
                </a:lnTo>
                <a:lnTo>
                  <a:pt x="2433" y="1476"/>
                </a:lnTo>
                <a:lnTo>
                  <a:pt x="2401" y="1473"/>
                </a:lnTo>
                <a:lnTo>
                  <a:pt x="2369" y="1472"/>
                </a:lnTo>
                <a:lnTo>
                  <a:pt x="2335" y="1470"/>
                </a:lnTo>
                <a:lnTo>
                  <a:pt x="2302" y="1469"/>
                </a:lnTo>
                <a:lnTo>
                  <a:pt x="2269" y="1469"/>
                </a:lnTo>
                <a:lnTo>
                  <a:pt x="2237" y="1467"/>
                </a:lnTo>
                <a:lnTo>
                  <a:pt x="2205" y="1467"/>
                </a:lnTo>
                <a:lnTo>
                  <a:pt x="2173" y="1466"/>
                </a:lnTo>
                <a:lnTo>
                  <a:pt x="2144" y="1466"/>
                </a:lnTo>
                <a:lnTo>
                  <a:pt x="2116" y="1466"/>
                </a:lnTo>
                <a:lnTo>
                  <a:pt x="2091" y="1466"/>
                </a:lnTo>
                <a:lnTo>
                  <a:pt x="2068" y="1466"/>
                </a:lnTo>
                <a:lnTo>
                  <a:pt x="2049" y="1464"/>
                </a:lnTo>
                <a:lnTo>
                  <a:pt x="2032" y="1464"/>
                </a:lnTo>
                <a:lnTo>
                  <a:pt x="2020" y="1463"/>
                </a:lnTo>
                <a:lnTo>
                  <a:pt x="2011" y="1461"/>
                </a:lnTo>
                <a:lnTo>
                  <a:pt x="1997" y="1458"/>
                </a:lnTo>
                <a:lnTo>
                  <a:pt x="1984" y="1454"/>
                </a:lnTo>
                <a:lnTo>
                  <a:pt x="1972" y="1450"/>
                </a:lnTo>
                <a:lnTo>
                  <a:pt x="1960" y="1444"/>
                </a:lnTo>
                <a:lnTo>
                  <a:pt x="1950" y="1440"/>
                </a:lnTo>
                <a:lnTo>
                  <a:pt x="1942" y="1434"/>
                </a:lnTo>
                <a:lnTo>
                  <a:pt x="1933" y="1428"/>
                </a:lnTo>
                <a:lnTo>
                  <a:pt x="1924" y="1422"/>
                </a:lnTo>
                <a:lnTo>
                  <a:pt x="1917" y="1416"/>
                </a:lnTo>
                <a:lnTo>
                  <a:pt x="1910" y="1411"/>
                </a:lnTo>
                <a:lnTo>
                  <a:pt x="1902" y="1403"/>
                </a:lnTo>
                <a:lnTo>
                  <a:pt x="1895" y="1397"/>
                </a:lnTo>
                <a:lnTo>
                  <a:pt x="1888" y="1390"/>
                </a:lnTo>
                <a:lnTo>
                  <a:pt x="1880" y="1384"/>
                </a:lnTo>
                <a:lnTo>
                  <a:pt x="1872" y="1377"/>
                </a:lnTo>
                <a:lnTo>
                  <a:pt x="1865" y="1370"/>
                </a:lnTo>
                <a:lnTo>
                  <a:pt x="1860" y="1367"/>
                </a:lnTo>
                <a:lnTo>
                  <a:pt x="1856" y="1364"/>
                </a:lnTo>
                <a:lnTo>
                  <a:pt x="1853" y="1360"/>
                </a:lnTo>
                <a:lnTo>
                  <a:pt x="1849" y="1357"/>
                </a:lnTo>
                <a:lnTo>
                  <a:pt x="1844" y="1352"/>
                </a:lnTo>
                <a:lnTo>
                  <a:pt x="1840" y="1348"/>
                </a:lnTo>
                <a:lnTo>
                  <a:pt x="1835" y="1345"/>
                </a:lnTo>
                <a:lnTo>
                  <a:pt x="1831" y="1341"/>
                </a:lnTo>
                <a:lnTo>
                  <a:pt x="1825" y="1336"/>
                </a:lnTo>
                <a:lnTo>
                  <a:pt x="1821" y="1332"/>
                </a:lnTo>
                <a:lnTo>
                  <a:pt x="1817" y="1328"/>
                </a:lnTo>
                <a:lnTo>
                  <a:pt x="1812" y="1322"/>
                </a:lnTo>
                <a:lnTo>
                  <a:pt x="1808" y="1317"/>
                </a:lnTo>
                <a:lnTo>
                  <a:pt x="1802" y="1313"/>
                </a:lnTo>
                <a:lnTo>
                  <a:pt x="1798" y="1309"/>
                </a:lnTo>
                <a:lnTo>
                  <a:pt x="1793" y="1303"/>
                </a:lnTo>
                <a:lnTo>
                  <a:pt x="1792" y="1304"/>
                </a:lnTo>
                <a:lnTo>
                  <a:pt x="1790" y="1304"/>
                </a:lnTo>
                <a:lnTo>
                  <a:pt x="1789" y="1306"/>
                </a:lnTo>
                <a:lnTo>
                  <a:pt x="1787" y="1307"/>
                </a:lnTo>
                <a:lnTo>
                  <a:pt x="1786" y="1309"/>
                </a:lnTo>
                <a:lnTo>
                  <a:pt x="1783" y="1310"/>
                </a:lnTo>
                <a:lnTo>
                  <a:pt x="1782" y="1312"/>
                </a:lnTo>
                <a:lnTo>
                  <a:pt x="1780" y="1313"/>
                </a:lnTo>
                <a:lnTo>
                  <a:pt x="1779" y="1315"/>
                </a:lnTo>
                <a:lnTo>
                  <a:pt x="1777" y="1316"/>
                </a:lnTo>
                <a:lnTo>
                  <a:pt x="1776" y="1317"/>
                </a:lnTo>
                <a:lnTo>
                  <a:pt x="1774" y="1319"/>
                </a:lnTo>
                <a:lnTo>
                  <a:pt x="1773" y="1320"/>
                </a:lnTo>
                <a:lnTo>
                  <a:pt x="1772" y="1322"/>
                </a:lnTo>
                <a:lnTo>
                  <a:pt x="1770" y="1323"/>
                </a:lnTo>
                <a:lnTo>
                  <a:pt x="1769" y="1325"/>
                </a:lnTo>
                <a:lnTo>
                  <a:pt x="1773" y="1329"/>
                </a:lnTo>
                <a:lnTo>
                  <a:pt x="1777" y="1333"/>
                </a:lnTo>
                <a:lnTo>
                  <a:pt x="1782" y="1338"/>
                </a:lnTo>
                <a:lnTo>
                  <a:pt x="1786" y="1342"/>
                </a:lnTo>
                <a:lnTo>
                  <a:pt x="1790" y="1347"/>
                </a:lnTo>
                <a:lnTo>
                  <a:pt x="1796" y="1351"/>
                </a:lnTo>
                <a:lnTo>
                  <a:pt x="1801" y="1357"/>
                </a:lnTo>
                <a:lnTo>
                  <a:pt x="1805" y="1361"/>
                </a:lnTo>
                <a:lnTo>
                  <a:pt x="1809" y="1365"/>
                </a:lnTo>
                <a:lnTo>
                  <a:pt x="1814" y="1370"/>
                </a:lnTo>
                <a:lnTo>
                  <a:pt x="1818" y="1374"/>
                </a:lnTo>
                <a:lnTo>
                  <a:pt x="1822" y="1377"/>
                </a:lnTo>
                <a:lnTo>
                  <a:pt x="1827" y="1381"/>
                </a:lnTo>
                <a:lnTo>
                  <a:pt x="1833" y="1386"/>
                </a:lnTo>
                <a:lnTo>
                  <a:pt x="1837" y="1390"/>
                </a:lnTo>
                <a:lnTo>
                  <a:pt x="1841" y="1395"/>
                </a:lnTo>
                <a:lnTo>
                  <a:pt x="1849" y="1402"/>
                </a:lnTo>
                <a:lnTo>
                  <a:pt x="1856" y="1408"/>
                </a:lnTo>
                <a:lnTo>
                  <a:pt x="1865" y="1415"/>
                </a:lnTo>
                <a:lnTo>
                  <a:pt x="1872" y="1421"/>
                </a:lnTo>
                <a:lnTo>
                  <a:pt x="1879" y="1427"/>
                </a:lnTo>
                <a:lnTo>
                  <a:pt x="1886" y="1432"/>
                </a:lnTo>
                <a:lnTo>
                  <a:pt x="1894" y="1438"/>
                </a:lnTo>
                <a:lnTo>
                  <a:pt x="1901" y="1444"/>
                </a:lnTo>
                <a:lnTo>
                  <a:pt x="1908" y="1448"/>
                </a:lnTo>
                <a:lnTo>
                  <a:pt x="1917" y="1453"/>
                </a:lnTo>
                <a:lnTo>
                  <a:pt x="1924" y="1458"/>
                </a:lnTo>
                <a:lnTo>
                  <a:pt x="1933" y="1463"/>
                </a:lnTo>
                <a:lnTo>
                  <a:pt x="1942" y="1467"/>
                </a:lnTo>
                <a:lnTo>
                  <a:pt x="1950" y="1472"/>
                </a:lnTo>
                <a:lnTo>
                  <a:pt x="1960" y="1476"/>
                </a:lnTo>
                <a:lnTo>
                  <a:pt x="1971" y="1482"/>
                </a:lnTo>
                <a:lnTo>
                  <a:pt x="1979" y="1483"/>
                </a:lnTo>
                <a:lnTo>
                  <a:pt x="1989" y="1485"/>
                </a:lnTo>
                <a:lnTo>
                  <a:pt x="2003" y="1486"/>
                </a:lnTo>
                <a:lnTo>
                  <a:pt x="2019" y="1488"/>
                </a:lnTo>
                <a:lnTo>
                  <a:pt x="2036" y="1488"/>
                </a:lnTo>
                <a:lnTo>
                  <a:pt x="2055" y="1488"/>
                </a:lnTo>
                <a:lnTo>
                  <a:pt x="2075" y="1488"/>
                </a:lnTo>
                <a:lnTo>
                  <a:pt x="2097" y="1488"/>
                </a:lnTo>
                <a:lnTo>
                  <a:pt x="2119" y="1486"/>
                </a:lnTo>
                <a:lnTo>
                  <a:pt x="2144" y="1486"/>
                </a:lnTo>
                <a:lnTo>
                  <a:pt x="2167" y="1486"/>
                </a:lnTo>
                <a:lnTo>
                  <a:pt x="2191" y="1485"/>
                </a:lnTo>
                <a:lnTo>
                  <a:pt x="2216" y="1485"/>
                </a:lnTo>
                <a:lnTo>
                  <a:pt x="2241" y="1485"/>
                </a:lnTo>
                <a:lnTo>
                  <a:pt x="2264" y="1485"/>
                </a:lnTo>
                <a:lnTo>
                  <a:pt x="2287" y="1486"/>
                </a:lnTo>
                <a:lnTo>
                  <a:pt x="2308" y="1486"/>
                </a:lnTo>
                <a:lnTo>
                  <a:pt x="2327" y="1488"/>
                </a:lnTo>
                <a:lnTo>
                  <a:pt x="2346" y="1489"/>
                </a:lnTo>
                <a:lnTo>
                  <a:pt x="2363" y="1489"/>
                </a:lnTo>
                <a:lnTo>
                  <a:pt x="2380" y="1490"/>
                </a:lnTo>
                <a:lnTo>
                  <a:pt x="2396" y="1490"/>
                </a:lnTo>
                <a:lnTo>
                  <a:pt x="2412" y="1492"/>
                </a:lnTo>
                <a:lnTo>
                  <a:pt x="2428" y="1493"/>
                </a:lnTo>
                <a:lnTo>
                  <a:pt x="2444" y="1493"/>
                </a:lnTo>
                <a:lnTo>
                  <a:pt x="2460" y="1495"/>
                </a:lnTo>
                <a:lnTo>
                  <a:pt x="2478" y="1496"/>
                </a:lnTo>
                <a:lnTo>
                  <a:pt x="2494" y="1498"/>
                </a:lnTo>
                <a:lnTo>
                  <a:pt x="2511" y="1499"/>
                </a:lnTo>
                <a:lnTo>
                  <a:pt x="2530" y="1501"/>
                </a:lnTo>
                <a:lnTo>
                  <a:pt x="2549" y="1504"/>
                </a:lnTo>
                <a:lnTo>
                  <a:pt x="2569" y="1505"/>
                </a:lnTo>
                <a:lnTo>
                  <a:pt x="2574" y="1505"/>
                </a:lnTo>
                <a:lnTo>
                  <a:pt x="2580" y="1506"/>
                </a:lnTo>
                <a:lnTo>
                  <a:pt x="2584" y="1506"/>
                </a:lnTo>
                <a:lnTo>
                  <a:pt x="2588" y="1506"/>
                </a:lnTo>
                <a:lnTo>
                  <a:pt x="2593" y="1508"/>
                </a:lnTo>
                <a:lnTo>
                  <a:pt x="2597" y="1508"/>
                </a:lnTo>
                <a:lnTo>
                  <a:pt x="2601" y="1508"/>
                </a:lnTo>
                <a:lnTo>
                  <a:pt x="2606" y="1509"/>
                </a:lnTo>
                <a:lnTo>
                  <a:pt x="2609" y="1509"/>
                </a:lnTo>
                <a:lnTo>
                  <a:pt x="2613" y="1511"/>
                </a:lnTo>
                <a:lnTo>
                  <a:pt x="2617" y="1511"/>
                </a:lnTo>
                <a:lnTo>
                  <a:pt x="2622" y="1511"/>
                </a:lnTo>
                <a:lnTo>
                  <a:pt x="2626" y="1512"/>
                </a:lnTo>
                <a:lnTo>
                  <a:pt x="2630" y="1512"/>
                </a:lnTo>
                <a:lnTo>
                  <a:pt x="2636" y="1514"/>
                </a:lnTo>
                <a:lnTo>
                  <a:pt x="2641" y="1515"/>
                </a:lnTo>
                <a:lnTo>
                  <a:pt x="2642" y="1517"/>
                </a:lnTo>
                <a:lnTo>
                  <a:pt x="2643" y="1518"/>
                </a:lnTo>
                <a:lnTo>
                  <a:pt x="2643" y="1520"/>
                </a:lnTo>
                <a:lnTo>
                  <a:pt x="2643" y="1521"/>
                </a:lnTo>
                <a:lnTo>
                  <a:pt x="2643" y="1524"/>
                </a:lnTo>
                <a:lnTo>
                  <a:pt x="2643" y="1525"/>
                </a:lnTo>
                <a:lnTo>
                  <a:pt x="2642" y="1527"/>
                </a:lnTo>
                <a:lnTo>
                  <a:pt x="2641" y="1528"/>
                </a:lnTo>
                <a:lnTo>
                  <a:pt x="2639" y="1530"/>
                </a:lnTo>
                <a:lnTo>
                  <a:pt x="2638" y="1530"/>
                </a:lnTo>
                <a:lnTo>
                  <a:pt x="2636" y="1531"/>
                </a:lnTo>
                <a:lnTo>
                  <a:pt x="2633" y="1533"/>
                </a:lnTo>
                <a:lnTo>
                  <a:pt x="2630" y="1533"/>
                </a:lnTo>
                <a:lnTo>
                  <a:pt x="2627" y="1534"/>
                </a:lnTo>
                <a:lnTo>
                  <a:pt x="2623" y="1534"/>
                </a:lnTo>
                <a:lnTo>
                  <a:pt x="2620" y="1534"/>
                </a:lnTo>
                <a:lnTo>
                  <a:pt x="2607" y="1533"/>
                </a:lnTo>
                <a:lnTo>
                  <a:pt x="2597" y="1531"/>
                </a:lnTo>
                <a:lnTo>
                  <a:pt x="2585" y="1530"/>
                </a:lnTo>
                <a:lnTo>
                  <a:pt x="2575" y="1528"/>
                </a:lnTo>
                <a:lnTo>
                  <a:pt x="2565" y="1527"/>
                </a:lnTo>
                <a:lnTo>
                  <a:pt x="2555" y="1525"/>
                </a:lnTo>
                <a:lnTo>
                  <a:pt x="2545" y="1524"/>
                </a:lnTo>
                <a:lnTo>
                  <a:pt x="2536" y="1524"/>
                </a:lnTo>
                <a:lnTo>
                  <a:pt x="2526" y="1522"/>
                </a:lnTo>
                <a:lnTo>
                  <a:pt x="2516" y="1522"/>
                </a:lnTo>
                <a:lnTo>
                  <a:pt x="2505" y="1521"/>
                </a:lnTo>
                <a:lnTo>
                  <a:pt x="2495" y="1521"/>
                </a:lnTo>
                <a:lnTo>
                  <a:pt x="2485" y="1520"/>
                </a:lnTo>
                <a:lnTo>
                  <a:pt x="2475" y="1520"/>
                </a:lnTo>
                <a:lnTo>
                  <a:pt x="2463" y="1518"/>
                </a:lnTo>
                <a:lnTo>
                  <a:pt x="2452" y="1517"/>
                </a:lnTo>
                <a:lnTo>
                  <a:pt x="2417" y="1515"/>
                </a:lnTo>
                <a:lnTo>
                  <a:pt x="2382" y="1514"/>
                </a:lnTo>
                <a:lnTo>
                  <a:pt x="2346" y="1514"/>
                </a:lnTo>
                <a:lnTo>
                  <a:pt x="2309" y="1514"/>
                </a:lnTo>
                <a:lnTo>
                  <a:pt x="2273" y="1514"/>
                </a:lnTo>
                <a:lnTo>
                  <a:pt x="2238" y="1515"/>
                </a:lnTo>
                <a:lnTo>
                  <a:pt x="2203" y="1515"/>
                </a:lnTo>
                <a:lnTo>
                  <a:pt x="2170" y="1517"/>
                </a:lnTo>
                <a:lnTo>
                  <a:pt x="2138" y="1518"/>
                </a:lnTo>
                <a:lnTo>
                  <a:pt x="2107" y="1520"/>
                </a:lnTo>
                <a:lnTo>
                  <a:pt x="2080" y="1521"/>
                </a:lnTo>
                <a:lnTo>
                  <a:pt x="2055" y="1521"/>
                </a:lnTo>
                <a:lnTo>
                  <a:pt x="2033" y="1522"/>
                </a:lnTo>
                <a:lnTo>
                  <a:pt x="2014" y="1522"/>
                </a:lnTo>
                <a:lnTo>
                  <a:pt x="1998" y="1522"/>
                </a:lnTo>
                <a:lnTo>
                  <a:pt x="1988" y="1522"/>
                </a:lnTo>
                <a:lnTo>
                  <a:pt x="1969" y="1521"/>
                </a:lnTo>
                <a:lnTo>
                  <a:pt x="1953" y="1518"/>
                </a:lnTo>
                <a:lnTo>
                  <a:pt x="1940" y="1517"/>
                </a:lnTo>
                <a:lnTo>
                  <a:pt x="1927" y="1514"/>
                </a:lnTo>
                <a:lnTo>
                  <a:pt x="1915" y="1509"/>
                </a:lnTo>
                <a:lnTo>
                  <a:pt x="1904" y="1506"/>
                </a:lnTo>
                <a:lnTo>
                  <a:pt x="1894" y="1502"/>
                </a:lnTo>
                <a:lnTo>
                  <a:pt x="1885" y="1498"/>
                </a:lnTo>
                <a:lnTo>
                  <a:pt x="1876" y="1492"/>
                </a:lnTo>
                <a:lnTo>
                  <a:pt x="1867" y="1488"/>
                </a:lnTo>
                <a:lnTo>
                  <a:pt x="1859" y="1480"/>
                </a:lnTo>
                <a:lnTo>
                  <a:pt x="1850" y="1474"/>
                </a:lnTo>
                <a:lnTo>
                  <a:pt x="1843" y="1467"/>
                </a:lnTo>
                <a:lnTo>
                  <a:pt x="1834" y="1460"/>
                </a:lnTo>
                <a:lnTo>
                  <a:pt x="1824" y="1451"/>
                </a:lnTo>
                <a:lnTo>
                  <a:pt x="1814" y="1442"/>
                </a:lnTo>
                <a:lnTo>
                  <a:pt x="1803" y="1432"/>
                </a:lnTo>
                <a:lnTo>
                  <a:pt x="1792" y="1424"/>
                </a:lnTo>
                <a:lnTo>
                  <a:pt x="1780" y="1413"/>
                </a:lnTo>
                <a:lnTo>
                  <a:pt x="1769" y="1403"/>
                </a:lnTo>
                <a:lnTo>
                  <a:pt x="1757" y="1392"/>
                </a:lnTo>
                <a:lnTo>
                  <a:pt x="1745" y="1381"/>
                </a:lnTo>
                <a:lnTo>
                  <a:pt x="1734" y="1370"/>
                </a:lnTo>
                <a:lnTo>
                  <a:pt x="1724" y="1360"/>
                </a:lnTo>
                <a:lnTo>
                  <a:pt x="1712" y="1348"/>
                </a:lnTo>
                <a:lnTo>
                  <a:pt x="1700" y="1338"/>
                </a:lnTo>
                <a:lnTo>
                  <a:pt x="1689" y="1326"/>
                </a:lnTo>
                <a:lnTo>
                  <a:pt x="1677" y="1315"/>
                </a:lnTo>
                <a:lnTo>
                  <a:pt x="1665" y="1303"/>
                </a:lnTo>
                <a:lnTo>
                  <a:pt x="1654" y="1293"/>
                </a:lnTo>
                <a:lnTo>
                  <a:pt x="1644" y="1281"/>
                </a:lnTo>
                <a:lnTo>
                  <a:pt x="1632" y="1269"/>
                </a:lnTo>
                <a:lnTo>
                  <a:pt x="1631" y="1274"/>
                </a:lnTo>
                <a:lnTo>
                  <a:pt x="1629" y="1277"/>
                </a:lnTo>
                <a:lnTo>
                  <a:pt x="1626" y="1281"/>
                </a:lnTo>
                <a:lnTo>
                  <a:pt x="1625" y="1285"/>
                </a:lnTo>
                <a:lnTo>
                  <a:pt x="1623" y="1290"/>
                </a:lnTo>
                <a:lnTo>
                  <a:pt x="1622" y="1293"/>
                </a:lnTo>
                <a:lnTo>
                  <a:pt x="1620" y="1297"/>
                </a:lnTo>
                <a:lnTo>
                  <a:pt x="1617" y="1300"/>
                </a:lnTo>
                <a:lnTo>
                  <a:pt x="1616" y="1304"/>
                </a:lnTo>
                <a:lnTo>
                  <a:pt x="1615" y="1307"/>
                </a:lnTo>
                <a:lnTo>
                  <a:pt x="1613" y="1310"/>
                </a:lnTo>
                <a:lnTo>
                  <a:pt x="1612" y="1313"/>
                </a:lnTo>
                <a:lnTo>
                  <a:pt x="1612" y="1315"/>
                </a:lnTo>
                <a:lnTo>
                  <a:pt x="1610" y="1316"/>
                </a:lnTo>
                <a:lnTo>
                  <a:pt x="1610" y="1317"/>
                </a:lnTo>
                <a:lnTo>
                  <a:pt x="1609" y="1317"/>
                </a:lnTo>
                <a:lnTo>
                  <a:pt x="1607" y="1317"/>
                </a:lnTo>
                <a:lnTo>
                  <a:pt x="1606" y="1316"/>
                </a:lnTo>
                <a:lnTo>
                  <a:pt x="1603" y="1316"/>
                </a:lnTo>
                <a:lnTo>
                  <a:pt x="1600" y="1315"/>
                </a:lnTo>
                <a:lnTo>
                  <a:pt x="1597" y="1315"/>
                </a:lnTo>
                <a:lnTo>
                  <a:pt x="1594" y="1313"/>
                </a:lnTo>
                <a:lnTo>
                  <a:pt x="1590" y="1312"/>
                </a:lnTo>
                <a:lnTo>
                  <a:pt x="1585" y="1310"/>
                </a:lnTo>
                <a:lnTo>
                  <a:pt x="1580" y="1310"/>
                </a:lnTo>
                <a:lnTo>
                  <a:pt x="1574" y="1309"/>
                </a:lnTo>
                <a:lnTo>
                  <a:pt x="1570" y="1307"/>
                </a:lnTo>
                <a:lnTo>
                  <a:pt x="1562" y="1306"/>
                </a:lnTo>
                <a:lnTo>
                  <a:pt x="1556" y="1304"/>
                </a:lnTo>
                <a:lnTo>
                  <a:pt x="1549" y="1303"/>
                </a:lnTo>
                <a:lnTo>
                  <a:pt x="1549" y="1307"/>
                </a:lnTo>
                <a:lnTo>
                  <a:pt x="1549" y="1312"/>
                </a:lnTo>
                <a:lnTo>
                  <a:pt x="1549" y="1316"/>
                </a:lnTo>
                <a:lnTo>
                  <a:pt x="1549" y="1320"/>
                </a:lnTo>
                <a:lnTo>
                  <a:pt x="1549" y="1325"/>
                </a:lnTo>
                <a:lnTo>
                  <a:pt x="1549" y="1329"/>
                </a:lnTo>
                <a:lnTo>
                  <a:pt x="1548" y="1333"/>
                </a:lnTo>
                <a:lnTo>
                  <a:pt x="1548" y="1338"/>
                </a:lnTo>
                <a:lnTo>
                  <a:pt x="1548" y="1341"/>
                </a:lnTo>
                <a:lnTo>
                  <a:pt x="1546" y="1345"/>
                </a:lnTo>
                <a:lnTo>
                  <a:pt x="1546" y="1348"/>
                </a:lnTo>
                <a:lnTo>
                  <a:pt x="1546" y="1352"/>
                </a:lnTo>
                <a:lnTo>
                  <a:pt x="1545" y="1355"/>
                </a:lnTo>
                <a:lnTo>
                  <a:pt x="1545" y="1360"/>
                </a:lnTo>
                <a:lnTo>
                  <a:pt x="1543" y="1363"/>
                </a:lnTo>
                <a:lnTo>
                  <a:pt x="1543" y="1365"/>
                </a:lnTo>
                <a:lnTo>
                  <a:pt x="1542" y="1368"/>
                </a:lnTo>
                <a:lnTo>
                  <a:pt x="1540" y="1371"/>
                </a:lnTo>
                <a:lnTo>
                  <a:pt x="1540" y="1374"/>
                </a:lnTo>
                <a:lnTo>
                  <a:pt x="1539" y="1377"/>
                </a:lnTo>
                <a:lnTo>
                  <a:pt x="1538" y="1380"/>
                </a:lnTo>
                <a:lnTo>
                  <a:pt x="1536" y="1384"/>
                </a:lnTo>
                <a:lnTo>
                  <a:pt x="1535" y="1387"/>
                </a:lnTo>
                <a:lnTo>
                  <a:pt x="1533" y="1390"/>
                </a:lnTo>
                <a:lnTo>
                  <a:pt x="1532" y="1393"/>
                </a:lnTo>
                <a:lnTo>
                  <a:pt x="1530" y="1396"/>
                </a:lnTo>
                <a:lnTo>
                  <a:pt x="1529" y="1399"/>
                </a:lnTo>
                <a:lnTo>
                  <a:pt x="1527" y="1402"/>
                </a:lnTo>
                <a:lnTo>
                  <a:pt x="1524" y="1405"/>
                </a:lnTo>
                <a:lnTo>
                  <a:pt x="1523" y="1408"/>
                </a:lnTo>
                <a:lnTo>
                  <a:pt x="1522" y="1409"/>
                </a:lnTo>
                <a:lnTo>
                  <a:pt x="1519" y="1412"/>
                </a:lnTo>
                <a:lnTo>
                  <a:pt x="1516" y="1413"/>
                </a:lnTo>
                <a:lnTo>
                  <a:pt x="1511" y="1416"/>
                </a:lnTo>
                <a:lnTo>
                  <a:pt x="1508" y="1419"/>
                </a:lnTo>
                <a:lnTo>
                  <a:pt x="1504" y="1422"/>
                </a:lnTo>
                <a:lnTo>
                  <a:pt x="1501" y="1425"/>
                </a:lnTo>
                <a:lnTo>
                  <a:pt x="1497" y="1428"/>
                </a:lnTo>
                <a:lnTo>
                  <a:pt x="1494" y="1429"/>
                </a:lnTo>
                <a:lnTo>
                  <a:pt x="1490" y="1432"/>
                </a:lnTo>
                <a:lnTo>
                  <a:pt x="1487" y="1435"/>
                </a:lnTo>
                <a:lnTo>
                  <a:pt x="1482" y="1438"/>
                </a:lnTo>
                <a:lnTo>
                  <a:pt x="1479" y="1440"/>
                </a:lnTo>
                <a:lnTo>
                  <a:pt x="1475" y="1442"/>
                </a:lnTo>
                <a:lnTo>
                  <a:pt x="1472" y="1445"/>
                </a:lnTo>
                <a:lnTo>
                  <a:pt x="1468" y="1447"/>
                </a:lnTo>
                <a:lnTo>
                  <a:pt x="1465" y="1450"/>
                </a:lnTo>
                <a:lnTo>
                  <a:pt x="1461" y="1453"/>
                </a:lnTo>
                <a:lnTo>
                  <a:pt x="1462" y="1453"/>
                </a:lnTo>
                <a:lnTo>
                  <a:pt x="1463" y="1453"/>
                </a:lnTo>
                <a:lnTo>
                  <a:pt x="1465" y="1454"/>
                </a:lnTo>
                <a:lnTo>
                  <a:pt x="1466" y="1454"/>
                </a:lnTo>
                <a:lnTo>
                  <a:pt x="1468" y="1456"/>
                </a:lnTo>
                <a:lnTo>
                  <a:pt x="1469" y="1457"/>
                </a:lnTo>
                <a:lnTo>
                  <a:pt x="1469" y="1458"/>
                </a:lnTo>
                <a:lnTo>
                  <a:pt x="1471" y="1460"/>
                </a:lnTo>
                <a:lnTo>
                  <a:pt x="1471" y="1461"/>
                </a:lnTo>
                <a:lnTo>
                  <a:pt x="1471" y="1466"/>
                </a:lnTo>
                <a:lnTo>
                  <a:pt x="1471" y="1470"/>
                </a:lnTo>
                <a:lnTo>
                  <a:pt x="1471" y="1473"/>
                </a:lnTo>
                <a:lnTo>
                  <a:pt x="1471" y="1477"/>
                </a:lnTo>
                <a:lnTo>
                  <a:pt x="1471" y="1482"/>
                </a:lnTo>
                <a:lnTo>
                  <a:pt x="1471" y="1485"/>
                </a:lnTo>
                <a:lnTo>
                  <a:pt x="1471" y="1489"/>
                </a:lnTo>
                <a:lnTo>
                  <a:pt x="1471" y="1493"/>
                </a:lnTo>
                <a:lnTo>
                  <a:pt x="1471" y="1496"/>
                </a:lnTo>
                <a:lnTo>
                  <a:pt x="1471" y="1501"/>
                </a:lnTo>
                <a:lnTo>
                  <a:pt x="1471" y="1505"/>
                </a:lnTo>
                <a:lnTo>
                  <a:pt x="1471" y="1508"/>
                </a:lnTo>
                <a:lnTo>
                  <a:pt x="1471" y="1512"/>
                </a:lnTo>
                <a:lnTo>
                  <a:pt x="1471" y="1517"/>
                </a:lnTo>
                <a:lnTo>
                  <a:pt x="1471" y="1521"/>
                </a:lnTo>
                <a:lnTo>
                  <a:pt x="1471" y="1524"/>
                </a:lnTo>
                <a:lnTo>
                  <a:pt x="1471" y="1528"/>
                </a:lnTo>
                <a:lnTo>
                  <a:pt x="1471" y="1534"/>
                </a:lnTo>
                <a:lnTo>
                  <a:pt x="1471" y="1538"/>
                </a:lnTo>
                <a:lnTo>
                  <a:pt x="1472" y="1543"/>
                </a:lnTo>
                <a:lnTo>
                  <a:pt x="1472" y="1547"/>
                </a:lnTo>
                <a:lnTo>
                  <a:pt x="1474" y="1553"/>
                </a:lnTo>
                <a:lnTo>
                  <a:pt x="1475" y="1557"/>
                </a:lnTo>
                <a:lnTo>
                  <a:pt x="1476" y="1562"/>
                </a:lnTo>
                <a:lnTo>
                  <a:pt x="1478" y="1565"/>
                </a:lnTo>
                <a:lnTo>
                  <a:pt x="1479" y="1569"/>
                </a:lnTo>
                <a:lnTo>
                  <a:pt x="1482" y="1572"/>
                </a:lnTo>
                <a:lnTo>
                  <a:pt x="1485" y="1575"/>
                </a:lnTo>
                <a:lnTo>
                  <a:pt x="1488" y="1578"/>
                </a:lnTo>
                <a:lnTo>
                  <a:pt x="1491" y="1579"/>
                </a:lnTo>
                <a:lnTo>
                  <a:pt x="1495" y="1581"/>
                </a:lnTo>
                <a:lnTo>
                  <a:pt x="1500" y="1582"/>
                </a:lnTo>
                <a:lnTo>
                  <a:pt x="1503" y="1582"/>
                </a:lnTo>
                <a:lnTo>
                  <a:pt x="1507" y="1582"/>
                </a:lnTo>
                <a:lnTo>
                  <a:pt x="1511" y="1582"/>
                </a:lnTo>
                <a:lnTo>
                  <a:pt x="1514" y="1581"/>
                </a:lnTo>
                <a:lnTo>
                  <a:pt x="1517" y="1581"/>
                </a:lnTo>
                <a:lnTo>
                  <a:pt x="1520" y="1579"/>
                </a:lnTo>
                <a:lnTo>
                  <a:pt x="1523" y="1578"/>
                </a:lnTo>
                <a:lnTo>
                  <a:pt x="1526" y="1575"/>
                </a:lnTo>
                <a:lnTo>
                  <a:pt x="1527" y="1573"/>
                </a:lnTo>
                <a:lnTo>
                  <a:pt x="1530" y="1570"/>
                </a:lnTo>
                <a:lnTo>
                  <a:pt x="1533" y="1568"/>
                </a:lnTo>
                <a:lnTo>
                  <a:pt x="1535" y="1565"/>
                </a:lnTo>
                <a:lnTo>
                  <a:pt x="1538" y="1562"/>
                </a:lnTo>
                <a:lnTo>
                  <a:pt x="1539" y="1559"/>
                </a:lnTo>
                <a:lnTo>
                  <a:pt x="1540" y="1554"/>
                </a:lnTo>
                <a:lnTo>
                  <a:pt x="1543" y="1552"/>
                </a:lnTo>
                <a:lnTo>
                  <a:pt x="1545" y="1546"/>
                </a:lnTo>
                <a:lnTo>
                  <a:pt x="1545" y="1540"/>
                </a:lnTo>
                <a:lnTo>
                  <a:pt x="1546" y="1534"/>
                </a:lnTo>
                <a:lnTo>
                  <a:pt x="1546" y="1527"/>
                </a:lnTo>
                <a:lnTo>
                  <a:pt x="1546" y="1520"/>
                </a:lnTo>
                <a:lnTo>
                  <a:pt x="1545" y="1511"/>
                </a:lnTo>
                <a:lnTo>
                  <a:pt x="1545" y="1502"/>
                </a:lnTo>
                <a:lnTo>
                  <a:pt x="1543" y="1493"/>
                </a:lnTo>
                <a:lnTo>
                  <a:pt x="1542" y="1485"/>
                </a:lnTo>
                <a:lnTo>
                  <a:pt x="1542" y="1476"/>
                </a:lnTo>
                <a:lnTo>
                  <a:pt x="1540" y="1467"/>
                </a:lnTo>
                <a:lnTo>
                  <a:pt x="1539" y="1457"/>
                </a:lnTo>
                <a:lnTo>
                  <a:pt x="1538" y="1448"/>
                </a:lnTo>
                <a:lnTo>
                  <a:pt x="1536" y="1438"/>
                </a:lnTo>
                <a:lnTo>
                  <a:pt x="1536" y="1429"/>
                </a:lnTo>
                <a:lnTo>
                  <a:pt x="1536" y="1421"/>
                </a:lnTo>
                <a:lnTo>
                  <a:pt x="1536" y="1419"/>
                </a:lnTo>
                <a:lnTo>
                  <a:pt x="1539" y="1416"/>
                </a:lnTo>
                <a:lnTo>
                  <a:pt x="1540" y="1415"/>
                </a:lnTo>
                <a:lnTo>
                  <a:pt x="1542" y="1412"/>
                </a:lnTo>
                <a:lnTo>
                  <a:pt x="1543" y="1411"/>
                </a:lnTo>
                <a:lnTo>
                  <a:pt x="1545" y="1409"/>
                </a:lnTo>
                <a:lnTo>
                  <a:pt x="1546" y="1408"/>
                </a:lnTo>
                <a:lnTo>
                  <a:pt x="1549" y="1406"/>
                </a:lnTo>
                <a:lnTo>
                  <a:pt x="1551" y="1405"/>
                </a:lnTo>
                <a:lnTo>
                  <a:pt x="1552" y="1405"/>
                </a:lnTo>
                <a:lnTo>
                  <a:pt x="1554" y="1403"/>
                </a:lnTo>
                <a:lnTo>
                  <a:pt x="1555" y="1403"/>
                </a:lnTo>
                <a:lnTo>
                  <a:pt x="1558" y="1403"/>
                </a:lnTo>
                <a:lnTo>
                  <a:pt x="1559" y="1403"/>
                </a:lnTo>
                <a:lnTo>
                  <a:pt x="1561" y="1403"/>
                </a:lnTo>
                <a:lnTo>
                  <a:pt x="1562" y="1405"/>
                </a:lnTo>
                <a:lnTo>
                  <a:pt x="1562" y="1409"/>
                </a:lnTo>
                <a:lnTo>
                  <a:pt x="1564" y="1416"/>
                </a:lnTo>
                <a:lnTo>
                  <a:pt x="1565" y="1422"/>
                </a:lnTo>
                <a:lnTo>
                  <a:pt x="1567" y="1429"/>
                </a:lnTo>
                <a:lnTo>
                  <a:pt x="1568" y="1438"/>
                </a:lnTo>
                <a:lnTo>
                  <a:pt x="1570" y="1447"/>
                </a:lnTo>
                <a:lnTo>
                  <a:pt x="1571" y="1456"/>
                </a:lnTo>
                <a:lnTo>
                  <a:pt x="1572" y="1464"/>
                </a:lnTo>
                <a:lnTo>
                  <a:pt x="1575" y="1473"/>
                </a:lnTo>
                <a:lnTo>
                  <a:pt x="1577" y="1482"/>
                </a:lnTo>
                <a:lnTo>
                  <a:pt x="1578" y="1492"/>
                </a:lnTo>
                <a:lnTo>
                  <a:pt x="1580" y="1501"/>
                </a:lnTo>
                <a:lnTo>
                  <a:pt x="1581" y="1509"/>
                </a:lnTo>
                <a:lnTo>
                  <a:pt x="1583" y="1517"/>
                </a:lnTo>
                <a:lnTo>
                  <a:pt x="1584" y="1524"/>
                </a:lnTo>
                <a:lnTo>
                  <a:pt x="1585" y="1531"/>
                </a:lnTo>
                <a:lnTo>
                  <a:pt x="1587" y="1536"/>
                </a:lnTo>
                <a:lnTo>
                  <a:pt x="1590" y="1540"/>
                </a:lnTo>
                <a:lnTo>
                  <a:pt x="1593" y="1544"/>
                </a:lnTo>
                <a:lnTo>
                  <a:pt x="1596" y="1547"/>
                </a:lnTo>
                <a:lnTo>
                  <a:pt x="1600" y="1552"/>
                </a:lnTo>
                <a:lnTo>
                  <a:pt x="1604" y="1554"/>
                </a:lnTo>
                <a:lnTo>
                  <a:pt x="1610" y="1556"/>
                </a:lnTo>
                <a:lnTo>
                  <a:pt x="1615" y="1559"/>
                </a:lnTo>
                <a:lnTo>
                  <a:pt x="1620" y="1560"/>
                </a:lnTo>
                <a:lnTo>
                  <a:pt x="1625" y="1560"/>
                </a:lnTo>
                <a:lnTo>
                  <a:pt x="1631" y="1560"/>
                </a:lnTo>
                <a:lnTo>
                  <a:pt x="1635" y="1560"/>
                </a:lnTo>
                <a:lnTo>
                  <a:pt x="1639" y="1559"/>
                </a:lnTo>
                <a:lnTo>
                  <a:pt x="1644" y="1557"/>
                </a:lnTo>
                <a:lnTo>
                  <a:pt x="1648" y="1554"/>
                </a:lnTo>
                <a:lnTo>
                  <a:pt x="1651" y="1552"/>
                </a:lnTo>
                <a:lnTo>
                  <a:pt x="1652" y="1547"/>
                </a:lnTo>
                <a:lnTo>
                  <a:pt x="1652" y="1544"/>
                </a:lnTo>
                <a:lnTo>
                  <a:pt x="1652" y="1540"/>
                </a:lnTo>
                <a:lnTo>
                  <a:pt x="1651" y="1536"/>
                </a:lnTo>
                <a:lnTo>
                  <a:pt x="1649" y="1530"/>
                </a:lnTo>
                <a:lnTo>
                  <a:pt x="1647" y="1524"/>
                </a:lnTo>
                <a:lnTo>
                  <a:pt x="1644" y="1517"/>
                </a:lnTo>
                <a:lnTo>
                  <a:pt x="1641" y="1509"/>
                </a:lnTo>
                <a:lnTo>
                  <a:pt x="1636" y="1502"/>
                </a:lnTo>
                <a:lnTo>
                  <a:pt x="1632" y="1495"/>
                </a:lnTo>
                <a:lnTo>
                  <a:pt x="1628" y="1486"/>
                </a:lnTo>
                <a:lnTo>
                  <a:pt x="1623" y="1477"/>
                </a:lnTo>
                <a:lnTo>
                  <a:pt x="1619" y="1469"/>
                </a:lnTo>
                <a:lnTo>
                  <a:pt x="1615" y="1460"/>
                </a:lnTo>
                <a:lnTo>
                  <a:pt x="1610" y="1450"/>
                </a:lnTo>
                <a:lnTo>
                  <a:pt x="1606" y="1440"/>
                </a:lnTo>
                <a:lnTo>
                  <a:pt x="1606" y="1376"/>
                </a:lnTo>
                <a:lnTo>
                  <a:pt x="1613" y="1370"/>
                </a:lnTo>
                <a:lnTo>
                  <a:pt x="1673" y="1421"/>
                </a:lnTo>
                <a:lnTo>
                  <a:pt x="1665" y="1438"/>
                </a:lnTo>
                <a:lnTo>
                  <a:pt x="1651" y="1440"/>
                </a:lnTo>
                <a:lnTo>
                  <a:pt x="1652" y="1445"/>
                </a:lnTo>
                <a:lnTo>
                  <a:pt x="1654" y="1451"/>
                </a:lnTo>
                <a:lnTo>
                  <a:pt x="1657" y="1458"/>
                </a:lnTo>
                <a:lnTo>
                  <a:pt x="1660" y="1464"/>
                </a:lnTo>
                <a:lnTo>
                  <a:pt x="1661" y="1472"/>
                </a:lnTo>
                <a:lnTo>
                  <a:pt x="1664" y="1480"/>
                </a:lnTo>
                <a:lnTo>
                  <a:pt x="1667" y="1488"/>
                </a:lnTo>
                <a:lnTo>
                  <a:pt x="1670" y="1495"/>
                </a:lnTo>
                <a:lnTo>
                  <a:pt x="1673" y="1504"/>
                </a:lnTo>
                <a:lnTo>
                  <a:pt x="1676" y="1511"/>
                </a:lnTo>
                <a:lnTo>
                  <a:pt x="1677" y="1518"/>
                </a:lnTo>
                <a:lnTo>
                  <a:pt x="1678" y="1525"/>
                </a:lnTo>
                <a:lnTo>
                  <a:pt x="1680" y="1531"/>
                </a:lnTo>
                <a:lnTo>
                  <a:pt x="1681" y="1538"/>
                </a:lnTo>
                <a:lnTo>
                  <a:pt x="1681" y="1543"/>
                </a:lnTo>
                <a:lnTo>
                  <a:pt x="1681" y="1549"/>
                </a:lnTo>
                <a:lnTo>
                  <a:pt x="1681" y="1553"/>
                </a:lnTo>
                <a:lnTo>
                  <a:pt x="1681" y="1559"/>
                </a:lnTo>
                <a:lnTo>
                  <a:pt x="1680" y="1563"/>
                </a:lnTo>
                <a:lnTo>
                  <a:pt x="1678" y="1568"/>
                </a:lnTo>
                <a:lnTo>
                  <a:pt x="1677" y="1572"/>
                </a:lnTo>
                <a:lnTo>
                  <a:pt x="1676" y="1576"/>
                </a:lnTo>
                <a:lnTo>
                  <a:pt x="1674" y="1581"/>
                </a:lnTo>
                <a:lnTo>
                  <a:pt x="1673" y="1585"/>
                </a:lnTo>
                <a:lnTo>
                  <a:pt x="1671" y="1589"/>
                </a:lnTo>
                <a:lnTo>
                  <a:pt x="1668" y="1592"/>
                </a:lnTo>
                <a:lnTo>
                  <a:pt x="1665" y="1597"/>
                </a:lnTo>
                <a:lnTo>
                  <a:pt x="1664" y="1600"/>
                </a:lnTo>
                <a:lnTo>
                  <a:pt x="1661" y="1602"/>
                </a:lnTo>
                <a:lnTo>
                  <a:pt x="1658" y="1605"/>
                </a:lnTo>
                <a:lnTo>
                  <a:pt x="1654" y="1608"/>
                </a:lnTo>
                <a:lnTo>
                  <a:pt x="1651" y="1611"/>
                </a:lnTo>
                <a:lnTo>
                  <a:pt x="1651" y="1614"/>
                </a:lnTo>
                <a:lnTo>
                  <a:pt x="1651" y="1617"/>
                </a:lnTo>
                <a:lnTo>
                  <a:pt x="1651" y="1620"/>
                </a:lnTo>
                <a:lnTo>
                  <a:pt x="1651" y="1623"/>
                </a:lnTo>
                <a:lnTo>
                  <a:pt x="1652" y="1626"/>
                </a:lnTo>
                <a:lnTo>
                  <a:pt x="1652" y="1629"/>
                </a:lnTo>
                <a:lnTo>
                  <a:pt x="1652" y="1632"/>
                </a:lnTo>
                <a:lnTo>
                  <a:pt x="1652" y="1634"/>
                </a:lnTo>
                <a:lnTo>
                  <a:pt x="1654" y="1637"/>
                </a:lnTo>
                <a:lnTo>
                  <a:pt x="1654" y="1640"/>
                </a:lnTo>
                <a:lnTo>
                  <a:pt x="1655" y="1643"/>
                </a:lnTo>
                <a:lnTo>
                  <a:pt x="1655" y="1646"/>
                </a:lnTo>
                <a:lnTo>
                  <a:pt x="1657" y="1648"/>
                </a:lnTo>
                <a:lnTo>
                  <a:pt x="1658" y="1649"/>
                </a:lnTo>
                <a:lnTo>
                  <a:pt x="1660" y="1650"/>
                </a:lnTo>
                <a:lnTo>
                  <a:pt x="1661" y="1652"/>
                </a:lnTo>
                <a:lnTo>
                  <a:pt x="1663" y="1653"/>
                </a:lnTo>
                <a:lnTo>
                  <a:pt x="1665" y="1653"/>
                </a:lnTo>
                <a:lnTo>
                  <a:pt x="1668" y="1655"/>
                </a:lnTo>
                <a:lnTo>
                  <a:pt x="1671" y="1655"/>
                </a:lnTo>
                <a:lnTo>
                  <a:pt x="1676" y="1656"/>
                </a:lnTo>
                <a:lnTo>
                  <a:pt x="1678" y="1656"/>
                </a:lnTo>
                <a:lnTo>
                  <a:pt x="1681" y="1656"/>
                </a:lnTo>
                <a:lnTo>
                  <a:pt x="1686" y="1655"/>
                </a:lnTo>
                <a:lnTo>
                  <a:pt x="1690" y="1655"/>
                </a:lnTo>
                <a:lnTo>
                  <a:pt x="1693" y="1653"/>
                </a:lnTo>
                <a:lnTo>
                  <a:pt x="1697" y="1653"/>
                </a:lnTo>
                <a:lnTo>
                  <a:pt x="1700" y="1652"/>
                </a:lnTo>
                <a:lnTo>
                  <a:pt x="1705" y="1650"/>
                </a:lnTo>
                <a:lnTo>
                  <a:pt x="1708" y="1649"/>
                </a:lnTo>
                <a:lnTo>
                  <a:pt x="1710" y="1646"/>
                </a:lnTo>
                <a:lnTo>
                  <a:pt x="1713" y="1645"/>
                </a:lnTo>
                <a:lnTo>
                  <a:pt x="1716" y="1642"/>
                </a:lnTo>
                <a:lnTo>
                  <a:pt x="1719" y="1639"/>
                </a:lnTo>
                <a:lnTo>
                  <a:pt x="1721" y="1634"/>
                </a:lnTo>
                <a:lnTo>
                  <a:pt x="1724" y="1632"/>
                </a:lnTo>
                <a:lnTo>
                  <a:pt x="1725" y="1627"/>
                </a:lnTo>
                <a:lnTo>
                  <a:pt x="1726" y="1623"/>
                </a:lnTo>
                <a:lnTo>
                  <a:pt x="1728" y="1618"/>
                </a:lnTo>
                <a:lnTo>
                  <a:pt x="1729" y="1614"/>
                </a:lnTo>
                <a:lnTo>
                  <a:pt x="1731" y="1610"/>
                </a:lnTo>
                <a:lnTo>
                  <a:pt x="1732" y="1605"/>
                </a:lnTo>
                <a:lnTo>
                  <a:pt x="1732" y="1601"/>
                </a:lnTo>
                <a:lnTo>
                  <a:pt x="1732" y="1597"/>
                </a:lnTo>
                <a:lnTo>
                  <a:pt x="1734" y="1592"/>
                </a:lnTo>
                <a:lnTo>
                  <a:pt x="1734" y="1589"/>
                </a:lnTo>
                <a:lnTo>
                  <a:pt x="1734" y="1585"/>
                </a:lnTo>
                <a:lnTo>
                  <a:pt x="1735" y="1582"/>
                </a:lnTo>
                <a:lnTo>
                  <a:pt x="1753" y="1586"/>
                </a:lnTo>
                <a:lnTo>
                  <a:pt x="1753" y="1594"/>
                </a:lnTo>
                <a:lnTo>
                  <a:pt x="1756" y="1598"/>
                </a:lnTo>
                <a:lnTo>
                  <a:pt x="1757" y="1604"/>
                </a:lnTo>
                <a:lnTo>
                  <a:pt x="1760" y="1607"/>
                </a:lnTo>
                <a:lnTo>
                  <a:pt x="1764" y="1611"/>
                </a:lnTo>
                <a:lnTo>
                  <a:pt x="1769" y="1614"/>
                </a:lnTo>
                <a:lnTo>
                  <a:pt x="1772" y="1616"/>
                </a:lnTo>
                <a:lnTo>
                  <a:pt x="1777" y="1617"/>
                </a:lnTo>
                <a:lnTo>
                  <a:pt x="1782" y="1618"/>
                </a:lnTo>
                <a:lnTo>
                  <a:pt x="1786" y="1618"/>
                </a:lnTo>
                <a:lnTo>
                  <a:pt x="1790" y="1618"/>
                </a:lnTo>
                <a:lnTo>
                  <a:pt x="1796" y="1617"/>
                </a:lnTo>
                <a:lnTo>
                  <a:pt x="1801" y="1616"/>
                </a:lnTo>
                <a:lnTo>
                  <a:pt x="1805" y="1614"/>
                </a:lnTo>
                <a:lnTo>
                  <a:pt x="1809" y="1613"/>
                </a:lnTo>
                <a:lnTo>
                  <a:pt x="1814" y="1611"/>
                </a:lnTo>
                <a:lnTo>
                  <a:pt x="1817" y="1608"/>
                </a:lnTo>
                <a:lnTo>
                  <a:pt x="1819" y="1607"/>
                </a:lnTo>
                <a:lnTo>
                  <a:pt x="1822" y="1605"/>
                </a:lnTo>
                <a:lnTo>
                  <a:pt x="1825" y="1602"/>
                </a:lnTo>
                <a:lnTo>
                  <a:pt x="1828" y="1600"/>
                </a:lnTo>
                <a:lnTo>
                  <a:pt x="1830" y="1597"/>
                </a:lnTo>
                <a:lnTo>
                  <a:pt x="1831" y="1594"/>
                </a:lnTo>
                <a:lnTo>
                  <a:pt x="1833" y="1591"/>
                </a:lnTo>
                <a:lnTo>
                  <a:pt x="1834" y="1588"/>
                </a:lnTo>
                <a:lnTo>
                  <a:pt x="1835" y="1585"/>
                </a:lnTo>
                <a:lnTo>
                  <a:pt x="1835" y="1582"/>
                </a:lnTo>
                <a:lnTo>
                  <a:pt x="1835" y="1578"/>
                </a:lnTo>
                <a:lnTo>
                  <a:pt x="1835" y="1575"/>
                </a:lnTo>
                <a:lnTo>
                  <a:pt x="1835" y="1570"/>
                </a:lnTo>
                <a:lnTo>
                  <a:pt x="1834" y="1568"/>
                </a:lnTo>
                <a:lnTo>
                  <a:pt x="1834" y="1563"/>
                </a:lnTo>
                <a:lnTo>
                  <a:pt x="1831" y="1559"/>
                </a:lnTo>
                <a:lnTo>
                  <a:pt x="1825" y="1552"/>
                </a:lnTo>
                <a:lnTo>
                  <a:pt x="1818" y="1543"/>
                </a:lnTo>
                <a:lnTo>
                  <a:pt x="1808" y="1533"/>
                </a:lnTo>
                <a:lnTo>
                  <a:pt x="1796" y="1521"/>
                </a:lnTo>
                <a:lnTo>
                  <a:pt x="1783" y="1509"/>
                </a:lnTo>
                <a:lnTo>
                  <a:pt x="1769" y="1496"/>
                </a:lnTo>
                <a:lnTo>
                  <a:pt x="1753" y="1482"/>
                </a:lnTo>
                <a:lnTo>
                  <a:pt x="1737" y="1467"/>
                </a:lnTo>
                <a:lnTo>
                  <a:pt x="1721" y="1453"/>
                </a:lnTo>
                <a:lnTo>
                  <a:pt x="1705" y="1438"/>
                </a:lnTo>
                <a:lnTo>
                  <a:pt x="1689" y="1424"/>
                </a:lnTo>
                <a:lnTo>
                  <a:pt x="1673" y="1411"/>
                </a:lnTo>
                <a:lnTo>
                  <a:pt x="1658" y="1396"/>
                </a:lnTo>
                <a:lnTo>
                  <a:pt x="1644" y="1384"/>
                </a:lnTo>
                <a:lnTo>
                  <a:pt x="1632" y="1373"/>
                </a:lnTo>
                <a:lnTo>
                  <a:pt x="1629" y="1320"/>
                </a:lnTo>
                <a:lnTo>
                  <a:pt x="1636" y="1323"/>
                </a:lnTo>
                <a:lnTo>
                  <a:pt x="1642" y="1326"/>
                </a:lnTo>
                <a:lnTo>
                  <a:pt x="1649" y="1329"/>
                </a:lnTo>
                <a:lnTo>
                  <a:pt x="1657" y="1333"/>
                </a:lnTo>
                <a:lnTo>
                  <a:pt x="1664" y="1338"/>
                </a:lnTo>
                <a:lnTo>
                  <a:pt x="1671" y="1342"/>
                </a:lnTo>
                <a:lnTo>
                  <a:pt x="1677" y="1345"/>
                </a:lnTo>
                <a:lnTo>
                  <a:pt x="1684" y="1349"/>
                </a:lnTo>
                <a:lnTo>
                  <a:pt x="1690" y="1354"/>
                </a:lnTo>
                <a:lnTo>
                  <a:pt x="1696" y="1357"/>
                </a:lnTo>
                <a:lnTo>
                  <a:pt x="1700" y="1360"/>
                </a:lnTo>
                <a:lnTo>
                  <a:pt x="1705" y="1363"/>
                </a:lnTo>
                <a:lnTo>
                  <a:pt x="1709" y="1365"/>
                </a:lnTo>
                <a:lnTo>
                  <a:pt x="1710" y="1367"/>
                </a:lnTo>
                <a:lnTo>
                  <a:pt x="1712" y="1368"/>
                </a:lnTo>
                <a:lnTo>
                  <a:pt x="1713" y="1368"/>
                </a:lnTo>
                <a:lnTo>
                  <a:pt x="1716" y="1377"/>
                </a:lnTo>
                <a:lnTo>
                  <a:pt x="1696" y="1380"/>
                </a:lnTo>
                <a:lnTo>
                  <a:pt x="1716" y="1395"/>
                </a:lnTo>
                <a:lnTo>
                  <a:pt x="1734" y="1409"/>
                </a:lnTo>
                <a:lnTo>
                  <a:pt x="1751" y="1424"/>
                </a:lnTo>
                <a:lnTo>
                  <a:pt x="1767" y="1437"/>
                </a:lnTo>
                <a:lnTo>
                  <a:pt x="1783" y="1450"/>
                </a:lnTo>
                <a:lnTo>
                  <a:pt x="1796" y="1461"/>
                </a:lnTo>
                <a:lnTo>
                  <a:pt x="1808" y="1474"/>
                </a:lnTo>
                <a:lnTo>
                  <a:pt x="1819" y="1486"/>
                </a:lnTo>
                <a:lnTo>
                  <a:pt x="1830" y="1498"/>
                </a:lnTo>
                <a:lnTo>
                  <a:pt x="1838" y="1509"/>
                </a:lnTo>
                <a:lnTo>
                  <a:pt x="1846" y="1521"/>
                </a:lnTo>
                <a:lnTo>
                  <a:pt x="1851" y="1533"/>
                </a:lnTo>
                <a:lnTo>
                  <a:pt x="1857" y="1544"/>
                </a:lnTo>
                <a:lnTo>
                  <a:pt x="1860" y="1556"/>
                </a:lnTo>
                <a:lnTo>
                  <a:pt x="1863" y="1568"/>
                </a:lnTo>
                <a:lnTo>
                  <a:pt x="1865" y="1579"/>
                </a:lnTo>
                <a:lnTo>
                  <a:pt x="1865" y="1588"/>
                </a:lnTo>
                <a:lnTo>
                  <a:pt x="1865" y="1597"/>
                </a:lnTo>
                <a:lnTo>
                  <a:pt x="1865" y="1604"/>
                </a:lnTo>
                <a:lnTo>
                  <a:pt x="1865" y="1613"/>
                </a:lnTo>
                <a:lnTo>
                  <a:pt x="1863" y="1620"/>
                </a:lnTo>
                <a:lnTo>
                  <a:pt x="1862" y="1629"/>
                </a:lnTo>
                <a:lnTo>
                  <a:pt x="1859" y="1636"/>
                </a:lnTo>
                <a:lnTo>
                  <a:pt x="1857" y="1643"/>
                </a:lnTo>
                <a:lnTo>
                  <a:pt x="1854" y="1650"/>
                </a:lnTo>
                <a:lnTo>
                  <a:pt x="1850" y="1656"/>
                </a:lnTo>
                <a:lnTo>
                  <a:pt x="1846" y="1662"/>
                </a:lnTo>
                <a:lnTo>
                  <a:pt x="1841" y="1668"/>
                </a:lnTo>
                <a:lnTo>
                  <a:pt x="1837" y="1672"/>
                </a:lnTo>
                <a:lnTo>
                  <a:pt x="1831" y="1677"/>
                </a:lnTo>
                <a:lnTo>
                  <a:pt x="1824" y="1681"/>
                </a:lnTo>
                <a:lnTo>
                  <a:pt x="1817" y="1682"/>
                </a:lnTo>
                <a:lnTo>
                  <a:pt x="1812" y="1684"/>
                </a:lnTo>
                <a:lnTo>
                  <a:pt x="1806" y="1685"/>
                </a:lnTo>
                <a:lnTo>
                  <a:pt x="1801" y="1685"/>
                </a:lnTo>
                <a:lnTo>
                  <a:pt x="1796" y="1687"/>
                </a:lnTo>
                <a:lnTo>
                  <a:pt x="1790" y="1687"/>
                </a:lnTo>
                <a:lnTo>
                  <a:pt x="1786" y="1687"/>
                </a:lnTo>
                <a:lnTo>
                  <a:pt x="1782" y="1685"/>
                </a:lnTo>
                <a:lnTo>
                  <a:pt x="1777" y="1685"/>
                </a:lnTo>
                <a:lnTo>
                  <a:pt x="1772" y="1684"/>
                </a:lnTo>
                <a:lnTo>
                  <a:pt x="1767" y="1682"/>
                </a:lnTo>
                <a:lnTo>
                  <a:pt x="1763" y="1680"/>
                </a:lnTo>
                <a:lnTo>
                  <a:pt x="1758" y="1677"/>
                </a:lnTo>
                <a:lnTo>
                  <a:pt x="1754" y="1674"/>
                </a:lnTo>
                <a:lnTo>
                  <a:pt x="1750" y="1671"/>
                </a:lnTo>
                <a:lnTo>
                  <a:pt x="1747" y="1666"/>
                </a:lnTo>
                <a:lnTo>
                  <a:pt x="1742" y="1662"/>
                </a:lnTo>
                <a:lnTo>
                  <a:pt x="1740" y="1668"/>
                </a:lnTo>
                <a:lnTo>
                  <a:pt x="1738" y="1674"/>
                </a:lnTo>
                <a:lnTo>
                  <a:pt x="1735" y="1680"/>
                </a:lnTo>
                <a:lnTo>
                  <a:pt x="1732" y="1684"/>
                </a:lnTo>
                <a:lnTo>
                  <a:pt x="1731" y="1690"/>
                </a:lnTo>
                <a:lnTo>
                  <a:pt x="1728" y="1694"/>
                </a:lnTo>
                <a:lnTo>
                  <a:pt x="1725" y="1698"/>
                </a:lnTo>
                <a:lnTo>
                  <a:pt x="1722" y="1703"/>
                </a:lnTo>
                <a:lnTo>
                  <a:pt x="1718" y="1706"/>
                </a:lnTo>
                <a:lnTo>
                  <a:pt x="1715" y="1710"/>
                </a:lnTo>
                <a:lnTo>
                  <a:pt x="1710" y="1713"/>
                </a:lnTo>
                <a:lnTo>
                  <a:pt x="1708" y="1716"/>
                </a:lnTo>
                <a:lnTo>
                  <a:pt x="1703" y="1719"/>
                </a:lnTo>
                <a:lnTo>
                  <a:pt x="1697" y="1720"/>
                </a:lnTo>
                <a:lnTo>
                  <a:pt x="1693" y="1722"/>
                </a:lnTo>
                <a:lnTo>
                  <a:pt x="1687" y="1725"/>
                </a:lnTo>
                <a:lnTo>
                  <a:pt x="1683" y="1725"/>
                </a:lnTo>
                <a:lnTo>
                  <a:pt x="1678" y="1725"/>
                </a:lnTo>
                <a:lnTo>
                  <a:pt x="1673" y="1726"/>
                </a:lnTo>
                <a:lnTo>
                  <a:pt x="1668" y="1726"/>
                </a:lnTo>
                <a:lnTo>
                  <a:pt x="1664" y="1726"/>
                </a:lnTo>
                <a:lnTo>
                  <a:pt x="1660" y="1726"/>
                </a:lnTo>
                <a:lnTo>
                  <a:pt x="1655" y="1725"/>
                </a:lnTo>
                <a:lnTo>
                  <a:pt x="1651" y="1725"/>
                </a:lnTo>
                <a:lnTo>
                  <a:pt x="1647" y="1723"/>
                </a:lnTo>
                <a:lnTo>
                  <a:pt x="1644" y="1722"/>
                </a:lnTo>
                <a:lnTo>
                  <a:pt x="1639" y="1720"/>
                </a:lnTo>
                <a:lnTo>
                  <a:pt x="1636" y="1719"/>
                </a:lnTo>
                <a:lnTo>
                  <a:pt x="1632" y="1716"/>
                </a:lnTo>
                <a:lnTo>
                  <a:pt x="1629" y="1713"/>
                </a:lnTo>
                <a:lnTo>
                  <a:pt x="1626" y="1710"/>
                </a:lnTo>
                <a:lnTo>
                  <a:pt x="1625" y="1707"/>
                </a:lnTo>
                <a:lnTo>
                  <a:pt x="1622" y="1713"/>
                </a:lnTo>
                <a:lnTo>
                  <a:pt x="1619" y="1719"/>
                </a:lnTo>
                <a:lnTo>
                  <a:pt x="1616" y="1723"/>
                </a:lnTo>
                <a:lnTo>
                  <a:pt x="1613" y="1728"/>
                </a:lnTo>
                <a:lnTo>
                  <a:pt x="1609" y="1732"/>
                </a:lnTo>
                <a:lnTo>
                  <a:pt x="1606" y="1736"/>
                </a:lnTo>
                <a:lnTo>
                  <a:pt x="1601" y="1739"/>
                </a:lnTo>
                <a:lnTo>
                  <a:pt x="1597" y="1744"/>
                </a:lnTo>
                <a:lnTo>
                  <a:pt x="1591" y="1746"/>
                </a:lnTo>
                <a:lnTo>
                  <a:pt x="1587" y="1749"/>
                </a:lnTo>
                <a:lnTo>
                  <a:pt x="1581" y="1751"/>
                </a:lnTo>
                <a:lnTo>
                  <a:pt x="1575" y="1752"/>
                </a:lnTo>
                <a:lnTo>
                  <a:pt x="1571" y="1755"/>
                </a:lnTo>
                <a:lnTo>
                  <a:pt x="1565" y="1757"/>
                </a:lnTo>
                <a:lnTo>
                  <a:pt x="1558" y="1757"/>
                </a:lnTo>
                <a:lnTo>
                  <a:pt x="1552" y="1758"/>
                </a:lnTo>
                <a:lnTo>
                  <a:pt x="1543" y="1758"/>
                </a:lnTo>
                <a:lnTo>
                  <a:pt x="1536" y="1757"/>
                </a:lnTo>
                <a:lnTo>
                  <a:pt x="1529" y="1757"/>
                </a:lnTo>
                <a:lnTo>
                  <a:pt x="1523" y="1755"/>
                </a:lnTo>
                <a:lnTo>
                  <a:pt x="1517" y="1752"/>
                </a:lnTo>
                <a:lnTo>
                  <a:pt x="1513" y="1751"/>
                </a:lnTo>
                <a:lnTo>
                  <a:pt x="1508" y="1748"/>
                </a:lnTo>
                <a:lnTo>
                  <a:pt x="1504" y="1745"/>
                </a:lnTo>
                <a:lnTo>
                  <a:pt x="1501" y="1742"/>
                </a:lnTo>
                <a:lnTo>
                  <a:pt x="1497" y="1739"/>
                </a:lnTo>
                <a:lnTo>
                  <a:pt x="1494" y="1736"/>
                </a:lnTo>
                <a:lnTo>
                  <a:pt x="1491" y="1732"/>
                </a:lnTo>
                <a:lnTo>
                  <a:pt x="1488" y="1729"/>
                </a:lnTo>
                <a:lnTo>
                  <a:pt x="1485" y="1726"/>
                </a:lnTo>
                <a:lnTo>
                  <a:pt x="1481" y="1725"/>
                </a:lnTo>
                <a:lnTo>
                  <a:pt x="1478" y="1722"/>
                </a:lnTo>
                <a:lnTo>
                  <a:pt x="1475" y="1722"/>
                </a:lnTo>
                <a:lnTo>
                  <a:pt x="1472" y="1723"/>
                </a:lnTo>
                <a:lnTo>
                  <a:pt x="1469" y="1725"/>
                </a:lnTo>
                <a:lnTo>
                  <a:pt x="1466" y="1728"/>
                </a:lnTo>
                <a:lnTo>
                  <a:pt x="1465" y="1730"/>
                </a:lnTo>
                <a:lnTo>
                  <a:pt x="1463" y="1733"/>
                </a:lnTo>
                <a:lnTo>
                  <a:pt x="1462" y="1738"/>
                </a:lnTo>
                <a:lnTo>
                  <a:pt x="1461" y="1744"/>
                </a:lnTo>
                <a:lnTo>
                  <a:pt x="1459" y="1748"/>
                </a:lnTo>
                <a:lnTo>
                  <a:pt x="1459" y="1754"/>
                </a:lnTo>
                <a:lnTo>
                  <a:pt x="1459" y="1758"/>
                </a:lnTo>
                <a:lnTo>
                  <a:pt x="1461" y="1764"/>
                </a:lnTo>
                <a:lnTo>
                  <a:pt x="1462" y="1770"/>
                </a:lnTo>
                <a:lnTo>
                  <a:pt x="1463" y="1774"/>
                </a:lnTo>
                <a:lnTo>
                  <a:pt x="1465" y="1780"/>
                </a:lnTo>
                <a:lnTo>
                  <a:pt x="1468" y="1784"/>
                </a:lnTo>
                <a:lnTo>
                  <a:pt x="1469" y="1786"/>
                </a:lnTo>
                <a:lnTo>
                  <a:pt x="1471" y="1787"/>
                </a:lnTo>
                <a:lnTo>
                  <a:pt x="1474" y="1789"/>
                </a:lnTo>
                <a:lnTo>
                  <a:pt x="1476" y="1790"/>
                </a:lnTo>
                <a:lnTo>
                  <a:pt x="1481" y="1793"/>
                </a:lnTo>
                <a:lnTo>
                  <a:pt x="1485" y="1794"/>
                </a:lnTo>
                <a:lnTo>
                  <a:pt x="1490" y="1797"/>
                </a:lnTo>
                <a:lnTo>
                  <a:pt x="1494" y="1800"/>
                </a:lnTo>
                <a:lnTo>
                  <a:pt x="1500" y="1803"/>
                </a:lnTo>
                <a:lnTo>
                  <a:pt x="1506" y="1805"/>
                </a:lnTo>
                <a:lnTo>
                  <a:pt x="1511" y="1809"/>
                </a:lnTo>
                <a:lnTo>
                  <a:pt x="1517" y="1812"/>
                </a:lnTo>
                <a:lnTo>
                  <a:pt x="1523" y="1815"/>
                </a:lnTo>
                <a:lnTo>
                  <a:pt x="1530" y="1818"/>
                </a:lnTo>
                <a:lnTo>
                  <a:pt x="1536" y="1822"/>
                </a:lnTo>
                <a:lnTo>
                  <a:pt x="1543" y="1825"/>
                </a:lnTo>
                <a:lnTo>
                  <a:pt x="1545" y="1828"/>
                </a:lnTo>
                <a:lnTo>
                  <a:pt x="1546" y="1831"/>
                </a:lnTo>
                <a:lnTo>
                  <a:pt x="1546" y="1835"/>
                </a:lnTo>
                <a:lnTo>
                  <a:pt x="1548" y="1841"/>
                </a:lnTo>
                <a:lnTo>
                  <a:pt x="1548" y="1847"/>
                </a:lnTo>
                <a:lnTo>
                  <a:pt x="1549" y="1853"/>
                </a:lnTo>
                <a:lnTo>
                  <a:pt x="1549" y="1860"/>
                </a:lnTo>
                <a:lnTo>
                  <a:pt x="1549" y="1866"/>
                </a:lnTo>
                <a:lnTo>
                  <a:pt x="1548" y="1873"/>
                </a:lnTo>
                <a:lnTo>
                  <a:pt x="1548" y="1879"/>
                </a:lnTo>
                <a:lnTo>
                  <a:pt x="1546" y="1885"/>
                </a:lnTo>
                <a:lnTo>
                  <a:pt x="1546" y="1890"/>
                </a:lnTo>
                <a:lnTo>
                  <a:pt x="1545" y="1895"/>
                </a:lnTo>
                <a:lnTo>
                  <a:pt x="1543" y="1898"/>
                </a:lnTo>
                <a:lnTo>
                  <a:pt x="1542" y="1901"/>
                </a:lnTo>
                <a:lnTo>
                  <a:pt x="1540" y="1902"/>
                </a:lnTo>
                <a:lnTo>
                  <a:pt x="1526" y="1893"/>
                </a:lnTo>
                <a:lnTo>
                  <a:pt x="1506" y="1883"/>
                </a:lnTo>
                <a:lnTo>
                  <a:pt x="1481" y="1870"/>
                </a:lnTo>
                <a:lnTo>
                  <a:pt x="1452" y="1854"/>
                </a:lnTo>
                <a:lnTo>
                  <a:pt x="1421" y="1837"/>
                </a:lnTo>
                <a:lnTo>
                  <a:pt x="1386" y="1819"/>
                </a:lnTo>
                <a:lnTo>
                  <a:pt x="1353" y="1800"/>
                </a:lnTo>
                <a:lnTo>
                  <a:pt x="1318" y="1781"/>
                </a:lnTo>
                <a:lnTo>
                  <a:pt x="1283" y="1762"/>
                </a:lnTo>
                <a:lnTo>
                  <a:pt x="1250" y="1744"/>
                </a:lnTo>
                <a:lnTo>
                  <a:pt x="1219" y="1725"/>
                </a:lnTo>
                <a:lnTo>
                  <a:pt x="1190" y="1709"/>
                </a:lnTo>
                <a:lnTo>
                  <a:pt x="1167" y="1693"/>
                </a:lnTo>
                <a:lnTo>
                  <a:pt x="1148" y="1680"/>
                </a:lnTo>
                <a:lnTo>
                  <a:pt x="1134" y="1668"/>
                </a:lnTo>
                <a:lnTo>
                  <a:pt x="1126" y="1659"/>
                </a:lnTo>
                <a:lnTo>
                  <a:pt x="1123" y="1652"/>
                </a:lnTo>
                <a:lnTo>
                  <a:pt x="1120" y="1646"/>
                </a:lnTo>
                <a:lnTo>
                  <a:pt x="1118" y="1639"/>
                </a:lnTo>
                <a:lnTo>
                  <a:pt x="1116" y="1632"/>
                </a:lnTo>
                <a:lnTo>
                  <a:pt x="1113" y="1626"/>
                </a:lnTo>
                <a:lnTo>
                  <a:pt x="1112" y="1618"/>
                </a:lnTo>
                <a:lnTo>
                  <a:pt x="1110" y="1613"/>
                </a:lnTo>
                <a:lnTo>
                  <a:pt x="1110" y="1605"/>
                </a:lnTo>
                <a:lnTo>
                  <a:pt x="1110" y="1598"/>
                </a:lnTo>
                <a:lnTo>
                  <a:pt x="1110" y="1591"/>
                </a:lnTo>
                <a:lnTo>
                  <a:pt x="1110" y="1584"/>
                </a:lnTo>
                <a:lnTo>
                  <a:pt x="1110" y="1576"/>
                </a:lnTo>
                <a:lnTo>
                  <a:pt x="1112" y="1569"/>
                </a:lnTo>
                <a:lnTo>
                  <a:pt x="1113" y="1562"/>
                </a:lnTo>
                <a:lnTo>
                  <a:pt x="1115" y="1554"/>
                </a:lnTo>
                <a:lnTo>
                  <a:pt x="1118" y="1546"/>
                </a:lnTo>
                <a:lnTo>
                  <a:pt x="1120" y="1538"/>
                </a:lnTo>
                <a:lnTo>
                  <a:pt x="1125" y="1531"/>
                </a:lnTo>
                <a:lnTo>
                  <a:pt x="1131" y="1522"/>
                </a:lnTo>
                <a:lnTo>
                  <a:pt x="1139" y="1515"/>
                </a:lnTo>
                <a:lnTo>
                  <a:pt x="1148" y="1505"/>
                </a:lnTo>
                <a:lnTo>
                  <a:pt x="1158" y="1496"/>
                </a:lnTo>
                <a:lnTo>
                  <a:pt x="1170" y="1486"/>
                </a:lnTo>
                <a:lnTo>
                  <a:pt x="1181" y="1474"/>
                </a:lnTo>
                <a:lnTo>
                  <a:pt x="1195" y="1464"/>
                </a:lnTo>
                <a:lnTo>
                  <a:pt x="1206" y="1453"/>
                </a:lnTo>
                <a:lnTo>
                  <a:pt x="1219" y="1441"/>
                </a:lnTo>
                <a:lnTo>
                  <a:pt x="1231" y="1428"/>
                </a:lnTo>
                <a:lnTo>
                  <a:pt x="1243" y="1416"/>
                </a:lnTo>
                <a:lnTo>
                  <a:pt x="1254" y="1402"/>
                </a:lnTo>
                <a:lnTo>
                  <a:pt x="1264" y="1389"/>
                </a:lnTo>
                <a:lnTo>
                  <a:pt x="1273" y="1376"/>
                </a:lnTo>
                <a:lnTo>
                  <a:pt x="1283" y="1376"/>
                </a:lnTo>
                <a:lnTo>
                  <a:pt x="1282" y="1374"/>
                </a:lnTo>
                <a:lnTo>
                  <a:pt x="1282" y="1373"/>
                </a:lnTo>
                <a:lnTo>
                  <a:pt x="1280" y="1371"/>
                </a:lnTo>
                <a:lnTo>
                  <a:pt x="1279" y="1370"/>
                </a:lnTo>
                <a:lnTo>
                  <a:pt x="1279" y="1368"/>
                </a:lnTo>
                <a:lnTo>
                  <a:pt x="1277" y="1367"/>
                </a:lnTo>
                <a:lnTo>
                  <a:pt x="1276" y="1364"/>
                </a:lnTo>
                <a:lnTo>
                  <a:pt x="1276" y="1363"/>
                </a:lnTo>
                <a:lnTo>
                  <a:pt x="1274" y="1361"/>
                </a:lnTo>
                <a:lnTo>
                  <a:pt x="1274" y="1360"/>
                </a:lnTo>
                <a:lnTo>
                  <a:pt x="1273" y="1357"/>
                </a:lnTo>
                <a:lnTo>
                  <a:pt x="1272" y="1355"/>
                </a:lnTo>
                <a:lnTo>
                  <a:pt x="1272" y="1352"/>
                </a:lnTo>
                <a:lnTo>
                  <a:pt x="1270" y="1351"/>
                </a:lnTo>
                <a:lnTo>
                  <a:pt x="1270" y="1348"/>
                </a:lnTo>
                <a:lnTo>
                  <a:pt x="1269" y="1347"/>
                </a:lnTo>
                <a:lnTo>
                  <a:pt x="1263" y="1357"/>
                </a:lnTo>
                <a:lnTo>
                  <a:pt x="1256" y="1365"/>
                </a:lnTo>
                <a:lnTo>
                  <a:pt x="1250" y="1371"/>
                </a:lnTo>
                <a:lnTo>
                  <a:pt x="1243" y="1377"/>
                </a:lnTo>
                <a:lnTo>
                  <a:pt x="1237" y="1381"/>
                </a:lnTo>
                <a:lnTo>
                  <a:pt x="1229" y="1386"/>
                </a:lnTo>
                <a:lnTo>
                  <a:pt x="1224" y="1389"/>
                </a:lnTo>
                <a:lnTo>
                  <a:pt x="1218" y="1390"/>
                </a:lnTo>
                <a:lnTo>
                  <a:pt x="1212" y="1390"/>
                </a:lnTo>
                <a:lnTo>
                  <a:pt x="1206" y="1392"/>
                </a:lnTo>
                <a:lnTo>
                  <a:pt x="1202" y="1392"/>
                </a:lnTo>
                <a:lnTo>
                  <a:pt x="1197" y="1392"/>
                </a:lnTo>
                <a:lnTo>
                  <a:pt x="1195" y="1390"/>
                </a:lnTo>
                <a:lnTo>
                  <a:pt x="1192" y="1390"/>
                </a:lnTo>
                <a:lnTo>
                  <a:pt x="1190" y="1390"/>
                </a:lnTo>
                <a:lnTo>
                  <a:pt x="1184" y="1415"/>
                </a:lnTo>
                <a:lnTo>
                  <a:pt x="1176" y="1438"/>
                </a:lnTo>
                <a:lnTo>
                  <a:pt x="1164" y="1458"/>
                </a:lnTo>
                <a:lnTo>
                  <a:pt x="1151" y="1476"/>
                </a:lnTo>
                <a:lnTo>
                  <a:pt x="1135" y="1492"/>
                </a:lnTo>
                <a:lnTo>
                  <a:pt x="1118" y="1505"/>
                </a:lnTo>
                <a:lnTo>
                  <a:pt x="1100" y="1517"/>
                </a:lnTo>
                <a:lnTo>
                  <a:pt x="1081" y="1527"/>
                </a:lnTo>
                <a:lnTo>
                  <a:pt x="1061" y="1536"/>
                </a:lnTo>
                <a:lnTo>
                  <a:pt x="1042" y="1543"/>
                </a:lnTo>
                <a:lnTo>
                  <a:pt x="1023" y="1547"/>
                </a:lnTo>
                <a:lnTo>
                  <a:pt x="1004" y="1552"/>
                </a:lnTo>
                <a:lnTo>
                  <a:pt x="987" y="1554"/>
                </a:lnTo>
                <a:lnTo>
                  <a:pt x="971" y="1556"/>
                </a:lnTo>
                <a:lnTo>
                  <a:pt x="958" y="1557"/>
                </a:lnTo>
                <a:lnTo>
                  <a:pt x="946" y="1557"/>
                </a:lnTo>
                <a:lnTo>
                  <a:pt x="895" y="1556"/>
                </a:lnTo>
                <a:lnTo>
                  <a:pt x="844" y="1550"/>
                </a:lnTo>
                <a:lnTo>
                  <a:pt x="795" y="1541"/>
                </a:lnTo>
                <a:lnTo>
                  <a:pt x="746" y="1531"/>
                </a:lnTo>
                <a:lnTo>
                  <a:pt x="699" y="1517"/>
                </a:lnTo>
                <a:lnTo>
                  <a:pt x="654" y="1501"/>
                </a:lnTo>
                <a:lnTo>
                  <a:pt x="610" y="1482"/>
                </a:lnTo>
                <a:lnTo>
                  <a:pt x="568" y="1461"/>
                </a:lnTo>
                <a:lnTo>
                  <a:pt x="529" y="1440"/>
                </a:lnTo>
                <a:lnTo>
                  <a:pt x="493" y="1415"/>
                </a:lnTo>
                <a:lnTo>
                  <a:pt x="458" y="1390"/>
                </a:lnTo>
                <a:lnTo>
                  <a:pt x="427" y="1363"/>
                </a:lnTo>
                <a:lnTo>
                  <a:pt x="400" y="1335"/>
                </a:lnTo>
                <a:lnTo>
                  <a:pt x="375" y="1307"/>
                </a:lnTo>
                <a:lnTo>
                  <a:pt x="353" y="1277"/>
                </a:lnTo>
                <a:lnTo>
                  <a:pt x="336" y="1248"/>
                </a:lnTo>
                <a:lnTo>
                  <a:pt x="314" y="1265"/>
                </a:lnTo>
                <a:lnTo>
                  <a:pt x="292" y="1283"/>
                </a:lnTo>
                <a:lnTo>
                  <a:pt x="270" y="1300"/>
                </a:lnTo>
                <a:lnTo>
                  <a:pt x="250" y="1317"/>
                </a:lnTo>
                <a:lnTo>
                  <a:pt x="228" y="1333"/>
                </a:lnTo>
                <a:lnTo>
                  <a:pt x="208" y="1351"/>
                </a:lnTo>
                <a:lnTo>
                  <a:pt x="187" y="1368"/>
                </a:lnTo>
                <a:lnTo>
                  <a:pt x="167" y="1386"/>
                </a:lnTo>
                <a:lnTo>
                  <a:pt x="147" y="1403"/>
                </a:lnTo>
                <a:lnTo>
                  <a:pt x="128" y="1421"/>
                </a:lnTo>
                <a:lnTo>
                  <a:pt x="108" y="1438"/>
                </a:lnTo>
                <a:lnTo>
                  <a:pt x="89" y="1456"/>
                </a:lnTo>
                <a:lnTo>
                  <a:pt x="68" y="1473"/>
                </a:lnTo>
                <a:lnTo>
                  <a:pt x="49" y="1490"/>
                </a:lnTo>
                <a:lnTo>
                  <a:pt x="31" y="1506"/>
                </a:lnTo>
                <a:lnTo>
                  <a:pt x="12" y="1524"/>
                </a:lnTo>
                <a:lnTo>
                  <a:pt x="9" y="1525"/>
                </a:lnTo>
                <a:lnTo>
                  <a:pt x="6" y="1525"/>
                </a:lnTo>
                <a:lnTo>
                  <a:pt x="4" y="1525"/>
                </a:lnTo>
                <a:lnTo>
                  <a:pt x="3" y="1525"/>
                </a:lnTo>
                <a:lnTo>
                  <a:pt x="1" y="1525"/>
                </a:lnTo>
                <a:lnTo>
                  <a:pt x="0" y="1525"/>
                </a:lnTo>
                <a:lnTo>
                  <a:pt x="0" y="1524"/>
                </a:lnTo>
                <a:lnTo>
                  <a:pt x="0" y="1522"/>
                </a:lnTo>
                <a:lnTo>
                  <a:pt x="0" y="1521"/>
                </a:lnTo>
                <a:lnTo>
                  <a:pt x="1" y="1520"/>
                </a:lnTo>
                <a:lnTo>
                  <a:pt x="1" y="1518"/>
                </a:lnTo>
                <a:lnTo>
                  <a:pt x="3" y="1515"/>
                </a:lnTo>
                <a:lnTo>
                  <a:pt x="4" y="1514"/>
                </a:lnTo>
                <a:lnTo>
                  <a:pt x="6" y="1511"/>
                </a:lnTo>
                <a:lnTo>
                  <a:pt x="7" y="1508"/>
                </a:lnTo>
                <a:lnTo>
                  <a:pt x="23" y="1490"/>
                </a:lnTo>
                <a:lnTo>
                  <a:pt x="41" y="1474"/>
                </a:lnTo>
                <a:lnTo>
                  <a:pt x="58" y="1457"/>
                </a:lnTo>
                <a:lnTo>
                  <a:pt x="77" y="1440"/>
                </a:lnTo>
                <a:lnTo>
                  <a:pt x="94" y="1422"/>
                </a:lnTo>
                <a:lnTo>
                  <a:pt x="113" y="1405"/>
                </a:lnTo>
                <a:lnTo>
                  <a:pt x="132" y="1387"/>
                </a:lnTo>
                <a:lnTo>
                  <a:pt x="151" y="1370"/>
                </a:lnTo>
                <a:lnTo>
                  <a:pt x="170" y="1352"/>
                </a:lnTo>
                <a:lnTo>
                  <a:pt x="190" y="1335"/>
                </a:lnTo>
                <a:lnTo>
                  <a:pt x="211" y="1316"/>
                </a:lnTo>
                <a:lnTo>
                  <a:pt x="233" y="1299"/>
                </a:lnTo>
                <a:lnTo>
                  <a:pt x="254" y="1280"/>
                </a:lnTo>
                <a:lnTo>
                  <a:pt x="276" y="1261"/>
                </a:lnTo>
                <a:lnTo>
                  <a:pt x="299" y="1242"/>
                </a:lnTo>
                <a:lnTo>
                  <a:pt x="324" y="1224"/>
                </a:lnTo>
                <a:lnTo>
                  <a:pt x="321" y="1217"/>
                </a:lnTo>
                <a:lnTo>
                  <a:pt x="320" y="1211"/>
                </a:lnTo>
                <a:lnTo>
                  <a:pt x="318" y="1205"/>
                </a:lnTo>
                <a:lnTo>
                  <a:pt x="315" y="1198"/>
                </a:lnTo>
                <a:lnTo>
                  <a:pt x="314" y="1192"/>
                </a:lnTo>
                <a:lnTo>
                  <a:pt x="312" y="1187"/>
                </a:lnTo>
                <a:lnTo>
                  <a:pt x="311" y="1181"/>
                </a:lnTo>
                <a:lnTo>
                  <a:pt x="310" y="1175"/>
                </a:lnTo>
                <a:lnTo>
                  <a:pt x="310" y="1169"/>
                </a:lnTo>
                <a:lnTo>
                  <a:pt x="308" y="1163"/>
                </a:lnTo>
                <a:lnTo>
                  <a:pt x="308" y="1157"/>
                </a:lnTo>
                <a:lnTo>
                  <a:pt x="307" y="1152"/>
                </a:lnTo>
                <a:lnTo>
                  <a:pt x="307" y="1144"/>
                </a:lnTo>
                <a:lnTo>
                  <a:pt x="307" y="1140"/>
                </a:lnTo>
                <a:lnTo>
                  <a:pt x="307" y="1133"/>
                </a:lnTo>
                <a:lnTo>
                  <a:pt x="307" y="1127"/>
                </a:lnTo>
                <a:lnTo>
                  <a:pt x="315" y="1078"/>
                </a:lnTo>
                <a:lnTo>
                  <a:pt x="328" y="1031"/>
                </a:lnTo>
                <a:lnTo>
                  <a:pt x="349" y="989"/>
                </a:lnTo>
                <a:lnTo>
                  <a:pt x="375" y="951"/>
                </a:lnTo>
                <a:lnTo>
                  <a:pt x="407" y="918"/>
                </a:lnTo>
                <a:lnTo>
                  <a:pt x="442" y="887"/>
                </a:lnTo>
                <a:lnTo>
                  <a:pt x="481" y="859"/>
                </a:lnTo>
                <a:lnTo>
                  <a:pt x="525" y="838"/>
                </a:lnTo>
                <a:lnTo>
                  <a:pt x="570" y="817"/>
                </a:lnTo>
                <a:lnTo>
                  <a:pt x="619" y="800"/>
                </a:lnTo>
                <a:lnTo>
                  <a:pt x="668" y="787"/>
                </a:lnTo>
                <a:lnTo>
                  <a:pt x="719" y="775"/>
                </a:lnTo>
                <a:lnTo>
                  <a:pt x="772" y="768"/>
                </a:lnTo>
                <a:lnTo>
                  <a:pt x="824" y="762"/>
                </a:lnTo>
                <a:lnTo>
                  <a:pt x="876" y="758"/>
                </a:lnTo>
                <a:lnTo>
                  <a:pt x="927" y="758"/>
                </a:lnTo>
                <a:lnTo>
                  <a:pt x="943" y="758"/>
                </a:lnTo>
                <a:lnTo>
                  <a:pt x="958" y="758"/>
                </a:lnTo>
                <a:lnTo>
                  <a:pt x="974" y="758"/>
                </a:lnTo>
                <a:lnTo>
                  <a:pt x="987" y="759"/>
                </a:lnTo>
                <a:lnTo>
                  <a:pt x="1001" y="759"/>
                </a:lnTo>
                <a:lnTo>
                  <a:pt x="1016" y="761"/>
                </a:lnTo>
                <a:lnTo>
                  <a:pt x="1029" y="762"/>
                </a:lnTo>
                <a:lnTo>
                  <a:pt x="1043" y="762"/>
                </a:lnTo>
                <a:lnTo>
                  <a:pt x="1057" y="763"/>
                </a:lnTo>
                <a:lnTo>
                  <a:pt x="1070" y="766"/>
                </a:lnTo>
                <a:lnTo>
                  <a:pt x="1081" y="768"/>
                </a:lnTo>
                <a:lnTo>
                  <a:pt x="1094" y="769"/>
                </a:lnTo>
                <a:lnTo>
                  <a:pt x="1107" y="772"/>
                </a:lnTo>
                <a:lnTo>
                  <a:pt x="1119" y="774"/>
                </a:lnTo>
                <a:lnTo>
                  <a:pt x="1132" y="777"/>
                </a:lnTo>
                <a:lnTo>
                  <a:pt x="1144" y="779"/>
                </a:lnTo>
                <a:close/>
                <a:moveTo>
                  <a:pt x="1379" y="865"/>
                </a:moveTo>
                <a:lnTo>
                  <a:pt x="1383" y="867"/>
                </a:lnTo>
                <a:lnTo>
                  <a:pt x="1386" y="870"/>
                </a:lnTo>
                <a:lnTo>
                  <a:pt x="1389" y="871"/>
                </a:lnTo>
                <a:lnTo>
                  <a:pt x="1394" y="872"/>
                </a:lnTo>
                <a:lnTo>
                  <a:pt x="1397" y="874"/>
                </a:lnTo>
                <a:lnTo>
                  <a:pt x="1401" y="877"/>
                </a:lnTo>
                <a:lnTo>
                  <a:pt x="1404" y="878"/>
                </a:lnTo>
                <a:lnTo>
                  <a:pt x="1408" y="880"/>
                </a:lnTo>
                <a:lnTo>
                  <a:pt x="1411" y="881"/>
                </a:lnTo>
                <a:lnTo>
                  <a:pt x="1414" y="884"/>
                </a:lnTo>
                <a:lnTo>
                  <a:pt x="1418" y="886"/>
                </a:lnTo>
                <a:lnTo>
                  <a:pt x="1421" y="887"/>
                </a:lnTo>
                <a:lnTo>
                  <a:pt x="1424" y="888"/>
                </a:lnTo>
                <a:lnTo>
                  <a:pt x="1429" y="891"/>
                </a:lnTo>
                <a:lnTo>
                  <a:pt x="1431" y="893"/>
                </a:lnTo>
                <a:lnTo>
                  <a:pt x="1434" y="894"/>
                </a:lnTo>
                <a:lnTo>
                  <a:pt x="1431" y="888"/>
                </a:lnTo>
                <a:lnTo>
                  <a:pt x="1429" y="884"/>
                </a:lnTo>
                <a:lnTo>
                  <a:pt x="1424" y="878"/>
                </a:lnTo>
                <a:lnTo>
                  <a:pt x="1421" y="874"/>
                </a:lnTo>
                <a:lnTo>
                  <a:pt x="1417" y="868"/>
                </a:lnTo>
                <a:lnTo>
                  <a:pt x="1414" y="864"/>
                </a:lnTo>
                <a:lnTo>
                  <a:pt x="1410" y="859"/>
                </a:lnTo>
                <a:lnTo>
                  <a:pt x="1405" y="854"/>
                </a:lnTo>
                <a:lnTo>
                  <a:pt x="1402" y="849"/>
                </a:lnTo>
                <a:lnTo>
                  <a:pt x="1398" y="845"/>
                </a:lnTo>
                <a:lnTo>
                  <a:pt x="1394" y="840"/>
                </a:lnTo>
                <a:lnTo>
                  <a:pt x="1389" y="836"/>
                </a:lnTo>
                <a:lnTo>
                  <a:pt x="1385" y="830"/>
                </a:lnTo>
                <a:lnTo>
                  <a:pt x="1381" y="826"/>
                </a:lnTo>
                <a:lnTo>
                  <a:pt x="1376" y="822"/>
                </a:lnTo>
                <a:lnTo>
                  <a:pt x="1372" y="817"/>
                </a:lnTo>
                <a:lnTo>
                  <a:pt x="1373" y="822"/>
                </a:lnTo>
                <a:lnTo>
                  <a:pt x="1373" y="824"/>
                </a:lnTo>
                <a:lnTo>
                  <a:pt x="1375" y="827"/>
                </a:lnTo>
                <a:lnTo>
                  <a:pt x="1375" y="832"/>
                </a:lnTo>
                <a:lnTo>
                  <a:pt x="1375" y="835"/>
                </a:lnTo>
                <a:lnTo>
                  <a:pt x="1376" y="838"/>
                </a:lnTo>
                <a:lnTo>
                  <a:pt x="1376" y="840"/>
                </a:lnTo>
                <a:lnTo>
                  <a:pt x="1376" y="845"/>
                </a:lnTo>
                <a:lnTo>
                  <a:pt x="1376" y="848"/>
                </a:lnTo>
                <a:lnTo>
                  <a:pt x="1378" y="851"/>
                </a:lnTo>
                <a:lnTo>
                  <a:pt x="1378" y="854"/>
                </a:lnTo>
                <a:lnTo>
                  <a:pt x="1378" y="855"/>
                </a:lnTo>
                <a:lnTo>
                  <a:pt x="1378" y="858"/>
                </a:lnTo>
                <a:lnTo>
                  <a:pt x="1379" y="861"/>
                </a:lnTo>
                <a:lnTo>
                  <a:pt x="1379" y="864"/>
                </a:lnTo>
                <a:lnTo>
                  <a:pt x="1379" y="865"/>
                </a:lnTo>
                <a:close/>
                <a:moveTo>
                  <a:pt x="673" y="1108"/>
                </a:moveTo>
                <a:lnTo>
                  <a:pt x="677" y="1130"/>
                </a:lnTo>
                <a:lnTo>
                  <a:pt x="684" y="1150"/>
                </a:lnTo>
                <a:lnTo>
                  <a:pt x="696" y="1169"/>
                </a:lnTo>
                <a:lnTo>
                  <a:pt x="711" y="1187"/>
                </a:lnTo>
                <a:lnTo>
                  <a:pt x="727" y="1204"/>
                </a:lnTo>
                <a:lnTo>
                  <a:pt x="744" y="1219"/>
                </a:lnTo>
                <a:lnTo>
                  <a:pt x="764" y="1233"/>
                </a:lnTo>
                <a:lnTo>
                  <a:pt x="785" y="1245"/>
                </a:lnTo>
                <a:lnTo>
                  <a:pt x="807" y="1256"/>
                </a:lnTo>
                <a:lnTo>
                  <a:pt x="828" y="1265"/>
                </a:lnTo>
                <a:lnTo>
                  <a:pt x="850" y="1274"/>
                </a:lnTo>
                <a:lnTo>
                  <a:pt x="870" y="1280"/>
                </a:lnTo>
                <a:lnTo>
                  <a:pt x="892" y="1285"/>
                </a:lnTo>
                <a:lnTo>
                  <a:pt x="911" y="1288"/>
                </a:lnTo>
                <a:lnTo>
                  <a:pt x="929" y="1291"/>
                </a:lnTo>
                <a:lnTo>
                  <a:pt x="945" y="1291"/>
                </a:lnTo>
                <a:lnTo>
                  <a:pt x="961" y="1291"/>
                </a:lnTo>
                <a:lnTo>
                  <a:pt x="977" y="1290"/>
                </a:lnTo>
                <a:lnTo>
                  <a:pt x="993" y="1288"/>
                </a:lnTo>
                <a:lnTo>
                  <a:pt x="1009" y="1287"/>
                </a:lnTo>
                <a:lnTo>
                  <a:pt x="1025" y="1285"/>
                </a:lnTo>
                <a:lnTo>
                  <a:pt x="1041" y="1283"/>
                </a:lnTo>
                <a:lnTo>
                  <a:pt x="1055" y="1278"/>
                </a:lnTo>
                <a:lnTo>
                  <a:pt x="1070" y="1274"/>
                </a:lnTo>
                <a:lnTo>
                  <a:pt x="1084" y="1268"/>
                </a:lnTo>
                <a:lnTo>
                  <a:pt x="1096" y="1262"/>
                </a:lnTo>
                <a:lnTo>
                  <a:pt x="1107" y="1255"/>
                </a:lnTo>
                <a:lnTo>
                  <a:pt x="1118" y="1246"/>
                </a:lnTo>
                <a:lnTo>
                  <a:pt x="1128" y="1236"/>
                </a:lnTo>
                <a:lnTo>
                  <a:pt x="1135" y="1224"/>
                </a:lnTo>
                <a:lnTo>
                  <a:pt x="1139" y="1211"/>
                </a:lnTo>
                <a:lnTo>
                  <a:pt x="1144" y="1197"/>
                </a:lnTo>
                <a:lnTo>
                  <a:pt x="1144" y="1191"/>
                </a:lnTo>
                <a:lnTo>
                  <a:pt x="1144" y="1184"/>
                </a:lnTo>
                <a:lnTo>
                  <a:pt x="1144" y="1176"/>
                </a:lnTo>
                <a:lnTo>
                  <a:pt x="1142" y="1171"/>
                </a:lnTo>
                <a:lnTo>
                  <a:pt x="1141" y="1163"/>
                </a:lnTo>
                <a:lnTo>
                  <a:pt x="1139" y="1157"/>
                </a:lnTo>
                <a:lnTo>
                  <a:pt x="1138" y="1150"/>
                </a:lnTo>
                <a:lnTo>
                  <a:pt x="1135" y="1144"/>
                </a:lnTo>
                <a:lnTo>
                  <a:pt x="1132" y="1139"/>
                </a:lnTo>
                <a:lnTo>
                  <a:pt x="1131" y="1133"/>
                </a:lnTo>
                <a:lnTo>
                  <a:pt x="1128" y="1127"/>
                </a:lnTo>
                <a:lnTo>
                  <a:pt x="1125" y="1121"/>
                </a:lnTo>
                <a:lnTo>
                  <a:pt x="1123" y="1115"/>
                </a:lnTo>
                <a:lnTo>
                  <a:pt x="1120" y="1111"/>
                </a:lnTo>
                <a:lnTo>
                  <a:pt x="1119" y="1105"/>
                </a:lnTo>
                <a:lnTo>
                  <a:pt x="1118" y="1101"/>
                </a:lnTo>
                <a:lnTo>
                  <a:pt x="1110" y="1105"/>
                </a:lnTo>
                <a:lnTo>
                  <a:pt x="1103" y="1110"/>
                </a:lnTo>
                <a:lnTo>
                  <a:pt x="1097" y="1114"/>
                </a:lnTo>
                <a:lnTo>
                  <a:pt x="1090" y="1118"/>
                </a:lnTo>
                <a:lnTo>
                  <a:pt x="1084" y="1121"/>
                </a:lnTo>
                <a:lnTo>
                  <a:pt x="1077" y="1125"/>
                </a:lnTo>
                <a:lnTo>
                  <a:pt x="1070" y="1130"/>
                </a:lnTo>
                <a:lnTo>
                  <a:pt x="1062" y="1133"/>
                </a:lnTo>
                <a:lnTo>
                  <a:pt x="1055" y="1136"/>
                </a:lnTo>
                <a:lnTo>
                  <a:pt x="1048" y="1139"/>
                </a:lnTo>
                <a:lnTo>
                  <a:pt x="1041" y="1141"/>
                </a:lnTo>
                <a:lnTo>
                  <a:pt x="1033" y="1143"/>
                </a:lnTo>
                <a:lnTo>
                  <a:pt x="1025" y="1144"/>
                </a:lnTo>
                <a:lnTo>
                  <a:pt x="1017" y="1144"/>
                </a:lnTo>
                <a:lnTo>
                  <a:pt x="1009" y="1144"/>
                </a:lnTo>
                <a:lnTo>
                  <a:pt x="1000" y="1144"/>
                </a:lnTo>
                <a:lnTo>
                  <a:pt x="988" y="1143"/>
                </a:lnTo>
                <a:lnTo>
                  <a:pt x="979" y="1140"/>
                </a:lnTo>
                <a:lnTo>
                  <a:pt x="971" y="1137"/>
                </a:lnTo>
                <a:lnTo>
                  <a:pt x="965" y="1134"/>
                </a:lnTo>
                <a:lnTo>
                  <a:pt x="961" y="1130"/>
                </a:lnTo>
                <a:lnTo>
                  <a:pt x="956" y="1125"/>
                </a:lnTo>
                <a:lnTo>
                  <a:pt x="953" y="1121"/>
                </a:lnTo>
                <a:lnTo>
                  <a:pt x="950" y="1117"/>
                </a:lnTo>
                <a:lnTo>
                  <a:pt x="948" y="1112"/>
                </a:lnTo>
                <a:lnTo>
                  <a:pt x="946" y="1108"/>
                </a:lnTo>
                <a:lnTo>
                  <a:pt x="945" y="1104"/>
                </a:lnTo>
                <a:lnTo>
                  <a:pt x="942" y="1101"/>
                </a:lnTo>
                <a:lnTo>
                  <a:pt x="939" y="1099"/>
                </a:lnTo>
                <a:lnTo>
                  <a:pt x="934" y="1098"/>
                </a:lnTo>
                <a:lnTo>
                  <a:pt x="930" y="1098"/>
                </a:lnTo>
                <a:lnTo>
                  <a:pt x="924" y="1099"/>
                </a:lnTo>
                <a:lnTo>
                  <a:pt x="921" y="1099"/>
                </a:lnTo>
                <a:lnTo>
                  <a:pt x="917" y="1101"/>
                </a:lnTo>
                <a:lnTo>
                  <a:pt x="913" y="1101"/>
                </a:lnTo>
                <a:lnTo>
                  <a:pt x="910" y="1102"/>
                </a:lnTo>
                <a:lnTo>
                  <a:pt x="905" y="1104"/>
                </a:lnTo>
                <a:lnTo>
                  <a:pt x="902" y="1105"/>
                </a:lnTo>
                <a:lnTo>
                  <a:pt x="900" y="1107"/>
                </a:lnTo>
                <a:lnTo>
                  <a:pt x="897" y="1108"/>
                </a:lnTo>
                <a:lnTo>
                  <a:pt x="894" y="1110"/>
                </a:lnTo>
                <a:lnTo>
                  <a:pt x="891" y="1112"/>
                </a:lnTo>
                <a:lnTo>
                  <a:pt x="889" y="1115"/>
                </a:lnTo>
                <a:lnTo>
                  <a:pt x="888" y="1118"/>
                </a:lnTo>
                <a:lnTo>
                  <a:pt x="886" y="1123"/>
                </a:lnTo>
                <a:lnTo>
                  <a:pt x="885" y="1127"/>
                </a:lnTo>
                <a:lnTo>
                  <a:pt x="884" y="1131"/>
                </a:lnTo>
                <a:lnTo>
                  <a:pt x="884" y="1137"/>
                </a:lnTo>
                <a:lnTo>
                  <a:pt x="885" y="1141"/>
                </a:lnTo>
                <a:lnTo>
                  <a:pt x="886" y="1146"/>
                </a:lnTo>
                <a:lnTo>
                  <a:pt x="888" y="1150"/>
                </a:lnTo>
                <a:lnTo>
                  <a:pt x="892" y="1155"/>
                </a:lnTo>
                <a:lnTo>
                  <a:pt x="895" y="1159"/>
                </a:lnTo>
                <a:lnTo>
                  <a:pt x="901" y="1163"/>
                </a:lnTo>
                <a:lnTo>
                  <a:pt x="905" y="1168"/>
                </a:lnTo>
                <a:lnTo>
                  <a:pt x="911" y="1173"/>
                </a:lnTo>
                <a:lnTo>
                  <a:pt x="917" y="1178"/>
                </a:lnTo>
                <a:lnTo>
                  <a:pt x="923" y="1182"/>
                </a:lnTo>
                <a:lnTo>
                  <a:pt x="929" y="1187"/>
                </a:lnTo>
                <a:lnTo>
                  <a:pt x="934" y="1191"/>
                </a:lnTo>
                <a:lnTo>
                  <a:pt x="940" y="1195"/>
                </a:lnTo>
                <a:lnTo>
                  <a:pt x="946" y="1200"/>
                </a:lnTo>
                <a:lnTo>
                  <a:pt x="952" y="1203"/>
                </a:lnTo>
                <a:lnTo>
                  <a:pt x="956" y="1207"/>
                </a:lnTo>
                <a:lnTo>
                  <a:pt x="956" y="1210"/>
                </a:lnTo>
                <a:lnTo>
                  <a:pt x="955" y="1211"/>
                </a:lnTo>
                <a:lnTo>
                  <a:pt x="955" y="1214"/>
                </a:lnTo>
                <a:lnTo>
                  <a:pt x="953" y="1219"/>
                </a:lnTo>
                <a:lnTo>
                  <a:pt x="952" y="1223"/>
                </a:lnTo>
                <a:lnTo>
                  <a:pt x="950" y="1227"/>
                </a:lnTo>
                <a:lnTo>
                  <a:pt x="949" y="1233"/>
                </a:lnTo>
                <a:lnTo>
                  <a:pt x="946" y="1237"/>
                </a:lnTo>
                <a:lnTo>
                  <a:pt x="945" y="1242"/>
                </a:lnTo>
                <a:lnTo>
                  <a:pt x="942" y="1246"/>
                </a:lnTo>
                <a:lnTo>
                  <a:pt x="940" y="1251"/>
                </a:lnTo>
                <a:lnTo>
                  <a:pt x="937" y="1253"/>
                </a:lnTo>
                <a:lnTo>
                  <a:pt x="934" y="1256"/>
                </a:lnTo>
                <a:lnTo>
                  <a:pt x="932" y="1259"/>
                </a:lnTo>
                <a:lnTo>
                  <a:pt x="930" y="1259"/>
                </a:lnTo>
                <a:lnTo>
                  <a:pt x="910" y="1249"/>
                </a:lnTo>
                <a:lnTo>
                  <a:pt x="892" y="1237"/>
                </a:lnTo>
                <a:lnTo>
                  <a:pt x="875" y="1226"/>
                </a:lnTo>
                <a:lnTo>
                  <a:pt x="859" y="1214"/>
                </a:lnTo>
                <a:lnTo>
                  <a:pt x="844" y="1203"/>
                </a:lnTo>
                <a:lnTo>
                  <a:pt x="830" y="1191"/>
                </a:lnTo>
                <a:lnTo>
                  <a:pt x="818" y="1181"/>
                </a:lnTo>
                <a:lnTo>
                  <a:pt x="805" y="1169"/>
                </a:lnTo>
                <a:lnTo>
                  <a:pt x="795" y="1159"/>
                </a:lnTo>
                <a:lnTo>
                  <a:pt x="783" y="1150"/>
                </a:lnTo>
                <a:lnTo>
                  <a:pt x="773" y="1141"/>
                </a:lnTo>
                <a:lnTo>
                  <a:pt x="764" y="1133"/>
                </a:lnTo>
                <a:lnTo>
                  <a:pt x="756" y="1127"/>
                </a:lnTo>
                <a:lnTo>
                  <a:pt x="747" y="1121"/>
                </a:lnTo>
                <a:lnTo>
                  <a:pt x="738" y="1117"/>
                </a:lnTo>
                <a:lnTo>
                  <a:pt x="731" y="1114"/>
                </a:lnTo>
                <a:lnTo>
                  <a:pt x="727" y="1112"/>
                </a:lnTo>
                <a:lnTo>
                  <a:pt x="724" y="1111"/>
                </a:lnTo>
                <a:lnTo>
                  <a:pt x="721" y="1111"/>
                </a:lnTo>
                <a:lnTo>
                  <a:pt x="716" y="1110"/>
                </a:lnTo>
                <a:lnTo>
                  <a:pt x="714" y="1110"/>
                </a:lnTo>
                <a:lnTo>
                  <a:pt x="711" y="1110"/>
                </a:lnTo>
                <a:lnTo>
                  <a:pt x="706" y="1108"/>
                </a:lnTo>
                <a:lnTo>
                  <a:pt x="703" y="1108"/>
                </a:lnTo>
                <a:lnTo>
                  <a:pt x="699" y="1108"/>
                </a:lnTo>
                <a:lnTo>
                  <a:pt x="696" y="1108"/>
                </a:lnTo>
                <a:lnTo>
                  <a:pt x="692" y="1108"/>
                </a:lnTo>
                <a:lnTo>
                  <a:pt x="689" y="1108"/>
                </a:lnTo>
                <a:lnTo>
                  <a:pt x="684" y="1108"/>
                </a:lnTo>
                <a:lnTo>
                  <a:pt x="680" y="1108"/>
                </a:lnTo>
                <a:lnTo>
                  <a:pt x="676" y="1108"/>
                </a:lnTo>
                <a:lnTo>
                  <a:pt x="673" y="1108"/>
                </a:lnTo>
                <a:close/>
                <a:moveTo>
                  <a:pt x="1288" y="476"/>
                </a:moveTo>
                <a:lnTo>
                  <a:pt x="1283" y="484"/>
                </a:lnTo>
                <a:lnTo>
                  <a:pt x="1279" y="491"/>
                </a:lnTo>
                <a:lnTo>
                  <a:pt x="1274" y="500"/>
                </a:lnTo>
                <a:lnTo>
                  <a:pt x="1269" y="509"/>
                </a:lnTo>
                <a:lnTo>
                  <a:pt x="1264" y="518"/>
                </a:lnTo>
                <a:lnTo>
                  <a:pt x="1259" y="526"/>
                </a:lnTo>
                <a:lnTo>
                  <a:pt x="1254" y="535"/>
                </a:lnTo>
                <a:lnTo>
                  <a:pt x="1250" y="544"/>
                </a:lnTo>
                <a:lnTo>
                  <a:pt x="1245" y="553"/>
                </a:lnTo>
                <a:lnTo>
                  <a:pt x="1243" y="561"/>
                </a:lnTo>
                <a:lnTo>
                  <a:pt x="1240" y="570"/>
                </a:lnTo>
                <a:lnTo>
                  <a:pt x="1238" y="579"/>
                </a:lnTo>
                <a:lnTo>
                  <a:pt x="1237" y="586"/>
                </a:lnTo>
                <a:lnTo>
                  <a:pt x="1238" y="593"/>
                </a:lnTo>
                <a:lnTo>
                  <a:pt x="1240" y="602"/>
                </a:lnTo>
                <a:lnTo>
                  <a:pt x="1243" y="608"/>
                </a:lnTo>
                <a:lnTo>
                  <a:pt x="1244" y="612"/>
                </a:lnTo>
                <a:lnTo>
                  <a:pt x="1247" y="618"/>
                </a:lnTo>
                <a:lnTo>
                  <a:pt x="1251" y="622"/>
                </a:lnTo>
                <a:lnTo>
                  <a:pt x="1254" y="627"/>
                </a:lnTo>
                <a:lnTo>
                  <a:pt x="1259" y="631"/>
                </a:lnTo>
                <a:lnTo>
                  <a:pt x="1263" y="637"/>
                </a:lnTo>
                <a:lnTo>
                  <a:pt x="1267" y="641"/>
                </a:lnTo>
                <a:lnTo>
                  <a:pt x="1273" y="646"/>
                </a:lnTo>
                <a:lnTo>
                  <a:pt x="1277" y="651"/>
                </a:lnTo>
                <a:lnTo>
                  <a:pt x="1283" y="656"/>
                </a:lnTo>
                <a:lnTo>
                  <a:pt x="1289" y="662"/>
                </a:lnTo>
                <a:lnTo>
                  <a:pt x="1296" y="666"/>
                </a:lnTo>
                <a:lnTo>
                  <a:pt x="1302" y="672"/>
                </a:lnTo>
                <a:lnTo>
                  <a:pt x="1308" y="678"/>
                </a:lnTo>
                <a:lnTo>
                  <a:pt x="1315" y="682"/>
                </a:lnTo>
                <a:lnTo>
                  <a:pt x="1321" y="688"/>
                </a:lnTo>
                <a:lnTo>
                  <a:pt x="1320" y="675"/>
                </a:lnTo>
                <a:lnTo>
                  <a:pt x="1318" y="660"/>
                </a:lnTo>
                <a:lnTo>
                  <a:pt x="1315" y="647"/>
                </a:lnTo>
                <a:lnTo>
                  <a:pt x="1314" y="634"/>
                </a:lnTo>
                <a:lnTo>
                  <a:pt x="1312" y="619"/>
                </a:lnTo>
                <a:lnTo>
                  <a:pt x="1309" y="606"/>
                </a:lnTo>
                <a:lnTo>
                  <a:pt x="1308" y="593"/>
                </a:lnTo>
                <a:lnTo>
                  <a:pt x="1305" y="580"/>
                </a:lnTo>
                <a:lnTo>
                  <a:pt x="1304" y="567"/>
                </a:lnTo>
                <a:lnTo>
                  <a:pt x="1301" y="554"/>
                </a:lnTo>
                <a:lnTo>
                  <a:pt x="1299" y="541"/>
                </a:lnTo>
                <a:lnTo>
                  <a:pt x="1296" y="528"/>
                </a:lnTo>
                <a:lnTo>
                  <a:pt x="1295" y="515"/>
                </a:lnTo>
                <a:lnTo>
                  <a:pt x="1292" y="502"/>
                </a:lnTo>
                <a:lnTo>
                  <a:pt x="1290" y="489"/>
                </a:lnTo>
                <a:lnTo>
                  <a:pt x="1288" y="476"/>
                </a:lnTo>
                <a:close/>
                <a:moveTo>
                  <a:pt x="1523" y="1299"/>
                </a:moveTo>
                <a:lnTo>
                  <a:pt x="1516" y="1297"/>
                </a:lnTo>
                <a:lnTo>
                  <a:pt x="1507" y="1296"/>
                </a:lnTo>
                <a:lnTo>
                  <a:pt x="1500" y="1294"/>
                </a:lnTo>
                <a:lnTo>
                  <a:pt x="1491" y="1294"/>
                </a:lnTo>
                <a:lnTo>
                  <a:pt x="1482" y="1293"/>
                </a:lnTo>
                <a:lnTo>
                  <a:pt x="1474" y="1293"/>
                </a:lnTo>
                <a:lnTo>
                  <a:pt x="1465" y="1293"/>
                </a:lnTo>
                <a:lnTo>
                  <a:pt x="1456" y="1291"/>
                </a:lnTo>
                <a:lnTo>
                  <a:pt x="1447" y="1291"/>
                </a:lnTo>
                <a:lnTo>
                  <a:pt x="1439" y="1291"/>
                </a:lnTo>
                <a:lnTo>
                  <a:pt x="1430" y="1291"/>
                </a:lnTo>
                <a:lnTo>
                  <a:pt x="1420" y="1293"/>
                </a:lnTo>
                <a:lnTo>
                  <a:pt x="1411" y="1293"/>
                </a:lnTo>
                <a:lnTo>
                  <a:pt x="1402" y="1294"/>
                </a:lnTo>
                <a:lnTo>
                  <a:pt x="1394" y="1294"/>
                </a:lnTo>
                <a:lnTo>
                  <a:pt x="1383" y="1296"/>
                </a:lnTo>
                <a:lnTo>
                  <a:pt x="1386" y="1300"/>
                </a:lnTo>
                <a:lnTo>
                  <a:pt x="1388" y="1306"/>
                </a:lnTo>
                <a:lnTo>
                  <a:pt x="1389" y="1310"/>
                </a:lnTo>
                <a:lnTo>
                  <a:pt x="1391" y="1315"/>
                </a:lnTo>
                <a:lnTo>
                  <a:pt x="1392" y="1317"/>
                </a:lnTo>
                <a:lnTo>
                  <a:pt x="1394" y="1322"/>
                </a:lnTo>
                <a:lnTo>
                  <a:pt x="1395" y="1325"/>
                </a:lnTo>
                <a:lnTo>
                  <a:pt x="1395" y="1329"/>
                </a:lnTo>
                <a:lnTo>
                  <a:pt x="1397" y="1332"/>
                </a:lnTo>
                <a:lnTo>
                  <a:pt x="1397" y="1336"/>
                </a:lnTo>
                <a:lnTo>
                  <a:pt x="1398" y="1339"/>
                </a:lnTo>
                <a:lnTo>
                  <a:pt x="1398" y="1344"/>
                </a:lnTo>
                <a:lnTo>
                  <a:pt x="1398" y="1347"/>
                </a:lnTo>
                <a:lnTo>
                  <a:pt x="1398" y="1351"/>
                </a:lnTo>
                <a:lnTo>
                  <a:pt x="1398" y="1354"/>
                </a:lnTo>
                <a:lnTo>
                  <a:pt x="1398" y="1358"/>
                </a:lnTo>
                <a:lnTo>
                  <a:pt x="1398" y="1361"/>
                </a:lnTo>
                <a:lnTo>
                  <a:pt x="1398" y="1364"/>
                </a:lnTo>
                <a:lnTo>
                  <a:pt x="1397" y="1368"/>
                </a:lnTo>
                <a:lnTo>
                  <a:pt x="1395" y="1373"/>
                </a:lnTo>
                <a:lnTo>
                  <a:pt x="1394" y="1377"/>
                </a:lnTo>
                <a:lnTo>
                  <a:pt x="1392" y="1381"/>
                </a:lnTo>
                <a:lnTo>
                  <a:pt x="1389" y="1386"/>
                </a:lnTo>
                <a:lnTo>
                  <a:pt x="1386" y="1390"/>
                </a:lnTo>
                <a:lnTo>
                  <a:pt x="1383" y="1395"/>
                </a:lnTo>
                <a:lnTo>
                  <a:pt x="1381" y="1399"/>
                </a:lnTo>
                <a:lnTo>
                  <a:pt x="1376" y="1403"/>
                </a:lnTo>
                <a:lnTo>
                  <a:pt x="1372" y="1406"/>
                </a:lnTo>
                <a:lnTo>
                  <a:pt x="1368" y="1409"/>
                </a:lnTo>
                <a:lnTo>
                  <a:pt x="1362" y="1412"/>
                </a:lnTo>
                <a:lnTo>
                  <a:pt x="1356" y="1413"/>
                </a:lnTo>
                <a:lnTo>
                  <a:pt x="1350" y="1413"/>
                </a:lnTo>
                <a:lnTo>
                  <a:pt x="1347" y="1413"/>
                </a:lnTo>
                <a:lnTo>
                  <a:pt x="1343" y="1413"/>
                </a:lnTo>
                <a:lnTo>
                  <a:pt x="1338" y="1412"/>
                </a:lnTo>
                <a:lnTo>
                  <a:pt x="1336" y="1412"/>
                </a:lnTo>
                <a:lnTo>
                  <a:pt x="1331" y="1411"/>
                </a:lnTo>
                <a:lnTo>
                  <a:pt x="1327" y="1409"/>
                </a:lnTo>
                <a:lnTo>
                  <a:pt x="1324" y="1408"/>
                </a:lnTo>
                <a:lnTo>
                  <a:pt x="1320" y="1405"/>
                </a:lnTo>
                <a:lnTo>
                  <a:pt x="1315" y="1403"/>
                </a:lnTo>
                <a:lnTo>
                  <a:pt x="1311" y="1400"/>
                </a:lnTo>
                <a:lnTo>
                  <a:pt x="1306" y="1397"/>
                </a:lnTo>
                <a:lnTo>
                  <a:pt x="1304" y="1396"/>
                </a:lnTo>
                <a:lnTo>
                  <a:pt x="1299" y="1393"/>
                </a:lnTo>
                <a:lnTo>
                  <a:pt x="1295" y="1389"/>
                </a:lnTo>
                <a:lnTo>
                  <a:pt x="1292" y="1386"/>
                </a:lnTo>
                <a:lnTo>
                  <a:pt x="1288" y="1383"/>
                </a:lnTo>
                <a:lnTo>
                  <a:pt x="1285" y="1393"/>
                </a:lnTo>
                <a:lnTo>
                  <a:pt x="1280" y="1405"/>
                </a:lnTo>
                <a:lnTo>
                  <a:pt x="1277" y="1415"/>
                </a:lnTo>
                <a:lnTo>
                  <a:pt x="1273" y="1425"/>
                </a:lnTo>
                <a:lnTo>
                  <a:pt x="1269" y="1435"/>
                </a:lnTo>
                <a:lnTo>
                  <a:pt x="1264" y="1445"/>
                </a:lnTo>
                <a:lnTo>
                  <a:pt x="1260" y="1454"/>
                </a:lnTo>
                <a:lnTo>
                  <a:pt x="1256" y="1464"/>
                </a:lnTo>
                <a:lnTo>
                  <a:pt x="1251" y="1473"/>
                </a:lnTo>
                <a:lnTo>
                  <a:pt x="1247" y="1483"/>
                </a:lnTo>
                <a:lnTo>
                  <a:pt x="1243" y="1492"/>
                </a:lnTo>
                <a:lnTo>
                  <a:pt x="1238" y="1501"/>
                </a:lnTo>
                <a:lnTo>
                  <a:pt x="1234" y="1511"/>
                </a:lnTo>
                <a:lnTo>
                  <a:pt x="1229" y="1520"/>
                </a:lnTo>
                <a:lnTo>
                  <a:pt x="1227" y="1530"/>
                </a:lnTo>
                <a:lnTo>
                  <a:pt x="1224" y="1538"/>
                </a:lnTo>
                <a:lnTo>
                  <a:pt x="1222" y="1543"/>
                </a:lnTo>
                <a:lnTo>
                  <a:pt x="1222" y="1547"/>
                </a:lnTo>
                <a:lnTo>
                  <a:pt x="1224" y="1550"/>
                </a:lnTo>
                <a:lnTo>
                  <a:pt x="1225" y="1554"/>
                </a:lnTo>
                <a:lnTo>
                  <a:pt x="1228" y="1559"/>
                </a:lnTo>
                <a:lnTo>
                  <a:pt x="1231" y="1562"/>
                </a:lnTo>
                <a:lnTo>
                  <a:pt x="1234" y="1565"/>
                </a:lnTo>
                <a:lnTo>
                  <a:pt x="1238" y="1568"/>
                </a:lnTo>
                <a:lnTo>
                  <a:pt x="1243" y="1570"/>
                </a:lnTo>
                <a:lnTo>
                  <a:pt x="1247" y="1572"/>
                </a:lnTo>
                <a:lnTo>
                  <a:pt x="1251" y="1573"/>
                </a:lnTo>
                <a:lnTo>
                  <a:pt x="1257" y="1575"/>
                </a:lnTo>
                <a:lnTo>
                  <a:pt x="1261" y="1575"/>
                </a:lnTo>
                <a:lnTo>
                  <a:pt x="1266" y="1573"/>
                </a:lnTo>
                <a:lnTo>
                  <a:pt x="1270" y="1572"/>
                </a:lnTo>
                <a:lnTo>
                  <a:pt x="1273" y="1570"/>
                </a:lnTo>
                <a:lnTo>
                  <a:pt x="1277" y="1566"/>
                </a:lnTo>
                <a:lnTo>
                  <a:pt x="1282" y="1562"/>
                </a:lnTo>
                <a:lnTo>
                  <a:pt x="1286" y="1556"/>
                </a:lnTo>
                <a:lnTo>
                  <a:pt x="1290" y="1552"/>
                </a:lnTo>
                <a:lnTo>
                  <a:pt x="1295" y="1546"/>
                </a:lnTo>
                <a:lnTo>
                  <a:pt x="1299" y="1538"/>
                </a:lnTo>
                <a:lnTo>
                  <a:pt x="1302" y="1533"/>
                </a:lnTo>
                <a:lnTo>
                  <a:pt x="1306" y="1525"/>
                </a:lnTo>
                <a:lnTo>
                  <a:pt x="1311" y="1520"/>
                </a:lnTo>
                <a:lnTo>
                  <a:pt x="1315" y="1512"/>
                </a:lnTo>
                <a:lnTo>
                  <a:pt x="1321" y="1505"/>
                </a:lnTo>
                <a:lnTo>
                  <a:pt x="1325" y="1498"/>
                </a:lnTo>
                <a:lnTo>
                  <a:pt x="1331" y="1490"/>
                </a:lnTo>
                <a:lnTo>
                  <a:pt x="1336" y="1483"/>
                </a:lnTo>
                <a:lnTo>
                  <a:pt x="1341" y="1476"/>
                </a:lnTo>
                <a:lnTo>
                  <a:pt x="1349" y="1469"/>
                </a:lnTo>
                <a:lnTo>
                  <a:pt x="1359" y="1457"/>
                </a:lnTo>
                <a:lnTo>
                  <a:pt x="1372" y="1447"/>
                </a:lnTo>
                <a:lnTo>
                  <a:pt x="1385" y="1437"/>
                </a:lnTo>
                <a:lnTo>
                  <a:pt x="1399" y="1427"/>
                </a:lnTo>
                <a:lnTo>
                  <a:pt x="1414" y="1418"/>
                </a:lnTo>
                <a:lnTo>
                  <a:pt x="1429" y="1409"/>
                </a:lnTo>
                <a:lnTo>
                  <a:pt x="1443" y="1400"/>
                </a:lnTo>
                <a:lnTo>
                  <a:pt x="1456" y="1393"/>
                </a:lnTo>
                <a:lnTo>
                  <a:pt x="1469" y="1384"/>
                </a:lnTo>
                <a:lnTo>
                  <a:pt x="1482" y="1377"/>
                </a:lnTo>
                <a:lnTo>
                  <a:pt x="1494" y="1370"/>
                </a:lnTo>
                <a:lnTo>
                  <a:pt x="1503" y="1364"/>
                </a:lnTo>
                <a:lnTo>
                  <a:pt x="1511" y="1357"/>
                </a:lnTo>
                <a:lnTo>
                  <a:pt x="1517" y="1351"/>
                </a:lnTo>
                <a:lnTo>
                  <a:pt x="1522" y="1345"/>
                </a:lnTo>
                <a:lnTo>
                  <a:pt x="1523" y="1339"/>
                </a:lnTo>
                <a:lnTo>
                  <a:pt x="1523" y="1336"/>
                </a:lnTo>
                <a:lnTo>
                  <a:pt x="1523" y="1335"/>
                </a:lnTo>
                <a:lnTo>
                  <a:pt x="1523" y="1332"/>
                </a:lnTo>
                <a:lnTo>
                  <a:pt x="1523" y="1329"/>
                </a:lnTo>
                <a:lnTo>
                  <a:pt x="1523" y="1328"/>
                </a:lnTo>
                <a:lnTo>
                  <a:pt x="1523" y="1325"/>
                </a:lnTo>
                <a:lnTo>
                  <a:pt x="1523" y="1322"/>
                </a:lnTo>
                <a:lnTo>
                  <a:pt x="1523" y="1319"/>
                </a:lnTo>
                <a:lnTo>
                  <a:pt x="1523" y="1317"/>
                </a:lnTo>
                <a:lnTo>
                  <a:pt x="1523" y="1315"/>
                </a:lnTo>
                <a:lnTo>
                  <a:pt x="1523" y="1312"/>
                </a:lnTo>
                <a:lnTo>
                  <a:pt x="1523" y="1309"/>
                </a:lnTo>
                <a:lnTo>
                  <a:pt x="1523" y="1306"/>
                </a:lnTo>
                <a:lnTo>
                  <a:pt x="1523" y="1304"/>
                </a:lnTo>
                <a:lnTo>
                  <a:pt x="1523" y="1301"/>
                </a:lnTo>
                <a:lnTo>
                  <a:pt x="1523" y="1299"/>
                </a:lnTo>
                <a:close/>
                <a:moveTo>
                  <a:pt x="1305" y="1313"/>
                </a:moveTo>
                <a:lnTo>
                  <a:pt x="1305" y="1316"/>
                </a:lnTo>
                <a:lnTo>
                  <a:pt x="1306" y="1320"/>
                </a:lnTo>
                <a:lnTo>
                  <a:pt x="1308" y="1323"/>
                </a:lnTo>
                <a:lnTo>
                  <a:pt x="1311" y="1328"/>
                </a:lnTo>
                <a:lnTo>
                  <a:pt x="1314" y="1333"/>
                </a:lnTo>
                <a:lnTo>
                  <a:pt x="1318" y="1338"/>
                </a:lnTo>
                <a:lnTo>
                  <a:pt x="1322" y="1342"/>
                </a:lnTo>
                <a:lnTo>
                  <a:pt x="1325" y="1345"/>
                </a:lnTo>
                <a:lnTo>
                  <a:pt x="1330" y="1349"/>
                </a:lnTo>
                <a:lnTo>
                  <a:pt x="1334" y="1354"/>
                </a:lnTo>
                <a:lnTo>
                  <a:pt x="1338" y="1357"/>
                </a:lnTo>
                <a:lnTo>
                  <a:pt x="1343" y="1358"/>
                </a:lnTo>
                <a:lnTo>
                  <a:pt x="1346" y="1361"/>
                </a:lnTo>
                <a:lnTo>
                  <a:pt x="1349" y="1361"/>
                </a:lnTo>
                <a:lnTo>
                  <a:pt x="1352" y="1361"/>
                </a:lnTo>
                <a:lnTo>
                  <a:pt x="1353" y="1361"/>
                </a:lnTo>
                <a:lnTo>
                  <a:pt x="1354" y="1360"/>
                </a:lnTo>
                <a:lnTo>
                  <a:pt x="1356" y="1357"/>
                </a:lnTo>
                <a:lnTo>
                  <a:pt x="1357" y="1355"/>
                </a:lnTo>
                <a:lnTo>
                  <a:pt x="1357" y="1354"/>
                </a:lnTo>
                <a:lnTo>
                  <a:pt x="1357" y="1352"/>
                </a:lnTo>
                <a:lnTo>
                  <a:pt x="1357" y="1351"/>
                </a:lnTo>
                <a:lnTo>
                  <a:pt x="1357" y="1349"/>
                </a:lnTo>
                <a:lnTo>
                  <a:pt x="1357" y="1348"/>
                </a:lnTo>
                <a:lnTo>
                  <a:pt x="1357" y="1347"/>
                </a:lnTo>
                <a:lnTo>
                  <a:pt x="1357" y="1345"/>
                </a:lnTo>
                <a:lnTo>
                  <a:pt x="1356" y="1344"/>
                </a:lnTo>
                <a:lnTo>
                  <a:pt x="1354" y="1341"/>
                </a:lnTo>
                <a:lnTo>
                  <a:pt x="1354" y="1339"/>
                </a:lnTo>
                <a:lnTo>
                  <a:pt x="1353" y="1338"/>
                </a:lnTo>
                <a:lnTo>
                  <a:pt x="1352" y="1336"/>
                </a:lnTo>
                <a:lnTo>
                  <a:pt x="1350" y="1335"/>
                </a:lnTo>
                <a:lnTo>
                  <a:pt x="1349" y="1331"/>
                </a:lnTo>
                <a:lnTo>
                  <a:pt x="1346" y="1328"/>
                </a:lnTo>
                <a:lnTo>
                  <a:pt x="1343" y="1325"/>
                </a:lnTo>
                <a:lnTo>
                  <a:pt x="1340" y="1322"/>
                </a:lnTo>
                <a:lnTo>
                  <a:pt x="1337" y="1319"/>
                </a:lnTo>
                <a:lnTo>
                  <a:pt x="1334" y="1316"/>
                </a:lnTo>
                <a:lnTo>
                  <a:pt x="1331" y="1313"/>
                </a:lnTo>
                <a:lnTo>
                  <a:pt x="1328" y="1312"/>
                </a:lnTo>
                <a:lnTo>
                  <a:pt x="1325" y="1309"/>
                </a:lnTo>
                <a:lnTo>
                  <a:pt x="1322" y="1307"/>
                </a:lnTo>
                <a:lnTo>
                  <a:pt x="1320" y="1307"/>
                </a:lnTo>
                <a:lnTo>
                  <a:pt x="1317" y="1307"/>
                </a:lnTo>
                <a:lnTo>
                  <a:pt x="1314" y="1307"/>
                </a:lnTo>
                <a:lnTo>
                  <a:pt x="1311" y="1309"/>
                </a:lnTo>
                <a:lnTo>
                  <a:pt x="1308" y="1310"/>
                </a:lnTo>
                <a:lnTo>
                  <a:pt x="1305" y="1313"/>
                </a:lnTo>
                <a:close/>
                <a:moveTo>
                  <a:pt x="1633" y="1616"/>
                </a:moveTo>
                <a:lnTo>
                  <a:pt x="1628" y="1617"/>
                </a:lnTo>
                <a:lnTo>
                  <a:pt x="1622" y="1617"/>
                </a:lnTo>
                <a:lnTo>
                  <a:pt x="1616" y="1617"/>
                </a:lnTo>
                <a:lnTo>
                  <a:pt x="1610" y="1616"/>
                </a:lnTo>
                <a:lnTo>
                  <a:pt x="1604" y="1614"/>
                </a:lnTo>
                <a:lnTo>
                  <a:pt x="1600" y="1613"/>
                </a:lnTo>
                <a:lnTo>
                  <a:pt x="1596" y="1610"/>
                </a:lnTo>
                <a:lnTo>
                  <a:pt x="1591" y="1607"/>
                </a:lnTo>
                <a:lnTo>
                  <a:pt x="1587" y="1602"/>
                </a:lnTo>
                <a:lnTo>
                  <a:pt x="1584" y="1598"/>
                </a:lnTo>
                <a:lnTo>
                  <a:pt x="1580" y="1594"/>
                </a:lnTo>
                <a:lnTo>
                  <a:pt x="1577" y="1588"/>
                </a:lnTo>
                <a:lnTo>
                  <a:pt x="1572" y="1581"/>
                </a:lnTo>
                <a:lnTo>
                  <a:pt x="1570" y="1573"/>
                </a:lnTo>
                <a:lnTo>
                  <a:pt x="1565" y="1566"/>
                </a:lnTo>
                <a:lnTo>
                  <a:pt x="1562" y="1557"/>
                </a:lnTo>
                <a:lnTo>
                  <a:pt x="1561" y="1566"/>
                </a:lnTo>
                <a:lnTo>
                  <a:pt x="1559" y="1575"/>
                </a:lnTo>
                <a:lnTo>
                  <a:pt x="1556" y="1582"/>
                </a:lnTo>
                <a:lnTo>
                  <a:pt x="1554" y="1591"/>
                </a:lnTo>
                <a:lnTo>
                  <a:pt x="1551" y="1600"/>
                </a:lnTo>
                <a:lnTo>
                  <a:pt x="1546" y="1607"/>
                </a:lnTo>
                <a:lnTo>
                  <a:pt x="1543" y="1614"/>
                </a:lnTo>
                <a:lnTo>
                  <a:pt x="1538" y="1621"/>
                </a:lnTo>
                <a:lnTo>
                  <a:pt x="1533" y="1627"/>
                </a:lnTo>
                <a:lnTo>
                  <a:pt x="1527" y="1632"/>
                </a:lnTo>
                <a:lnTo>
                  <a:pt x="1522" y="1636"/>
                </a:lnTo>
                <a:lnTo>
                  <a:pt x="1516" y="1640"/>
                </a:lnTo>
                <a:lnTo>
                  <a:pt x="1508" y="1643"/>
                </a:lnTo>
                <a:lnTo>
                  <a:pt x="1503" y="1643"/>
                </a:lnTo>
                <a:lnTo>
                  <a:pt x="1495" y="1643"/>
                </a:lnTo>
                <a:lnTo>
                  <a:pt x="1488" y="1642"/>
                </a:lnTo>
                <a:lnTo>
                  <a:pt x="1482" y="1640"/>
                </a:lnTo>
                <a:lnTo>
                  <a:pt x="1478" y="1639"/>
                </a:lnTo>
                <a:lnTo>
                  <a:pt x="1474" y="1637"/>
                </a:lnTo>
                <a:lnTo>
                  <a:pt x="1469" y="1634"/>
                </a:lnTo>
                <a:lnTo>
                  <a:pt x="1465" y="1633"/>
                </a:lnTo>
                <a:lnTo>
                  <a:pt x="1462" y="1630"/>
                </a:lnTo>
                <a:lnTo>
                  <a:pt x="1459" y="1627"/>
                </a:lnTo>
                <a:lnTo>
                  <a:pt x="1456" y="1624"/>
                </a:lnTo>
                <a:lnTo>
                  <a:pt x="1455" y="1621"/>
                </a:lnTo>
                <a:lnTo>
                  <a:pt x="1452" y="1618"/>
                </a:lnTo>
                <a:lnTo>
                  <a:pt x="1450" y="1614"/>
                </a:lnTo>
                <a:lnTo>
                  <a:pt x="1449" y="1610"/>
                </a:lnTo>
                <a:lnTo>
                  <a:pt x="1447" y="1604"/>
                </a:lnTo>
                <a:lnTo>
                  <a:pt x="1446" y="1598"/>
                </a:lnTo>
                <a:lnTo>
                  <a:pt x="1445" y="1592"/>
                </a:lnTo>
                <a:lnTo>
                  <a:pt x="1445" y="1585"/>
                </a:lnTo>
                <a:lnTo>
                  <a:pt x="1443" y="1581"/>
                </a:lnTo>
                <a:lnTo>
                  <a:pt x="1443" y="1575"/>
                </a:lnTo>
                <a:lnTo>
                  <a:pt x="1443" y="1572"/>
                </a:lnTo>
                <a:lnTo>
                  <a:pt x="1443" y="1568"/>
                </a:lnTo>
                <a:lnTo>
                  <a:pt x="1443" y="1563"/>
                </a:lnTo>
                <a:lnTo>
                  <a:pt x="1443" y="1559"/>
                </a:lnTo>
                <a:lnTo>
                  <a:pt x="1443" y="1554"/>
                </a:lnTo>
                <a:lnTo>
                  <a:pt x="1445" y="1552"/>
                </a:lnTo>
                <a:lnTo>
                  <a:pt x="1445" y="1547"/>
                </a:lnTo>
                <a:lnTo>
                  <a:pt x="1445" y="1543"/>
                </a:lnTo>
                <a:lnTo>
                  <a:pt x="1445" y="1540"/>
                </a:lnTo>
                <a:lnTo>
                  <a:pt x="1445" y="1536"/>
                </a:lnTo>
                <a:lnTo>
                  <a:pt x="1445" y="1531"/>
                </a:lnTo>
                <a:lnTo>
                  <a:pt x="1445" y="1527"/>
                </a:lnTo>
                <a:lnTo>
                  <a:pt x="1445" y="1524"/>
                </a:lnTo>
                <a:lnTo>
                  <a:pt x="1445" y="1520"/>
                </a:lnTo>
                <a:lnTo>
                  <a:pt x="1437" y="1522"/>
                </a:lnTo>
                <a:lnTo>
                  <a:pt x="1431" y="1528"/>
                </a:lnTo>
                <a:lnTo>
                  <a:pt x="1427" y="1537"/>
                </a:lnTo>
                <a:lnTo>
                  <a:pt x="1423" y="1546"/>
                </a:lnTo>
                <a:lnTo>
                  <a:pt x="1420" y="1556"/>
                </a:lnTo>
                <a:lnTo>
                  <a:pt x="1417" y="1568"/>
                </a:lnTo>
                <a:lnTo>
                  <a:pt x="1414" y="1581"/>
                </a:lnTo>
                <a:lnTo>
                  <a:pt x="1413" y="1594"/>
                </a:lnTo>
                <a:lnTo>
                  <a:pt x="1410" y="1607"/>
                </a:lnTo>
                <a:lnTo>
                  <a:pt x="1408" y="1620"/>
                </a:lnTo>
                <a:lnTo>
                  <a:pt x="1405" y="1633"/>
                </a:lnTo>
                <a:lnTo>
                  <a:pt x="1404" y="1645"/>
                </a:lnTo>
                <a:lnTo>
                  <a:pt x="1399" y="1656"/>
                </a:lnTo>
                <a:lnTo>
                  <a:pt x="1397" y="1666"/>
                </a:lnTo>
                <a:lnTo>
                  <a:pt x="1392" y="1674"/>
                </a:lnTo>
                <a:lnTo>
                  <a:pt x="1386" y="1681"/>
                </a:lnTo>
                <a:lnTo>
                  <a:pt x="1383" y="1682"/>
                </a:lnTo>
                <a:lnTo>
                  <a:pt x="1381" y="1685"/>
                </a:lnTo>
                <a:lnTo>
                  <a:pt x="1376" y="1687"/>
                </a:lnTo>
                <a:lnTo>
                  <a:pt x="1373" y="1688"/>
                </a:lnTo>
                <a:lnTo>
                  <a:pt x="1370" y="1688"/>
                </a:lnTo>
                <a:lnTo>
                  <a:pt x="1368" y="1688"/>
                </a:lnTo>
                <a:lnTo>
                  <a:pt x="1363" y="1688"/>
                </a:lnTo>
                <a:lnTo>
                  <a:pt x="1360" y="1688"/>
                </a:lnTo>
                <a:lnTo>
                  <a:pt x="1357" y="1688"/>
                </a:lnTo>
                <a:lnTo>
                  <a:pt x="1353" y="1687"/>
                </a:lnTo>
                <a:lnTo>
                  <a:pt x="1350" y="1685"/>
                </a:lnTo>
                <a:lnTo>
                  <a:pt x="1347" y="1685"/>
                </a:lnTo>
                <a:lnTo>
                  <a:pt x="1344" y="1684"/>
                </a:lnTo>
                <a:lnTo>
                  <a:pt x="1341" y="1681"/>
                </a:lnTo>
                <a:lnTo>
                  <a:pt x="1338" y="1680"/>
                </a:lnTo>
                <a:lnTo>
                  <a:pt x="1336" y="1678"/>
                </a:lnTo>
                <a:lnTo>
                  <a:pt x="1333" y="1675"/>
                </a:lnTo>
                <a:lnTo>
                  <a:pt x="1328" y="1671"/>
                </a:lnTo>
                <a:lnTo>
                  <a:pt x="1325" y="1666"/>
                </a:lnTo>
                <a:lnTo>
                  <a:pt x="1324" y="1662"/>
                </a:lnTo>
                <a:lnTo>
                  <a:pt x="1321" y="1656"/>
                </a:lnTo>
                <a:lnTo>
                  <a:pt x="1320" y="1652"/>
                </a:lnTo>
                <a:lnTo>
                  <a:pt x="1318" y="1646"/>
                </a:lnTo>
                <a:lnTo>
                  <a:pt x="1317" y="1640"/>
                </a:lnTo>
                <a:lnTo>
                  <a:pt x="1315" y="1633"/>
                </a:lnTo>
                <a:lnTo>
                  <a:pt x="1314" y="1627"/>
                </a:lnTo>
                <a:lnTo>
                  <a:pt x="1312" y="1621"/>
                </a:lnTo>
                <a:lnTo>
                  <a:pt x="1311" y="1614"/>
                </a:lnTo>
                <a:lnTo>
                  <a:pt x="1309" y="1607"/>
                </a:lnTo>
                <a:lnTo>
                  <a:pt x="1306" y="1601"/>
                </a:lnTo>
                <a:lnTo>
                  <a:pt x="1305" y="1594"/>
                </a:lnTo>
                <a:lnTo>
                  <a:pt x="1302" y="1586"/>
                </a:lnTo>
                <a:lnTo>
                  <a:pt x="1299" y="1591"/>
                </a:lnTo>
                <a:lnTo>
                  <a:pt x="1295" y="1597"/>
                </a:lnTo>
                <a:lnTo>
                  <a:pt x="1292" y="1601"/>
                </a:lnTo>
                <a:lnTo>
                  <a:pt x="1288" y="1605"/>
                </a:lnTo>
                <a:lnTo>
                  <a:pt x="1285" y="1610"/>
                </a:lnTo>
                <a:lnTo>
                  <a:pt x="1282" y="1614"/>
                </a:lnTo>
                <a:lnTo>
                  <a:pt x="1277" y="1618"/>
                </a:lnTo>
                <a:lnTo>
                  <a:pt x="1274" y="1623"/>
                </a:lnTo>
                <a:lnTo>
                  <a:pt x="1272" y="1626"/>
                </a:lnTo>
                <a:lnTo>
                  <a:pt x="1269" y="1629"/>
                </a:lnTo>
                <a:lnTo>
                  <a:pt x="1266" y="1632"/>
                </a:lnTo>
                <a:lnTo>
                  <a:pt x="1263" y="1634"/>
                </a:lnTo>
                <a:lnTo>
                  <a:pt x="1260" y="1637"/>
                </a:lnTo>
                <a:lnTo>
                  <a:pt x="1259" y="1639"/>
                </a:lnTo>
                <a:lnTo>
                  <a:pt x="1256" y="1639"/>
                </a:lnTo>
                <a:lnTo>
                  <a:pt x="1254" y="1640"/>
                </a:lnTo>
                <a:lnTo>
                  <a:pt x="1250" y="1640"/>
                </a:lnTo>
                <a:lnTo>
                  <a:pt x="1247" y="1639"/>
                </a:lnTo>
                <a:lnTo>
                  <a:pt x="1243" y="1639"/>
                </a:lnTo>
                <a:lnTo>
                  <a:pt x="1240" y="1637"/>
                </a:lnTo>
                <a:lnTo>
                  <a:pt x="1235" y="1637"/>
                </a:lnTo>
                <a:lnTo>
                  <a:pt x="1232" y="1636"/>
                </a:lnTo>
                <a:lnTo>
                  <a:pt x="1229" y="1634"/>
                </a:lnTo>
                <a:lnTo>
                  <a:pt x="1225" y="1633"/>
                </a:lnTo>
                <a:lnTo>
                  <a:pt x="1222" y="1632"/>
                </a:lnTo>
                <a:lnTo>
                  <a:pt x="1219" y="1629"/>
                </a:lnTo>
                <a:lnTo>
                  <a:pt x="1218" y="1627"/>
                </a:lnTo>
                <a:lnTo>
                  <a:pt x="1215" y="1624"/>
                </a:lnTo>
                <a:lnTo>
                  <a:pt x="1212" y="1621"/>
                </a:lnTo>
                <a:lnTo>
                  <a:pt x="1211" y="1620"/>
                </a:lnTo>
                <a:lnTo>
                  <a:pt x="1208" y="1617"/>
                </a:lnTo>
                <a:lnTo>
                  <a:pt x="1206" y="1613"/>
                </a:lnTo>
                <a:lnTo>
                  <a:pt x="1202" y="1605"/>
                </a:lnTo>
                <a:lnTo>
                  <a:pt x="1199" y="1598"/>
                </a:lnTo>
                <a:lnTo>
                  <a:pt x="1197" y="1589"/>
                </a:lnTo>
                <a:lnTo>
                  <a:pt x="1196" y="1581"/>
                </a:lnTo>
                <a:lnTo>
                  <a:pt x="1195" y="1570"/>
                </a:lnTo>
                <a:lnTo>
                  <a:pt x="1196" y="1560"/>
                </a:lnTo>
                <a:lnTo>
                  <a:pt x="1196" y="1552"/>
                </a:lnTo>
                <a:lnTo>
                  <a:pt x="1197" y="1541"/>
                </a:lnTo>
                <a:lnTo>
                  <a:pt x="1200" y="1531"/>
                </a:lnTo>
                <a:lnTo>
                  <a:pt x="1202" y="1521"/>
                </a:lnTo>
                <a:lnTo>
                  <a:pt x="1205" y="1512"/>
                </a:lnTo>
                <a:lnTo>
                  <a:pt x="1208" y="1502"/>
                </a:lnTo>
                <a:lnTo>
                  <a:pt x="1211" y="1495"/>
                </a:lnTo>
                <a:lnTo>
                  <a:pt x="1215" y="1486"/>
                </a:lnTo>
                <a:lnTo>
                  <a:pt x="1218" y="1480"/>
                </a:lnTo>
                <a:lnTo>
                  <a:pt x="1221" y="1474"/>
                </a:lnTo>
                <a:lnTo>
                  <a:pt x="1212" y="1479"/>
                </a:lnTo>
                <a:lnTo>
                  <a:pt x="1202" y="1486"/>
                </a:lnTo>
                <a:lnTo>
                  <a:pt x="1195" y="1493"/>
                </a:lnTo>
                <a:lnTo>
                  <a:pt x="1186" y="1501"/>
                </a:lnTo>
                <a:lnTo>
                  <a:pt x="1179" y="1508"/>
                </a:lnTo>
                <a:lnTo>
                  <a:pt x="1173" y="1517"/>
                </a:lnTo>
                <a:lnTo>
                  <a:pt x="1167" y="1525"/>
                </a:lnTo>
                <a:lnTo>
                  <a:pt x="1161" y="1534"/>
                </a:lnTo>
                <a:lnTo>
                  <a:pt x="1158" y="1543"/>
                </a:lnTo>
                <a:lnTo>
                  <a:pt x="1154" y="1552"/>
                </a:lnTo>
                <a:lnTo>
                  <a:pt x="1152" y="1560"/>
                </a:lnTo>
                <a:lnTo>
                  <a:pt x="1151" y="1568"/>
                </a:lnTo>
                <a:lnTo>
                  <a:pt x="1152" y="1576"/>
                </a:lnTo>
                <a:lnTo>
                  <a:pt x="1154" y="1585"/>
                </a:lnTo>
                <a:lnTo>
                  <a:pt x="1157" y="1592"/>
                </a:lnTo>
                <a:lnTo>
                  <a:pt x="1161" y="1600"/>
                </a:lnTo>
                <a:lnTo>
                  <a:pt x="1166" y="1605"/>
                </a:lnTo>
                <a:lnTo>
                  <a:pt x="1174" y="1614"/>
                </a:lnTo>
                <a:lnTo>
                  <a:pt x="1184" y="1623"/>
                </a:lnTo>
                <a:lnTo>
                  <a:pt x="1196" y="1633"/>
                </a:lnTo>
                <a:lnTo>
                  <a:pt x="1209" y="1645"/>
                </a:lnTo>
                <a:lnTo>
                  <a:pt x="1225" y="1656"/>
                </a:lnTo>
                <a:lnTo>
                  <a:pt x="1243" y="1668"/>
                </a:lnTo>
                <a:lnTo>
                  <a:pt x="1260" y="1681"/>
                </a:lnTo>
                <a:lnTo>
                  <a:pt x="1279" y="1694"/>
                </a:lnTo>
                <a:lnTo>
                  <a:pt x="1299" y="1706"/>
                </a:lnTo>
                <a:lnTo>
                  <a:pt x="1320" y="1719"/>
                </a:lnTo>
                <a:lnTo>
                  <a:pt x="1341" y="1730"/>
                </a:lnTo>
                <a:lnTo>
                  <a:pt x="1363" y="1742"/>
                </a:lnTo>
                <a:lnTo>
                  <a:pt x="1385" y="1752"/>
                </a:lnTo>
                <a:lnTo>
                  <a:pt x="1408" y="1762"/>
                </a:lnTo>
                <a:lnTo>
                  <a:pt x="1430" y="1773"/>
                </a:lnTo>
                <a:lnTo>
                  <a:pt x="1429" y="1764"/>
                </a:lnTo>
                <a:lnTo>
                  <a:pt x="1429" y="1757"/>
                </a:lnTo>
                <a:lnTo>
                  <a:pt x="1430" y="1748"/>
                </a:lnTo>
                <a:lnTo>
                  <a:pt x="1433" y="1739"/>
                </a:lnTo>
                <a:lnTo>
                  <a:pt x="1434" y="1729"/>
                </a:lnTo>
                <a:lnTo>
                  <a:pt x="1439" y="1720"/>
                </a:lnTo>
                <a:lnTo>
                  <a:pt x="1443" y="1712"/>
                </a:lnTo>
                <a:lnTo>
                  <a:pt x="1447" y="1703"/>
                </a:lnTo>
                <a:lnTo>
                  <a:pt x="1452" y="1694"/>
                </a:lnTo>
                <a:lnTo>
                  <a:pt x="1458" y="1687"/>
                </a:lnTo>
                <a:lnTo>
                  <a:pt x="1462" y="1680"/>
                </a:lnTo>
                <a:lnTo>
                  <a:pt x="1468" y="1674"/>
                </a:lnTo>
                <a:lnTo>
                  <a:pt x="1474" y="1669"/>
                </a:lnTo>
                <a:lnTo>
                  <a:pt x="1479" y="1666"/>
                </a:lnTo>
                <a:lnTo>
                  <a:pt x="1485" y="1664"/>
                </a:lnTo>
                <a:lnTo>
                  <a:pt x="1490" y="1664"/>
                </a:lnTo>
                <a:lnTo>
                  <a:pt x="1494" y="1665"/>
                </a:lnTo>
                <a:lnTo>
                  <a:pt x="1497" y="1665"/>
                </a:lnTo>
                <a:lnTo>
                  <a:pt x="1501" y="1666"/>
                </a:lnTo>
                <a:lnTo>
                  <a:pt x="1504" y="1668"/>
                </a:lnTo>
                <a:lnTo>
                  <a:pt x="1506" y="1669"/>
                </a:lnTo>
                <a:lnTo>
                  <a:pt x="1508" y="1672"/>
                </a:lnTo>
                <a:lnTo>
                  <a:pt x="1510" y="1674"/>
                </a:lnTo>
                <a:lnTo>
                  <a:pt x="1511" y="1677"/>
                </a:lnTo>
                <a:lnTo>
                  <a:pt x="1513" y="1678"/>
                </a:lnTo>
                <a:lnTo>
                  <a:pt x="1514" y="1681"/>
                </a:lnTo>
                <a:lnTo>
                  <a:pt x="1517" y="1682"/>
                </a:lnTo>
                <a:lnTo>
                  <a:pt x="1519" y="1684"/>
                </a:lnTo>
                <a:lnTo>
                  <a:pt x="1520" y="1687"/>
                </a:lnTo>
                <a:lnTo>
                  <a:pt x="1523" y="1688"/>
                </a:lnTo>
                <a:lnTo>
                  <a:pt x="1524" y="1690"/>
                </a:lnTo>
                <a:lnTo>
                  <a:pt x="1529" y="1690"/>
                </a:lnTo>
                <a:lnTo>
                  <a:pt x="1532" y="1691"/>
                </a:lnTo>
                <a:lnTo>
                  <a:pt x="1536" y="1691"/>
                </a:lnTo>
                <a:lnTo>
                  <a:pt x="1540" y="1693"/>
                </a:lnTo>
                <a:lnTo>
                  <a:pt x="1543" y="1693"/>
                </a:lnTo>
                <a:lnTo>
                  <a:pt x="1548" y="1693"/>
                </a:lnTo>
                <a:lnTo>
                  <a:pt x="1551" y="1693"/>
                </a:lnTo>
                <a:lnTo>
                  <a:pt x="1555" y="1693"/>
                </a:lnTo>
                <a:lnTo>
                  <a:pt x="1558" y="1693"/>
                </a:lnTo>
                <a:lnTo>
                  <a:pt x="1561" y="1691"/>
                </a:lnTo>
                <a:lnTo>
                  <a:pt x="1565" y="1691"/>
                </a:lnTo>
                <a:lnTo>
                  <a:pt x="1568" y="1690"/>
                </a:lnTo>
                <a:lnTo>
                  <a:pt x="1572" y="1688"/>
                </a:lnTo>
                <a:lnTo>
                  <a:pt x="1575" y="1688"/>
                </a:lnTo>
                <a:lnTo>
                  <a:pt x="1578" y="1687"/>
                </a:lnTo>
                <a:lnTo>
                  <a:pt x="1583" y="1685"/>
                </a:lnTo>
                <a:lnTo>
                  <a:pt x="1585" y="1682"/>
                </a:lnTo>
                <a:lnTo>
                  <a:pt x="1591" y="1680"/>
                </a:lnTo>
                <a:lnTo>
                  <a:pt x="1596" y="1677"/>
                </a:lnTo>
                <a:lnTo>
                  <a:pt x="1600" y="1674"/>
                </a:lnTo>
                <a:lnTo>
                  <a:pt x="1604" y="1671"/>
                </a:lnTo>
                <a:lnTo>
                  <a:pt x="1609" y="1668"/>
                </a:lnTo>
                <a:lnTo>
                  <a:pt x="1613" y="1665"/>
                </a:lnTo>
                <a:lnTo>
                  <a:pt x="1616" y="1661"/>
                </a:lnTo>
                <a:lnTo>
                  <a:pt x="1619" y="1656"/>
                </a:lnTo>
                <a:lnTo>
                  <a:pt x="1622" y="1652"/>
                </a:lnTo>
                <a:lnTo>
                  <a:pt x="1625" y="1648"/>
                </a:lnTo>
                <a:lnTo>
                  <a:pt x="1626" y="1643"/>
                </a:lnTo>
                <a:lnTo>
                  <a:pt x="1629" y="1639"/>
                </a:lnTo>
                <a:lnTo>
                  <a:pt x="1631" y="1633"/>
                </a:lnTo>
                <a:lnTo>
                  <a:pt x="1632" y="1627"/>
                </a:lnTo>
                <a:lnTo>
                  <a:pt x="1633" y="1621"/>
                </a:lnTo>
                <a:lnTo>
                  <a:pt x="1633" y="1616"/>
                </a:lnTo>
                <a:close/>
                <a:moveTo>
                  <a:pt x="1446" y="1460"/>
                </a:moveTo>
                <a:lnTo>
                  <a:pt x="1437" y="1464"/>
                </a:lnTo>
                <a:lnTo>
                  <a:pt x="1430" y="1469"/>
                </a:lnTo>
                <a:lnTo>
                  <a:pt x="1421" y="1472"/>
                </a:lnTo>
                <a:lnTo>
                  <a:pt x="1414" y="1476"/>
                </a:lnTo>
                <a:lnTo>
                  <a:pt x="1405" y="1480"/>
                </a:lnTo>
                <a:lnTo>
                  <a:pt x="1398" y="1483"/>
                </a:lnTo>
                <a:lnTo>
                  <a:pt x="1391" y="1488"/>
                </a:lnTo>
                <a:lnTo>
                  <a:pt x="1383" y="1490"/>
                </a:lnTo>
                <a:lnTo>
                  <a:pt x="1378" y="1495"/>
                </a:lnTo>
                <a:lnTo>
                  <a:pt x="1370" y="1498"/>
                </a:lnTo>
                <a:lnTo>
                  <a:pt x="1365" y="1502"/>
                </a:lnTo>
                <a:lnTo>
                  <a:pt x="1359" y="1506"/>
                </a:lnTo>
                <a:lnTo>
                  <a:pt x="1353" y="1511"/>
                </a:lnTo>
                <a:lnTo>
                  <a:pt x="1349" y="1515"/>
                </a:lnTo>
                <a:lnTo>
                  <a:pt x="1344" y="1520"/>
                </a:lnTo>
                <a:lnTo>
                  <a:pt x="1341" y="1524"/>
                </a:lnTo>
                <a:lnTo>
                  <a:pt x="1338" y="1527"/>
                </a:lnTo>
                <a:lnTo>
                  <a:pt x="1337" y="1528"/>
                </a:lnTo>
                <a:lnTo>
                  <a:pt x="1336" y="1531"/>
                </a:lnTo>
                <a:lnTo>
                  <a:pt x="1334" y="1533"/>
                </a:lnTo>
                <a:lnTo>
                  <a:pt x="1334" y="1536"/>
                </a:lnTo>
                <a:lnTo>
                  <a:pt x="1333" y="1537"/>
                </a:lnTo>
                <a:lnTo>
                  <a:pt x="1331" y="1540"/>
                </a:lnTo>
                <a:lnTo>
                  <a:pt x="1331" y="1543"/>
                </a:lnTo>
                <a:lnTo>
                  <a:pt x="1330" y="1544"/>
                </a:lnTo>
                <a:lnTo>
                  <a:pt x="1328" y="1547"/>
                </a:lnTo>
                <a:lnTo>
                  <a:pt x="1328" y="1550"/>
                </a:lnTo>
                <a:lnTo>
                  <a:pt x="1327" y="1553"/>
                </a:lnTo>
                <a:lnTo>
                  <a:pt x="1327" y="1556"/>
                </a:lnTo>
                <a:lnTo>
                  <a:pt x="1325" y="1560"/>
                </a:lnTo>
                <a:lnTo>
                  <a:pt x="1325" y="1563"/>
                </a:lnTo>
                <a:lnTo>
                  <a:pt x="1324" y="1568"/>
                </a:lnTo>
                <a:lnTo>
                  <a:pt x="1325" y="1573"/>
                </a:lnTo>
                <a:lnTo>
                  <a:pt x="1325" y="1581"/>
                </a:lnTo>
                <a:lnTo>
                  <a:pt x="1327" y="1586"/>
                </a:lnTo>
                <a:lnTo>
                  <a:pt x="1328" y="1592"/>
                </a:lnTo>
                <a:lnTo>
                  <a:pt x="1330" y="1598"/>
                </a:lnTo>
                <a:lnTo>
                  <a:pt x="1331" y="1604"/>
                </a:lnTo>
                <a:lnTo>
                  <a:pt x="1334" y="1610"/>
                </a:lnTo>
                <a:lnTo>
                  <a:pt x="1336" y="1616"/>
                </a:lnTo>
                <a:lnTo>
                  <a:pt x="1338" y="1620"/>
                </a:lnTo>
                <a:lnTo>
                  <a:pt x="1341" y="1624"/>
                </a:lnTo>
                <a:lnTo>
                  <a:pt x="1346" y="1629"/>
                </a:lnTo>
                <a:lnTo>
                  <a:pt x="1349" y="1632"/>
                </a:lnTo>
                <a:lnTo>
                  <a:pt x="1353" y="1634"/>
                </a:lnTo>
                <a:lnTo>
                  <a:pt x="1357" y="1637"/>
                </a:lnTo>
                <a:lnTo>
                  <a:pt x="1363" y="1639"/>
                </a:lnTo>
                <a:lnTo>
                  <a:pt x="1369" y="1640"/>
                </a:lnTo>
                <a:lnTo>
                  <a:pt x="1376" y="1639"/>
                </a:lnTo>
                <a:lnTo>
                  <a:pt x="1382" y="1637"/>
                </a:lnTo>
                <a:lnTo>
                  <a:pt x="1386" y="1634"/>
                </a:lnTo>
                <a:lnTo>
                  <a:pt x="1389" y="1630"/>
                </a:lnTo>
                <a:lnTo>
                  <a:pt x="1392" y="1626"/>
                </a:lnTo>
                <a:lnTo>
                  <a:pt x="1394" y="1620"/>
                </a:lnTo>
                <a:lnTo>
                  <a:pt x="1395" y="1613"/>
                </a:lnTo>
                <a:lnTo>
                  <a:pt x="1397" y="1605"/>
                </a:lnTo>
                <a:lnTo>
                  <a:pt x="1398" y="1598"/>
                </a:lnTo>
                <a:lnTo>
                  <a:pt x="1398" y="1591"/>
                </a:lnTo>
                <a:lnTo>
                  <a:pt x="1398" y="1582"/>
                </a:lnTo>
                <a:lnTo>
                  <a:pt x="1399" y="1573"/>
                </a:lnTo>
                <a:lnTo>
                  <a:pt x="1401" y="1566"/>
                </a:lnTo>
                <a:lnTo>
                  <a:pt x="1401" y="1557"/>
                </a:lnTo>
                <a:lnTo>
                  <a:pt x="1404" y="1550"/>
                </a:lnTo>
                <a:lnTo>
                  <a:pt x="1405" y="1544"/>
                </a:lnTo>
                <a:lnTo>
                  <a:pt x="1408" y="1537"/>
                </a:lnTo>
                <a:lnTo>
                  <a:pt x="1411" y="1531"/>
                </a:lnTo>
                <a:lnTo>
                  <a:pt x="1413" y="1525"/>
                </a:lnTo>
                <a:lnTo>
                  <a:pt x="1415" y="1520"/>
                </a:lnTo>
                <a:lnTo>
                  <a:pt x="1418" y="1514"/>
                </a:lnTo>
                <a:lnTo>
                  <a:pt x="1420" y="1509"/>
                </a:lnTo>
                <a:lnTo>
                  <a:pt x="1423" y="1504"/>
                </a:lnTo>
                <a:lnTo>
                  <a:pt x="1426" y="1499"/>
                </a:lnTo>
                <a:lnTo>
                  <a:pt x="1427" y="1493"/>
                </a:lnTo>
                <a:lnTo>
                  <a:pt x="1430" y="1489"/>
                </a:lnTo>
                <a:lnTo>
                  <a:pt x="1433" y="1485"/>
                </a:lnTo>
                <a:lnTo>
                  <a:pt x="1434" y="1480"/>
                </a:lnTo>
                <a:lnTo>
                  <a:pt x="1437" y="1474"/>
                </a:lnTo>
                <a:lnTo>
                  <a:pt x="1440" y="1470"/>
                </a:lnTo>
                <a:lnTo>
                  <a:pt x="1443" y="1464"/>
                </a:lnTo>
                <a:lnTo>
                  <a:pt x="1446" y="1460"/>
                </a:lnTo>
                <a:close/>
                <a:moveTo>
                  <a:pt x="924" y="875"/>
                </a:moveTo>
                <a:lnTo>
                  <a:pt x="940" y="874"/>
                </a:lnTo>
                <a:lnTo>
                  <a:pt x="958" y="872"/>
                </a:lnTo>
                <a:lnTo>
                  <a:pt x="975" y="872"/>
                </a:lnTo>
                <a:lnTo>
                  <a:pt x="991" y="874"/>
                </a:lnTo>
                <a:lnTo>
                  <a:pt x="1010" y="875"/>
                </a:lnTo>
                <a:lnTo>
                  <a:pt x="1027" y="877"/>
                </a:lnTo>
                <a:lnTo>
                  <a:pt x="1046" y="880"/>
                </a:lnTo>
                <a:lnTo>
                  <a:pt x="1065" y="883"/>
                </a:lnTo>
                <a:lnTo>
                  <a:pt x="1084" y="887"/>
                </a:lnTo>
                <a:lnTo>
                  <a:pt x="1104" y="891"/>
                </a:lnTo>
                <a:lnTo>
                  <a:pt x="1123" y="897"/>
                </a:lnTo>
                <a:lnTo>
                  <a:pt x="1144" y="903"/>
                </a:lnTo>
                <a:lnTo>
                  <a:pt x="1164" y="910"/>
                </a:lnTo>
                <a:lnTo>
                  <a:pt x="1184" y="916"/>
                </a:lnTo>
                <a:lnTo>
                  <a:pt x="1205" y="925"/>
                </a:lnTo>
                <a:lnTo>
                  <a:pt x="1225" y="934"/>
                </a:lnTo>
                <a:lnTo>
                  <a:pt x="1225" y="926"/>
                </a:lnTo>
                <a:lnTo>
                  <a:pt x="1224" y="920"/>
                </a:lnTo>
                <a:lnTo>
                  <a:pt x="1222" y="915"/>
                </a:lnTo>
                <a:lnTo>
                  <a:pt x="1222" y="907"/>
                </a:lnTo>
                <a:lnTo>
                  <a:pt x="1221" y="902"/>
                </a:lnTo>
                <a:lnTo>
                  <a:pt x="1219" y="896"/>
                </a:lnTo>
                <a:lnTo>
                  <a:pt x="1219" y="890"/>
                </a:lnTo>
                <a:lnTo>
                  <a:pt x="1218" y="883"/>
                </a:lnTo>
                <a:lnTo>
                  <a:pt x="1218" y="877"/>
                </a:lnTo>
                <a:lnTo>
                  <a:pt x="1216" y="871"/>
                </a:lnTo>
                <a:lnTo>
                  <a:pt x="1215" y="864"/>
                </a:lnTo>
                <a:lnTo>
                  <a:pt x="1215" y="858"/>
                </a:lnTo>
                <a:lnTo>
                  <a:pt x="1213" y="852"/>
                </a:lnTo>
                <a:lnTo>
                  <a:pt x="1213" y="845"/>
                </a:lnTo>
                <a:lnTo>
                  <a:pt x="1212" y="839"/>
                </a:lnTo>
                <a:lnTo>
                  <a:pt x="1211" y="832"/>
                </a:lnTo>
                <a:lnTo>
                  <a:pt x="1195" y="826"/>
                </a:lnTo>
                <a:lnTo>
                  <a:pt x="1179" y="819"/>
                </a:lnTo>
                <a:lnTo>
                  <a:pt x="1161" y="813"/>
                </a:lnTo>
                <a:lnTo>
                  <a:pt x="1145" y="807"/>
                </a:lnTo>
                <a:lnTo>
                  <a:pt x="1128" y="803"/>
                </a:lnTo>
                <a:lnTo>
                  <a:pt x="1110" y="797"/>
                </a:lnTo>
                <a:lnTo>
                  <a:pt x="1093" y="793"/>
                </a:lnTo>
                <a:lnTo>
                  <a:pt x="1075" y="790"/>
                </a:lnTo>
                <a:lnTo>
                  <a:pt x="1058" y="785"/>
                </a:lnTo>
                <a:lnTo>
                  <a:pt x="1041" y="782"/>
                </a:lnTo>
                <a:lnTo>
                  <a:pt x="1023" y="781"/>
                </a:lnTo>
                <a:lnTo>
                  <a:pt x="1006" y="779"/>
                </a:lnTo>
                <a:lnTo>
                  <a:pt x="987" y="778"/>
                </a:lnTo>
                <a:lnTo>
                  <a:pt x="969" y="778"/>
                </a:lnTo>
                <a:lnTo>
                  <a:pt x="950" y="778"/>
                </a:lnTo>
                <a:lnTo>
                  <a:pt x="932" y="779"/>
                </a:lnTo>
                <a:lnTo>
                  <a:pt x="884" y="782"/>
                </a:lnTo>
                <a:lnTo>
                  <a:pt x="834" y="788"/>
                </a:lnTo>
                <a:lnTo>
                  <a:pt x="785" y="794"/>
                </a:lnTo>
                <a:lnTo>
                  <a:pt x="735" y="804"/>
                </a:lnTo>
                <a:lnTo>
                  <a:pt x="687" y="814"/>
                </a:lnTo>
                <a:lnTo>
                  <a:pt x="642" y="829"/>
                </a:lnTo>
                <a:lnTo>
                  <a:pt x="597" y="845"/>
                </a:lnTo>
                <a:lnTo>
                  <a:pt x="557" y="864"/>
                </a:lnTo>
                <a:lnTo>
                  <a:pt x="517" y="886"/>
                </a:lnTo>
                <a:lnTo>
                  <a:pt x="482" y="910"/>
                </a:lnTo>
                <a:lnTo>
                  <a:pt x="451" y="938"/>
                </a:lnTo>
                <a:lnTo>
                  <a:pt x="424" y="968"/>
                </a:lnTo>
                <a:lnTo>
                  <a:pt x="403" y="1003"/>
                </a:lnTo>
                <a:lnTo>
                  <a:pt x="385" y="1041"/>
                </a:lnTo>
                <a:lnTo>
                  <a:pt x="373" y="1083"/>
                </a:lnTo>
                <a:lnTo>
                  <a:pt x="369" y="1130"/>
                </a:lnTo>
                <a:lnTo>
                  <a:pt x="369" y="1133"/>
                </a:lnTo>
                <a:lnTo>
                  <a:pt x="369" y="1136"/>
                </a:lnTo>
                <a:lnTo>
                  <a:pt x="369" y="1140"/>
                </a:lnTo>
                <a:lnTo>
                  <a:pt x="371" y="1143"/>
                </a:lnTo>
                <a:lnTo>
                  <a:pt x="371" y="1146"/>
                </a:lnTo>
                <a:lnTo>
                  <a:pt x="371" y="1149"/>
                </a:lnTo>
                <a:lnTo>
                  <a:pt x="371" y="1152"/>
                </a:lnTo>
                <a:lnTo>
                  <a:pt x="372" y="1155"/>
                </a:lnTo>
                <a:lnTo>
                  <a:pt x="372" y="1159"/>
                </a:lnTo>
                <a:lnTo>
                  <a:pt x="373" y="1162"/>
                </a:lnTo>
                <a:lnTo>
                  <a:pt x="373" y="1165"/>
                </a:lnTo>
                <a:lnTo>
                  <a:pt x="375" y="1168"/>
                </a:lnTo>
                <a:lnTo>
                  <a:pt x="376" y="1171"/>
                </a:lnTo>
                <a:lnTo>
                  <a:pt x="376" y="1173"/>
                </a:lnTo>
                <a:lnTo>
                  <a:pt x="378" y="1178"/>
                </a:lnTo>
                <a:lnTo>
                  <a:pt x="379" y="1181"/>
                </a:lnTo>
                <a:lnTo>
                  <a:pt x="394" y="1171"/>
                </a:lnTo>
                <a:lnTo>
                  <a:pt x="407" y="1160"/>
                </a:lnTo>
                <a:lnTo>
                  <a:pt x="423" y="1152"/>
                </a:lnTo>
                <a:lnTo>
                  <a:pt x="437" y="1143"/>
                </a:lnTo>
                <a:lnTo>
                  <a:pt x="452" y="1134"/>
                </a:lnTo>
                <a:lnTo>
                  <a:pt x="466" y="1125"/>
                </a:lnTo>
                <a:lnTo>
                  <a:pt x="482" y="1117"/>
                </a:lnTo>
                <a:lnTo>
                  <a:pt x="497" y="1108"/>
                </a:lnTo>
                <a:lnTo>
                  <a:pt x="513" y="1101"/>
                </a:lnTo>
                <a:lnTo>
                  <a:pt x="528" y="1094"/>
                </a:lnTo>
                <a:lnTo>
                  <a:pt x="544" y="1088"/>
                </a:lnTo>
                <a:lnTo>
                  <a:pt x="558" y="1080"/>
                </a:lnTo>
                <a:lnTo>
                  <a:pt x="573" y="1075"/>
                </a:lnTo>
                <a:lnTo>
                  <a:pt x="589" y="1070"/>
                </a:lnTo>
                <a:lnTo>
                  <a:pt x="603" y="1064"/>
                </a:lnTo>
                <a:lnTo>
                  <a:pt x="618" y="1060"/>
                </a:lnTo>
                <a:lnTo>
                  <a:pt x="625" y="1040"/>
                </a:lnTo>
                <a:lnTo>
                  <a:pt x="635" y="1019"/>
                </a:lnTo>
                <a:lnTo>
                  <a:pt x="645" y="1002"/>
                </a:lnTo>
                <a:lnTo>
                  <a:pt x="657" y="987"/>
                </a:lnTo>
                <a:lnTo>
                  <a:pt x="671" y="973"/>
                </a:lnTo>
                <a:lnTo>
                  <a:pt x="684" y="960"/>
                </a:lnTo>
                <a:lnTo>
                  <a:pt x="700" y="948"/>
                </a:lnTo>
                <a:lnTo>
                  <a:pt x="718" y="938"/>
                </a:lnTo>
                <a:lnTo>
                  <a:pt x="735" y="929"/>
                </a:lnTo>
                <a:lnTo>
                  <a:pt x="753" y="920"/>
                </a:lnTo>
                <a:lnTo>
                  <a:pt x="772" y="913"/>
                </a:lnTo>
                <a:lnTo>
                  <a:pt x="792" y="907"/>
                </a:lnTo>
                <a:lnTo>
                  <a:pt x="812" y="900"/>
                </a:lnTo>
                <a:lnTo>
                  <a:pt x="833" y="894"/>
                </a:lnTo>
                <a:lnTo>
                  <a:pt x="855" y="890"/>
                </a:lnTo>
                <a:lnTo>
                  <a:pt x="876" y="886"/>
                </a:lnTo>
                <a:lnTo>
                  <a:pt x="873" y="881"/>
                </a:lnTo>
                <a:lnTo>
                  <a:pt x="869" y="877"/>
                </a:lnTo>
                <a:lnTo>
                  <a:pt x="866" y="874"/>
                </a:lnTo>
                <a:lnTo>
                  <a:pt x="863" y="870"/>
                </a:lnTo>
                <a:lnTo>
                  <a:pt x="859" y="867"/>
                </a:lnTo>
                <a:lnTo>
                  <a:pt x="856" y="864"/>
                </a:lnTo>
                <a:lnTo>
                  <a:pt x="853" y="862"/>
                </a:lnTo>
                <a:lnTo>
                  <a:pt x="849" y="859"/>
                </a:lnTo>
                <a:lnTo>
                  <a:pt x="846" y="856"/>
                </a:lnTo>
                <a:lnTo>
                  <a:pt x="843" y="855"/>
                </a:lnTo>
                <a:lnTo>
                  <a:pt x="841" y="852"/>
                </a:lnTo>
                <a:lnTo>
                  <a:pt x="839" y="851"/>
                </a:lnTo>
                <a:lnTo>
                  <a:pt x="837" y="848"/>
                </a:lnTo>
                <a:lnTo>
                  <a:pt x="834" y="846"/>
                </a:lnTo>
                <a:lnTo>
                  <a:pt x="833" y="845"/>
                </a:lnTo>
                <a:lnTo>
                  <a:pt x="831" y="843"/>
                </a:lnTo>
                <a:lnTo>
                  <a:pt x="831" y="840"/>
                </a:lnTo>
                <a:lnTo>
                  <a:pt x="833" y="838"/>
                </a:lnTo>
                <a:lnTo>
                  <a:pt x="834" y="835"/>
                </a:lnTo>
                <a:lnTo>
                  <a:pt x="836" y="830"/>
                </a:lnTo>
                <a:lnTo>
                  <a:pt x="839" y="826"/>
                </a:lnTo>
                <a:lnTo>
                  <a:pt x="841" y="823"/>
                </a:lnTo>
                <a:lnTo>
                  <a:pt x="844" y="819"/>
                </a:lnTo>
                <a:lnTo>
                  <a:pt x="847" y="814"/>
                </a:lnTo>
                <a:lnTo>
                  <a:pt x="850" y="811"/>
                </a:lnTo>
                <a:lnTo>
                  <a:pt x="853" y="807"/>
                </a:lnTo>
                <a:lnTo>
                  <a:pt x="855" y="804"/>
                </a:lnTo>
                <a:lnTo>
                  <a:pt x="857" y="801"/>
                </a:lnTo>
                <a:lnTo>
                  <a:pt x="859" y="798"/>
                </a:lnTo>
                <a:lnTo>
                  <a:pt x="860" y="797"/>
                </a:lnTo>
                <a:lnTo>
                  <a:pt x="862" y="797"/>
                </a:lnTo>
                <a:lnTo>
                  <a:pt x="862" y="795"/>
                </a:lnTo>
                <a:lnTo>
                  <a:pt x="868" y="800"/>
                </a:lnTo>
                <a:lnTo>
                  <a:pt x="872" y="803"/>
                </a:lnTo>
                <a:lnTo>
                  <a:pt x="878" y="807"/>
                </a:lnTo>
                <a:lnTo>
                  <a:pt x="882" y="811"/>
                </a:lnTo>
                <a:lnTo>
                  <a:pt x="886" y="816"/>
                </a:lnTo>
                <a:lnTo>
                  <a:pt x="891" y="820"/>
                </a:lnTo>
                <a:lnTo>
                  <a:pt x="895" y="824"/>
                </a:lnTo>
                <a:lnTo>
                  <a:pt x="900" y="829"/>
                </a:lnTo>
                <a:lnTo>
                  <a:pt x="902" y="835"/>
                </a:lnTo>
                <a:lnTo>
                  <a:pt x="907" y="839"/>
                </a:lnTo>
                <a:lnTo>
                  <a:pt x="910" y="845"/>
                </a:lnTo>
                <a:lnTo>
                  <a:pt x="913" y="851"/>
                </a:lnTo>
                <a:lnTo>
                  <a:pt x="917" y="856"/>
                </a:lnTo>
                <a:lnTo>
                  <a:pt x="920" y="862"/>
                </a:lnTo>
                <a:lnTo>
                  <a:pt x="921" y="868"/>
                </a:lnTo>
                <a:lnTo>
                  <a:pt x="924" y="875"/>
                </a:lnTo>
                <a:close/>
                <a:moveTo>
                  <a:pt x="1312" y="1022"/>
                </a:moveTo>
                <a:lnTo>
                  <a:pt x="1309" y="1021"/>
                </a:lnTo>
                <a:lnTo>
                  <a:pt x="1305" y="1019"/>
                </a:lnTo>
                <a:lnTo>
                  <a:pt x="1302" y="1018"/>
                </a:lnTo>
                <a:lnTo>
                  <a:pt x="1299" y="1016"/>
                </a:lnTo>
                <a:lnTo>
                  <a:pt x="1295" y="1015"/>
                </a:lnTo>
                <a:lnTo>
                  <a:pt x="1292" y="1014"/>
                </a:lnTo>
                <a:lnTo>
                  <a:pt x="1289" y="1011"/>
                </a:lnTo>
                <a:lnTo>
                  <a:pt x="1285" y="1009"/>
                </a:lnTo>
                <a:lnTo>
                  <a:pt x="1282" y="1008"/>
                </a:lnTo>
                <a:lnTo>
                  <a:pt x="1277" y="1006"/>
                </a:lnTo>
                <a:lnTo>
                  <a:pt x="1274" y="1005"/>
                </a:lnTo>
                <a:lnTo>
                  <a:pt x="1272" y="1002"/>
                </a:lnTo>
                <a:lnTo>
                  <a:pt x="1267" y="1000"/>
                </a:lnTo>
                <a:lnTo>
                  <a:pt x="1264" y="999"/>
                </a:lnTo>
                <a:lnTo>
                  <a:pt x="1260" y="998"/>
                </a:lnTo>
                <a:lnTo>
                  <a:pt x="1257" y="996"/>
                </a:lnTo>
                <a:lnTo>
                  <a:pt x="1257" y="998"/>
                </a:lnTo>
                <a:lnTo>
                  <a:pt x="1257" y="999"/>
                </a:lnTo>
                <a:lnTo>
                  <a:pt x="1257" y="1000"/>
                </a:lnTo>
                <a:lnTo>
                  <a:pt x="1257" y="1002"/>
                </a:lnTo>
                <a:lnTo>
                  <a:pt x="1257" y="1005"/>
                </a:lnTo>
                <a:lnTo>
                  <a:pt x="1257" y="1006"/>
                </a:lnTo>
                <a:lnTo>
                  <a:pt x="1257" y="1008"/>
                </a:lnTo>
                <a:lnTo>
                  <a:pt x="1257" y="1009"/>
                </a:lnTo>
                <a:lnTo>
                  <a:pt x="1259" y="1011"/>
                </a:lnTo>
                <a:lnTo>
                  <a:pt x="1259" y="1014"/>
                </a:lnTo>
                <a:lnTo>
                  <a:pt x="1259" y="1015"/>
                </a:lnTo>
                <a:lnTo>
                  <a:pt x="1259" y="1016"/>
                </a:lnTo>
                <a:lnTo>
                  <a:pt x="1259" y="1018"/>
                </a:lnTo>
                <a:lnTo>
                  <a:pt x="1259" y="1019"/>
                </a:lnTo>
                <a:lnTo>
                  <a:pt x="1259" y="1021"/>
                </a:lnTo>
                <a:lnTo>
                  <a:pt x="1259" y="1022"/>
                </a:lnTo>
                <a:lnTo>
                  <a:pt x="1263" y="1022"/>
                </a:lnTo>
                <a:lnTo>
                  <a:pt x="1266" y="1022"/>
                </a:lnTo>
                <a:lnTo>
                  <a:pt x="1270" y="1022"/>
                </a:lnTo>
                <a:lnTo>
                  <a:pt x="1273" y="1024"/>
                </a:lnTo>
                <a:lnTo>
                  <a:pt x="1276" y="1024"/>
                </a:lnTo>
                <a:lnTo>
                  <a:pt x="1280" y="1024"/>
                </a:lnTo>
                <a:lnTo>
                  <a:pt x="1283" y="1024"/>
                </a:lnTo>
                <a:lnTo>
                  <a:pt x="1286" y="1024"/>
                </a:lnTo>
                <a:lnTo>
                  <a:pt x="1289" y="1024"/>
                </a:lnTo>
                <a:lnTo>
                  <a:pt x="1293" y="1024"/>
                </a:lnTo>
                <a:lnTo>
                  <a:pt x="1296" y="1024"/>
                </a:lnTo>
                <a:lnTo>
                  <a:pt x="1299" y="1024"/>
                </a:lnTo>
                <a:lnTo>
                  <a:pt x="1302" y="1022"/>
                </a:lnTo>
                <a:lnTo>
                  <a:pt x="1305" y="1022"/>
                </a:lnTo>
                <a:lnTo>
                  <a:pt x="1309" y="1022"/>
                </a:lnTo>
                <a:lnTo>
                  <a:pt x="1312" y="1022"/>
                </a:lnTo>
                <a:close/>
                <a:moveTo>
                  <a:pt x="889" y="904"/>
                </a:moveTo>
                <a:lnTo>
                  <a:pt x="870" y="907"/>
                </a:lnTo>
                <a:lnTo>
                  <a:pt x="853" y="912"/>
                </a:lnTo>
                <a:lnTo>
                  <a:pt x="836" y="916"/>
                </a:lnTo>
                <a:lnTo>
                  <a:pt x="818" y="920"/>
                </a:lnTo>
                <a:lnTo>
                  <a:pt x="802" y="926"/>
                </a:lnTo>
                <a:lnTo>
                  <a:pt x="786" y="932"/>
                </a:lnTo>
                <a:lnTo>
                  <a:pt x="770" y="939"/>
                </a:lnTo>
                <a:lnTo>
                  <a:pt x="756" y="947"/>
                </a:lnTo>
                <a:lnTo>
                  <a:pt x="743" y="955"/>
                </a:lnTo>
                <a:lnTo>
                  <a:pt x="730" y="966"/>
                </a:lnTo>
                <a:lnTo>
                  <a:pt x="718" y="976"/>
                </a:lnTo>
                <a:lnTo>
                  <a:pt x="706" y="987"/>
                </a:lnTo>
                <a:lnTo>
                  <a:pt x="698" y="1000"/>
                </a:lnTo>
                <a:lnTo>
                  <a:pt x="689" y="1015"/>
                </a:lnTo>
                <a:lnTo>
                  <a:pt x="683" y="1031"/>
                </a:lnTo>
                <a:lnTo>
                  <a:pt x="677" y="1048"/>
                </a:lnTo>
                <a:lnTo>
                  <a:pt x="680" y="1048"/>
                </a:lnTo>
                <a:lnTo>
                  <a:pt x="684" y="1047"/>
                </a:lnTo>
                <a:lnTo>
                  <a:pt x="687" y="1047"/>
                </a:lnTo>
                <a:lnTo>
                  <a:pt x="692" y="1047"/>
                </a:lnTo>
                <a:lnTo>
                  <a:pt x="695" y="1047"/>
                </a:lnTo>
                <a:lnTo>
                  <a:pt x="698" y="1047"/>
                </a:lnTo>
                <a:lnTo>
                  <a:pt x="702" y="1047"/>
                </a:lnTo>
                <a:lnTo>
                  <a:pt x="705" y="1047"/>
                </a:lnTo>
                <a:lnTo>
                  <a:pt x="708" y="1048"/>
                </a:lnTo>
                <a:lnTo>
                  <a:pt x="711" y="1048"/>
                </a:lnTo>
                <a:lnTo>
                  <a:pt x="715" y="1048"/>
                </a:lnTo>
                <a:lnTo>
                  <a:pt x="718" y="1048"/>
                </a:lnTo>
                <a:lnTo>
                  <a:pt x="721" y="1050"/>
                </a:lnTo>
                <a:lnTo>
                  <a:pt x="724" y="1050"/>
                </a:lnTo>
                <a:lnTo>
                  <a:pt x="727" y="1050"/>
                </a:lnTo>
                <a:lnTo>
                  <a:pt x="731" y="1051"/>
                </a:lnTo>
                <a:lnTo>
                  <a:pt x="740" y="1053"/>
                </a:lnTo>
                <a:lnTo>
                  <a:pt x="750" y="1056"/>
                </a:lnTo>
                <a:lnTo>
                  <a:pt x="759" y="1057"/>
                </a:lnTo>
                <a:lnTo>
                  <a:pt x="767" y="1060"/>
                </a:lnTo>
                <a:lnTo>
                  <a:pt x="776" y="1063"/>
                </a:lnTo>
                <a:lnTo>
                  <a:pt x="783" y="1064"/>
                </a:lnTo>
                <a:lnTo>
                  <a:pt x="791" y="1069"/>
                </a:lnTo>
                <a:lnTo>
                  <a:pt x="798" y="1072"/>
                </a:lnTo>
                <a:lnTo>
                  <a:pt x="805" y="1076"/>
                </a:lnTo>
                <a:lnTo>
                  <a:pt x="812" y="1082"/>
                </a:lnTo>
                <a:lnTo>
                  <a:pt x="818" y="1088"/>
                </a:lnTo>
                <a:lnTo>
                  <a:pt x="825" y="1094"/>
                </a:lnTo>
                <a:lnTo>
                  <a:pt x="831" y="1101"/>
                </a:lnTo>
                <a:lnTo>
                  <a:pt x="839" y="1110"/>
                </a:lnTo>
                <a:lnTo>
                  <a:pt x="846" y="1120"/>
                </a:lnTo>
                <a:lnTo>
                  <a:pt x="853" y="1130"/>
                </a:lnTo>
                <a:lnTo>
                  <a:pt x="853" y="1124"/>
                </a:lnTo>
                <a:lnTo>
                  <a:pt x="855" y="1117"/>
                </a:lnTo>
                <a:lnTo>
                  <a:pt x="855" y="1110"/>
                </a:lnTo>
                <a:lnTo>
                  <a:pt x="857" y="1102"/>
                </a:lnTo>
                <a:lnTo>
                  <a:pt x="860" y="1094"/>
                </a:lnTo>
                <a:lnTo>
                  <a:pt x="863" y="1085"/>
                </a:lnTo>
                <a:lnTo>
                  <a:pt x="866" y="1078"/>
                </a:lnTo>
                <a:lnTo>
                  <a:pt x="870" y="1069"/>
                </a:lnTo>
                <a:lnTo>
                  <a:pt x="875" y="1062"/>
                </a:lnTo>
                <a:lnTo>
                  <a:pt x="881" y="1054"/>
                </a:lnTo>
                <a:lnTo>
                  <a:pt x="886" y="1048"/>
                </a:lnTo>
                <a:lnTo>
                  <a:pt x="892" y="1043"/>
                </a:lnTo>
                <a:lnTo>
                  <a:pt x="900" y="1037"/>
                </a:lnTo>
                <a:lnTo>
                  <a:pt x="907" y="1034"/>
                </a:lnTo>
                <a:lnTo>
                  <a:pt x="914" y="1031"/>
                </a:lnTo>
                <a:lnTo>
                  <a:pt x="923" y="1030"/>
                </a:lnTo>
                <a:lnTo>
                  <a:pt x="927" y="1030"/>
                </a:lnTo>
                <a:lnTo>
                  <a:pt x="932" y="1030"/>
                </a:lnTo>
                <a:lnTo>
                  <a:pt x="936" y="1032"/>
                </a:lnTo>
                <a:lnTo>
                  <a:pt x="940" y="1034"/>
                </a:lnTo>
                <a:lnTo>
                  <a:pt x="943" y="1038"/>
                </a:lnTo>
                <a:lnTo>
                  <a:pt x="946" y="1041"/>
                </a:lnTo>
                <a:lnTo>
                  <a:pt x="949" y="1046"/>
                </a:lnTo>
                <a:lnTo>
                  <a:pt x="952" y="1050"/>
                </a:lnTo>
                <a:lnTo>
                  <a:pt x="955" y="1054"/>
                </a:lnTo>
                <a:lnTo>
                  <a:pt x="958" y="1059"/>
                </a:lnTo>
                <a:lnTo>
                  <a:pt x="961" y="1063"/>
                </a:lnTo>
                <a:lnTo>
                  <a:pt x="964" y="1067"/>
                </a:lnTo>
                <a:lnTo>
                  <a:pt x="968" y="1072"/>
                </a:lnTo>
                <a:lnTo>
                  <a:pt x="971" y="1075"/>
                </a:lnTo>
                <a:lnTo>
                  <a:pt x="975" y="1078"/>
                </a:lnTo>
                <a:lnTo>
                  <a:pt x="981" y="1079"/>
                </a:lnTo>
                <a:lnTo>
                  <a:pt x="990" y="1083"/>
                </a:lnTo>
                <a:lnTo>
                  <a:pt x="1000" y="1085"/>
                </a:lnTo>
                <a:lnTo>
                  <a:pt x="1009" y="1086"/>
                </a:lnTo>
                <a:lnTo>
                  <a:pt x="1017" y="1088"/>
                </a:lnTo>
                <a:lnTo>
                  <a:pt x="1027" y="1088"/>
                </a:lnTo>
                <a:lnTo>
                  <a:pt x="1036" y="1088"/>
                </a:lnTo>
                <a:lnTo>
                  <a:pt x="1045" y="1086"/>
                </a:lnTo>
                <a:lnTo>
                  <a:pt x="1054" y="1083"/>
                </a:lnTo>
                <a:lnTo>
                  <a:pt x="1062" y="1082"/>
                </a:lnTo>
                <a:lnTo>
                  <a:pt x="1070" y="1078"/>
                </a:lnTo>
                <a:lnTo>
                  <a:pt x="1078" y="1073"/>
                </a:lnTo>
                <a:lnTo>
                  <a:pt x="1086" y="1069"/>
                </a:lnTo>
                <a:lnTo>
                  <a:pt x="1093" y="1063"/>
                </a:lnTo>
                <a:lnTo>
                  <a:pt x="1100" y="1057"/>
                </a:lnTo>
                <a:lnTo>
                  <a:pt x="1106" y="1051"/>
                </a:lnTo>
                <a:lnTo>
                  <a:pt x="1112" y="1044"/>
                </a:lnTo>
                <a:lnTo>
                  <a:pt x="1100" y="1041"/>
                </a:lnTo>
                <a:lnTo>
                  <a:pt x="1088" y="1038"/>
                </a:lnTo>
                <a:lnTo>
                  <a:pt x="1078" y="1035"/>
                </a:lnTo>
                <a:lnTo>
                  <a:pt x="1070" y="1032"/>
                </a:lnTo>
                <a:lnTo>
                  <a:pt x="1062" y="1031"/>
                </a:lnTo>
                <a:lnTo>
                  <a:pt x="1055" y="1028"/>
                </a:lnTo>
                <a:lnTo>
                  <a:pt x="1048" y="1025"/>
                </a:lnTo>
                <a:lnTo>
                  <a:pt x="1041" y="1024"/>
                </a:lnTo>
                <a:lnTo>
                  <a:pt x="1033" y="1022"/>
                </a:lnTo>
                <a:lnTo>
                  <a:pt x="1026" y="1021"/>
                </a:lnTo>
                <a:lnTo>
                  <a:pt x="1019" y="1021"/>
                </a:lnTo>
                <a:lnTo>
                  <a:pt x="1009" y="1021"/>
                </a:lnTo>
                <a:lnTo>
                  <a:pt x="998" y="1021"/>
                </a:lnTo>
                <a:lnTo>
                  <a:pt x="987" y="1022"/>
                </a:lnTo>
                <a:lnTo>
                  <a:pt x="974" y="1025"/>
                </a:lnTo>
                <a:lnTo>
                  <a:pt x="959" y="1030"/>
                </a:lnTo>
                <a:lnTo>
                  <a:pt x="953" y="1008"/>
                </a:lnTo>
                <a:lnTo>
                  <a:pt x="956" y="1003"/>
                </a:lnTo>
                <a:lnTo>
                  <a:pt x="959" y="999"/>
                </a:lnTo>
                <a:lnTo>
                  <a:pt x="962" y="996"/>
                </a:lnTo>
                <a:lnTo>
                  <a:pt x="966" y="992"/>
                </a:lnTo>
                <a:lnTo>
                  <a:pt x="971" y="987"/>
                </a:lnTo>
                <a:lnTo>
                  <a:pt x="975" y="984"/>
                </a:lnTo>
                <a:lnTo>
                  <a:pt x="979" y="980"/>
                </a:lnTo>
                <a:lnTo>
                  <a:pt x="985" y="976"/>
                </a:lnTo>
                <a:lnTo>
                  <a:pt x="991" y="973"/>
                </a:lnTo>
                <a:lnTo>
                  <a:pt x="997" y="970"/>
                </a:lnTo>
                <a:lnTo>
                  <a:pt x="1003" y="967"/>
                </a:lnTo>
                <a:lnTo>
                  <a:pt x="1009" y="966"/>
                </a:lnTo>
                <a:lnTo>
                  <a:pt x="1016" y="964"/>
                </a:lnTo>
                <a:lnTo>
                  <a:pt x="1022" y="963"/>
                </a:lnTo>
                <a:lnTo>
                  <a:pt x="1029" y="961"/>
                </a:lnTo>
                <a:lnTo>
                  <a:pt x="1036" y="961"/>
                </a:lnTo>
                <a:lnTo>
                  <a:pt x="1051" y="963"/>
                </a:lnTo>
                <a:lnTo>
                  <a:pt x="1064" y="966"/>
                </a:lnTo>
                <a:lnTo>
                  <a:pt x="1077" y="968"/>
                </a:lnTo>
                <a:lnTo>
                  <a:pt x="1090" y="971"/>
                </a:lnTo>
                <a:lnTo>
                  <a:pt x="1102" y="976"/>
                </a:lnTo>
                <a:lnTo>
                  <a:pt x="1113" y="982"/>
                </a:lnTo>
                <a:lnTo>
                  <a:pt x="1125" y="986"/>
                </a:lnTo>
                <a:lnTo>
                  <a:pt x="1136" y="990"/>
                </a:lnTo>
                <a:lnTo>
                  <a:pt x="1147" y="996"/>
                </a:lnTo>
                <a:lnTo>
                  <a:pt x="1158" y="1000"/>
                </a:lnTo>
                <a:lnTo>
                  <a:pt x="1170" y="1006"/>
                </a:lnTo>
                <a:lnTo>
                  <a:pt x="1181" y="1011"/>
                </a:lnTo>
                <a:lnTo>
                  <a:pt x="1195" y="1014"/>
                </a:lnTo>
                <a:lnTo>
                  <a:pt x="1208" y="1018"/>
                </a:lnTo>
                <a:lnTo>
                  <a:pt x="1221" y="1019"/>
                </a:lnTo>
                <a:lnTo>
                  <a:pt x="1235" y="1022"/>
                </a:lnTo>
                <a:lnTo>
                  <a:pt x="1235" y="1019"/>
                </a:lnTo>
                <a:lnTo>
                  <a:pt x="1235" y="1016"/>
                </a:lnTo>
                <a:lnTo>
                  <a:pt x="1235" y="1014"/>
                </a:lnTo>
                <a:lnTo>
                  <a:pt x="1234" y="1012"/>
                </a:lnTo>
                <a:lnTo>
                  <a:pt x="1234" y="1009"/>
                </a:lnTo>
                <a:lnTo>
                  <a:pt x="1234" y="1006"/>
                </a:lnTo>
                <a:lnTo>
                  <a:pt x="1234" y="1003"/>
                </a:lnTo>
                <a:lnTo>
                  <a:pt x="1234" y="1002"/>
                </a:lnTo>
                <a:lnTo>
                  <a:pt x="1234" y="999"/>
                </a:lnTo>
                <a:lnTo>
                  <a:pt x="1234" y="998"/>
                </a:lnTo>
                <a:lnTo>
                  <a:pt x="1234" y="995"/>
                </a:lnTo>
                <a:lnTo>
                  <a:pt x="1232" y="992"/>
                </a:lnTo>
                <a:lnTo>
                  <a:pt x="1232" y="990"/>
                </a:lnTo>
                <a:lnTo>
                  <a:pt x="1232" y="987"/>
                </a:lnTo>
                <a:lnTo>
                  <a:pt x="1232" y="986"/>
                </a:lnTo>
                <a:lnTo>
                  <a:pt x="1232" y="983"/>
                </a:lnTo>
                <a:lnTo>
                  <a:pt x="1213" y="976"/>
                </a:lnTo>
                <a:lnTo>
                  <a:pt x="1193" y="967"/>
                </a:lnTo>
                <a:lnTo>
                  <a:pt x="1173" y="960"/>
                </a:lnTo>
                <a:lnTo>
                  <a:pt x="1152" y="951"/>
                </a:lnTo>
                <a:lnTo>
                  <a:pt x="1132" y="944"/>
                </a:lnTo>
                <a:lnTo>
                  <a:pt x="1112" y="936"/>
                </a:lnTo>
                <a:lnTo>
                  <a:pt x="1093" y="929"/>
                </a:lnTo>
                <a:lnTo>
                  <a:pt x="1072" y="923"/>
                </a:lnTo>
                <a:lnTo>
                  <a:pt x="1054" y="918"/>
                </a:lnTo>
                <a:lnTo>
                  <a:pt x="1033" y="912"/>
                </a:lnTo>
                <a:lnTo>
                  <a:pt x="1014" y="907"/>
                </a:lnTo>
                <a:lnTo>
                  <a:pt x="997" y="903"/>
                </a:lnTo>
                <a:lnTo>
                  <a:pt x="979" y="900"/>
                </a:lnTo>
                <a:lnTo>
                  <a:pt x="964" y="899"/>
                </a:lnTo>
                <a:lnTo>
                  <a:pt x="948" y="897"/>
                </a:lnTo>
                <a:lnTo>
                  <a:pt x="932" y="897"/>
                </a:lnTo>
                <a:lnTo>
                  <a:pt x="933" y="904"/>
                </a:lnTo>
                <a:lnTo>
                  <a:pt x="934" y="912"/>
                </a:lnTo>
                <a:lnTo>
                  <a:pt x="936" y="918"/>
                </a:lnTo>
                <a:lnTo>
                  <a:pt x="936" y="925"/>
                </a:lnTo>
                <a:lnTo>
                  <a:pt x="937" y="932"/>
                </a:lnTo>
                <a:lnTo>
                  <a:pt x="937" y="939"/>
                </a:lnTo>
                <a:lnTo>
                  <a:pt x="937" y="945"/>
                </a:lnTo>
                <a:lnTo>
                  <a:pt x="936" y="952"/>
                </a:lnTo>
                <a:lnTo>
                  <a:pt x="936" y="958"/>
                </a:lnTo>
                <a:lnTo>
                  <a:pt x="934" y="964"/>
                </a:lnTo>
                <a:lnTo>
                  <a:pt x="934" y="970"/>
                </a:lnTo>
                <a:lnTo>
                  <a:pt x="933" y="976"/>
                </a:lnTo>
                <a:lnTo>
                  <a:pt x="933" y="982"/>
                </a:lnTo>
                <a:lnTo>
                  <a:pt x="932" y="987"/>
                </a:lnTo>
                <a:lnTo>
                  <a:pt x="930" y="993"/>
                </a:lnTo>
                <a:lnTo>
                  <a:pt x="930" y="998"/>
                </a:lnTo>
                <a:lnTo>
                  <a:pt x="929" y="998"/>
                </a:lnTo>
                <a:lnTo>
                  <a:pt x="929" y="999"/>
                </a:lnTo>
                <a:lnTo>
                  <a:pt x="927" y="1000"/>
                </a:lnTo>
                <a:lnTo>
                  <a:pt x="927" y="1002"/>
                </a:lnTo>
                <a:lnTo>
                  <a:pt x="926" y="1003"/>
                </a:lnTo>
                <a:lnTo>
                  <a:pt x="924" y="1005"/>
                </a:lnTo>
                <a:lnTo>
                  <a:pt x="924" y="1006"/>
                </a:lnTo>
                <a:lnTo>
                  <a:pt x="923" y="1008"/>
                </a:lnTo>
                <a:lnTo>
                  <a:pt x="921" y="1009"/>
                </a:lnTo>
                <a:lnTo>
                  <a:pt x="920" y="1011"/>
                </a:lnTo>
                <a:lnTo>
                  <a:pt x="918" y="1011"/>
                </a:lnTo>
                <a:lnTo>
                  <a:pt x="917" y="1012"/>
                </a:lnTo>
                <a:lnTo>
                  <a:pt x="914" y="1014"/>
                </a:lnTo>
                <a:lnTo>
                  <a:pt x="913" y="1015"/>
                </a:lnTo>
                <a:lnTo>
                  <a:pt x="914" y="1005"/>
                </a:lnTo>
                <a:lnTo>
                  <a:pt x="914" y="996"/>
                </a:lnTo>
                <a:lnTo>
                  <a:pt x="914" y="987"/>
                </a:lnTo>
                <a:lnTo>
                  <a:pt x="914" y="980"/>
                </a:lnTo>
                <a:lnTo>
                  <a:pt x="913" y="971"/>
                </a:lnTo>
                <a:lnTo>
                  <a:pt x="911" y="964"/>
                </a:lnTo>
                <a:lnTo>
                  <a:pt x="911" y="957"/>
                </a:lnTo>
                <a:lnTo>
                  <a:pt x="908" y="950"/>
                </a:lnTo>
                <a:lnTo>
                  <a:pt x="907" y="942"/>
                </a:lnTo>
                <a:lnTo>
                  <a:pt x="905" y="936"/>
                </a:lnTo>
                <a:lnTo>
                  <a:pt x="902" y="931"/>
                </a:lnTo>
                <a:lnTo>
                  <a:pt x="900" y="925"/>
                </a:lnTo>
                <a:lnTo>
                  <a:pt x="898" y="919"/>
                </a:lnTo>
                <a:lnTo>
                  <a:pt x="895" y="913"/>
                </a:lnTo>
                <a:lnTo>
                  <a:pt x="892" y="909"/>
                </a:lnTo>
                <a:lnTo>
                  <a:pt x="889" y="904"/>
                </a:lnTo>
                <a:close/>
                <a:moveTo>
                  <a:pt x="1613" y="1252"/>
                </a:moveTo>
                <a:lnTo>
                  <a:pt x="1609" y="1248"/>
                </a:lnTo>
                <a:lnTo>
                  <a:pt x="1604" y="1243"/>
                </a:lnTo>
                <a:lnTo>
                  <a:pt x="1600" y="1239"/>
                </a:lnTo>
                <a:lnTo>
                  <a:pt x="1596" y="1235"/>
                </a:lnTo>
                <a:lnTo>
                  <a:pt x="1591" y="1230"/>
                </a:lnTo>
                <a:lnTo>
                  <a:pt x="1587" y="1226"/>
                </a:lnTo>
                <a:lnTo>
                  <a:pt x="1583" y="1221"/>
                </a:lnTo>
                <a:lnTo>
                  <a:pt x="1578" y="1219"/>
                </a:lnTo>
                <a:lnTo>
                  <a:pt x="1574" y="1214"/>
                </a:lnTo>
                <a:lnTo>
                  <a:pt x="1571" y="1210"/>
                </a:lnTo>
                <a:lnTo>
                  <a:pt x="1567" y="1205"/>
                </a:lnTo>
                <a:lnTo>
                  <a:pt x="1562" y="1201"/>
                </a:lnTo>
                <a:lnTo>
                  <a:pt x="1558" y="1197"/>
                </a:lnTo>
                <a:lnTo>
                  <a:pt x="1554" y="1194"/>
                </a:lnTo>
                <a:lnTo>
                  <a:pt x="1549" y="1189"/>
                </a:lnTo>
                <a:lnTo>
                  <a:pt x="1545" y="1185"/>
                </a:lnTo>
                <a:lnTo>
                  <a:pt x="1545" y="1188"/>
                </a:lnTo>
                <a:lnTo>
                  <a:pt x="1546" y="1191"/>
                </a:lnTo>
                <a:lnTo>
                  <a:pt x="1546" y="1194"/>
                </a:lnTo>
                <a:lnTo>
                  <a:pt x="1546" y="1197"/>
                </a:lnTo>
                <a:lnTo>
                  <a:pt x="1548" y="1201"/>
                </a:lnTo>
                <a:lnTo>
                  <a:pt x="1548" y="1204"/>
                </a:lnTo>
                <a:lnTo>
                  <a:pt x="1548" y="1207"/>
                </a:lnTo>
                <a:lnTo>
                  <a:pt x="1548" y="1208"/>
                </a:lnTo>
                <a:lnTo>
                  <a:pt x="1549" y="1211"/>
                </a:lnTo>
                <a:lnTo>
                  <a:pt x="1549" y="1214"/>
                </a:lnTo>
                <a:lnTo>
                  <a:pt x="1549" y="1217"/>
                </a:lnTo>
                <a:lnTo>
                  <a:pt x="1549" y="1220"/>
                </a:lnTo>
                <a:lnTo>
                  <a:pt x="1549" y="1223"/>
                </a:lnTo>
                <a:lnTo>
                  <a:pt x="1549" y="1226"/>
                </a:lnTo>
                <a:lnTo>
                  <a:pt x="1549" y="1229"/>
                </a:lnTo>
                <a:lnTo>
                  <a:pt x="1549" y="1232"/>
                </a:lnTo>
                <a:lnTo>
                  <a:pt x="1554" y="1232"/>
                </a:lnTo>
                <a:lnTo>
                  <a:pt x="1556" y="1233"/>
                </a:lnTo>
                <a:lnTo>
                  <a:pt x="1561" y="1235"/>
                </a:lnTo>
                <a:lnTo>
                  <a:pt x="1565" y="1236"/>
                </a:lnTo>
                <a:lnTo>
                  <a:pt x="1568" y="1237"/>
                </a:lnTo>
                <a:lnTo>
                  <a:pt x="1572" y="1239"/>
                </a:lnTo>
                <a:lnTo>
                  <a:pt x="1577" y="1239"/>
                </a:lnTo>
                <a:lnTo>
                  <a:pt x="1580" y="1240"/>
                </a:lnTo>
                <a:lnTo>
                  <a:pt x="1584" y="1242"/>
                </a:lnTo>
                <a:lnTo>
                  <a:pt x="1588" y="1243"/>
                </a:lnTo>
                <a:lnTo>
                  <a:pt x="1593" y="1245"/>
                </a:lnTo>
                <a:lnTo>
                  <a:pt x="1596" y="1246"/>
                </a:lnTo>
                <a:lnTo>
                  <a:pt x="1600" y="1248"/>
                </a:lnTo>
                <a:lnTo>
                  <a:pt x="1604" y="1249"/>
                </a:lnTo>
                <a:lnTo>
                  <a:pt x="1609" y="1251"/>
                </a:lnTo>
                <a:lnTo>
                  <a:pt x="1613" y="1252"/>
                </a:lnTo>
                <a:close/>
                <a:moveTo>
                  <a:pt x="1148" y="1085"/>
                </a:moveTo>
                <a:lnTo>
                  <a:pt x="1150" y="1088"/>
                </a:lnTo>
                <a:lnTo>
                  <a:pt x="1150" y="1089"/>
                </a:lnTo>
                <a:lnTo>
                  <a:pt x="1151" y="1092"/>
                </a:lnTo>
                <a:lnTo>
                  <a:pt x="1152" y="1095"/>
                </a:lnTo>
                <a:lnTo>
                  <a:pt x="1152" y="1096"/>
                </a:lnTo>
                <a:lnTo>
                  <a:pt x="1154" y="1099"/>
                </a:lnTo>
                <a:lnTo>
                  <a:pt x="1154" y="1102"/>
                </a:lnTo>
                <a:lnTo>
                  <a:pt x="1155" y="1104"/>
                </a:lnTo>
                <a:lnTo>
                  <a:pt x="1157" y="1107"/>
                </a:lnTo>
                <a:lnTo>
                  <a:pt x="1158" y="1108"/>
                </a:lnTo>
                <a:lnTo>
                  <a:pt x="1160" y="1110"/>
                </a:lnTo>
                <a:lnTo>
                  <a:pt x="1161" y="1112"/>
                </a:lnTo>
                <a:lnTo>
                  <a:pt x="1163" y="1114"/>
                </a:lnTo>
                <a:lnTo>
                  <a:pt x="1166" y="1115"/>
                </a:lnTo>
                <a:lnTo>
                  <a:pt x="1167" y="1117"/>
                </a:lnTo>
                <a:lnTo>
                  <a:pt x="1170" y="1118"/>
                </a:lnTo>
                <a:lnTo>
                  <a:pt x="1174" y="1120"/>
                </a:lnTo>
                <a:lnTo>
                  <a:pt x="1180" y="1121"/>
                </a:lnTo>
                <a:lnTo>
                  <a:pt x="1184" y="1121"/>
                </a:lnTo>
                <a:lnTo>
                  <a:pt x="1190" y="1121"/>
                </a:lnTo>
                <a:lnTo>
                  <a:pt x="1195" y="1121"/>
                </a:lnTo>
                <a:lnTo>
                  <a:pt x="1200" y="1120"/>
                </a:lnTo>
                <a:lnTo>
                  <a:pt x="1205" y="1118"/>
                </a:lnTo>
                <a:lnTo>
                  <a:pt x="1211" y="1117"/>
                </a:lnTo>
                <a:lnTo>
                  <a:pt x="1215" y="1115"/>
                </a:lnTo>
                <a:lnTo>
                  <a:pt x="1219" y="1112"/>
                </a:lnTo>
                <a:lnTo>
                  <a:pt x="1222" y="1110"/>
                </a:lnTo>
                <a:lnTo>
                  <a:pt x="1227" y="1108"/>
                </a:lnTo>
                <a:lnTo>
                  <a:pt x="1229" y="1105"/>
                </a:lnTo>
                <a:lnTo>
                  <a:pt x="1231" y="1102"/>
                </a:lnTo>
                <a:lnTo>
                  <a:pt x="1232" y="1099"/>
                </a:lnTo>
                <a:lnTo>
                  <a:pt x="1232" y="1096"/>
                </a:lnTo>
                <a:lnTo>
                  <a:pt x="1232" y="1095"/>
                </a:lnTo>
                <a:lnTo>
                  <a:pt x="1232" y="1094"/>
                </a:lnTo>
                <a:lnTo>
                  <a:pt x="1232" y="1092"/>
                </a:lnTo>
                <a:lnTo>
                  <a:pt x="1232" y="1091"/>
                </a:lnTo>
                <a:lnTo>
                  <a:pt x="1232" y="1089"/>
                </a:lnTo>
                <a:lnTo>
                  <a:pt x="1232" y="1088"/>
                </a:lnTo>
                <a:lnTo>
                  <a:pt x="1232" y="1086"/>
                </a:lnTo>
                <a:lnTo>
                  <a:pt x="1232" y="1085"/>
                </a:lnTo>
                <a:lnTo>
                  <a:pt x="1232" y="1083"/>
                </a:lnTo>
                <a:lnTo>
                  <a:pt x="1232" y="1082"/>
                </a:lnTo>
                <a:lnTo>
                  <a:pt x="1232" y="1079"/>
                </a:lnTo>
                <a:lnTo>
                  <a:pt x="1232" y="1078"/>
                </a:lnTo>
                <a:lnTo>
                  <a:pt x="1232" y="1076"/>
                </a:lnTo>
                <a:lnTo>
                  <a:pt x="1232" y="1075"/>
                </a:lnTo>
                <a:lnTo>
                  <a:pt x="1232" y="1073"/>
                </a:lnTo>
                <a:lnTo>
                  <a:pt x="1232" y="1072"/>
                </a:lnTo>
                <a:lnTo>
                  <a:pt x="1231" y="1072"/>
                </a:lnTo>
                <a:lnTo>
                  <a:pt x="1229" y="1072"/>
                </a:lnTo>
                <a:lnTo>
                  <a:pt x="1227" y="1072"/>
                </a:lnTo>
                <a:lnTo>
                  <a:pt x="1225" y="1072"/>
                </a:lnTo>
                <a:lnTo>
                  <a:pt x="1224" y="1072"/>
                </a:lnTo>
                <a:lnTo>
                  <a:pt x="1222" y="1072"/>
                </a:lnTo>
                <a:lnTo>
                  <a:pt x="1219" y="1072"/>
                </a:lnTo>
                <a:lnTo>
                  <a:pt x="1218" y="1072"/>
                </a:lnTo>
                <a:lnTo>
                  <a:pt x="1216" y="1072"/>
                </a:lnTo>
                <a:lnTo>
                  <a:pt x="1213" y="1072"/>
                </a:lnTo>
                <a:lnTo>
                  <a:pt x="1212" y="1072"/>
                </a:lnTo>
                <a:lnTo>
                  <a:pt x="1211" y="1072"/>
                </a:lnTo>
                <a:lnTo>
                  <a:pt x="1208" y="1072"/>
                </a:lnTo>
                <a:lnTo>
                  <a:pt x="1206" y="1072"/>
                </a:lnTo>
                <a:lnTo>
                  <a:pt x="1203" y="1072"/>
                </a:lnTo>
                <a:lnTo>
                  <a:pt x="1202" y="1072"/>
                </a:lnTo>
                <a:lnTo>
                  <a:pt x="1197" y="1072"/>
                </a:lnTo>
                <a:lnTo>
                  <a:pt x="1195" y="1073"/>
                </a:lnTo>
                <a:lnTo>
                  <a:pt x="1190" y="1073"/>
                </a:lnTo>
                <a:lnTo>
                  <a:pt x="1187" y="1073"/>
                </a:lnTo>
                <a:lnTo>
                  <a:pt x="1184" y="1073"/>
                </a:lnTo>
                <a:lnTo>
                  <a:pt x="1180" y="1075"/>
                </a:lnTo>
                <a:lnTo>
                  <a:pt x="1177" y="1075"/>
                </a:lnTo>
                <a:lnTo>
                  <a:pt x="1174" y="1076"/>
                </a:lnTo>
                <a:lnTo>
                  <a:pt x="1171" y="1076"/>
                </a:lnTo>
                <a:lnTo>
                  <a:pt x="1167" y="1078"/>
                </a:lnTo>
                <a:lnTo>
                  <a:pt x="1164" y="1079"/>
                </a:lnTo>
                <a:lnTo>
                  <a:pt x="1161" y="1079"/>
                </a:lnTo>
                <a:lnTo>
                  <a:pt x="1158" y="1080"/>
                </a:lnTo>
                <a:lnTo>
                  <a:pt x="1155" y="1082"/>
                </a:lnTo>
                <a:lnTo>
                  <a:pt x="1151" y="1083"/>
                </a:lnTo>
                <a:lnTo>
                  <a:pt x="1148" y="1085"/>
                </a:lnTo>
                <a:close/>
                <a:moveTo>
                  <a:pt x="1048" y="1217"/>
                </a:moveTo>
                <a:lnTo>
                  <a:pt x="1019" y="1249"/>
                </a:lnTo>
                <a:lnTo>
                  <a:pt x="982" y="1213"/>
                </a:lnTo>
                <a:lnTo>
                  <a:pt x="1019" y="1171"/>
                </a:lnTo>
                <a:lnTo>
                  <a:pt x="1048" y="1195"/>
                </a:lnTo>
                <a:lnTo>
                  <a:pt x="1074" y="1162"/>
                </a:lnTo>
                <a:lnTo>
                  <a:pt x="1112" y="1195"/>
                </a:lnTo>
                <a:lnTo>
                  <a:pt x="1074" y="1243"/>
                </a:lnTo>
                <a:lnTo>
                  <a:pt x="1048" y="1217"/>
                </a:lnTo>
                <a:close/>
                <a:moveTo>
                  <a:pt x="1459" y="689"/>
                </a:moveTo>
                <a:lnTo>
                  <a:pt x="1447" y="682"/>
                </a:lnTo>
                <a:lnTo>
                  <a:pt x="1437" y="675"/>
                </a:lnTo>
                <a:lnTo>
                  <a:pt x="1427" y="666"/>
                </a:lnTo>
                <a:lnTo>
                  <a:pt x="1418" y="659"/>
                </a:lnTo>
                <a:lnTo>
                  <a:pt x="1408" y="651"/>
                </a:lnTo>
                <a:lnTo>
                  <a:pt x="1399" y="646"/>
                </a:lnTo>
                <a:lnTo>
                  <a:pt x="1391" y="638"/>
                </a:lnTo>
                <a:lnTo>
                  <a:pt x="1383" y="631"/>
                </a:lnTo>
                <a:lnTo>
                  <a:pt x="1376" y="625"/>
                </a:lnTo>
                <a:lnTo>
                  <a:pt x="1369" y="619"/>
                </a:lnTo>
                <a:lnTo>
                  <a:pt x="1362" y="612"/>
                </a:lnTo>
                <a:lnTo>
                  <a:pt x="1356" y="606"/>
                </a:lnTo>
                <a:lnTo>
                  <a:pt x="1352" y="601"/>
                </a:lnTo>
                <a:lnTo>
                  <a:pt x="1346" y="595"/>
                </a:lnTo>
                <a:lnTo>
                  <a:pt x="1341" y="589"/>
                </a:lnTo>
                <a:lnTo>
                  <a:pt x="1338" y="585"/>
                </a:lnTo>
                <a:lnTo>
                  <a:pt x="1340" y="593"/>
                </a:lnTo>
                <a:lnTo>
                  <a:pt x="1341" y="602"/>
                </a:lnTo>
                <a:lnTo>
                  <a:pt x="1343" y="611"/>
                </a:lnTo>
                <a:lnTo>
                  <a:pt x="1344" y="619"/>
                </a:lnTo>
                <a:lnTo>
                  <a:pt x="1346" y="628"/>
                </a:lnTo>
                <a:lnTo>
                  <a:pt x="1346" y="637"/>
                </a:lnTo>
                <a:lnTo>
                  <a:pt x="1347" y="646"/>
                </a:lnTo>
                <a:lnTo>
                  <a:pt x="1349" y="654"/>
                </a:lnTo>
                <a:lnTo>
                  <a:pt x="1350" y="663"/>
                </a:lnTo>
                <a:lnTo>
                  <a:pt x="1352" y="670"/>
                </a:lnTo>
                <a:lnTo>
                  <a:pt x="1353" y="679"/>
                </a:lnTo>
                <a:lnTo>
                  <a:pt x="1353" y="688"/>
                </a:lnTo>
                <a:lnTo>
                  <a:pt x="1354" y="695"/>
                </a:lnTo>
                <a:lnTo>
                  <a:pt x="1356" y="704"/>
                </a:lnTo>
                <a:lnTo>
                  <a:pt x="1356" y="711"/>
                </a:lnTo>
                <a:lnTo>
                  <a:pt x="1357" y="718"/>
                </a:lnTo>
                <a:lnTo>
                  <a:pt x="1366" y="727"/>
                </a:lnTo>
                <a:lnTo>
                  <a:pt x="1376" y="734"/>
                </a:lnTo>
                <a:lnTo>
                  <a:pt x="1385" y="742"/>
                </a:lnTo>
                <a:lnTo>
                  <a:pt x="1394" y="750"/>
                </a:lnTo>
                <a:lnTo>
                  <a:pt x="1402" y="758"/>
                </a:lnTo>
                <a:lnTo>
                  <a:pt x="1411" y="766"/>
                </a:lnTo>
                <a:lnTo>
                  <a:pt x="1420" y="774"/>
                </a:lnTo>
                <a:lnTo>
                  <a:pt x="1429" y="782"/>
                </a:lnTo>
                <a:lnTo>
                  <a:pt x="1436" y="790"/>
                </a:lnTo>
                <a:lnTo>
                  <a:pt x="1445" y="798"/>
                </a:lnTo>
                <a:lnTo>
                  <a:pt x="1452" y="806"/>
                </a:lnTo>
                <a:lnTo>
                  <a:pt x="1459" y="814"/>
                </a:lnTo>
                <a:lnTo>
                  <a:pt x="1465" y="822"/>
                </a:lnTo>
                <a:lnTo>
                  <a:pt x="1472" y="830"/>
                </a:lnTo>
                <a:lnTo>
                  <a:pt x="1478" y="838"/>
                </a:lnTo>
                <a:lnTo>
                  <a:pt x="1482" y="846"/>
                </a:lnTo>
                <a:lnTo>
                  <a:pt x="1481" y="836"/>
                </a:lnTo>
                <a:lnTo>
                  <a:pt x="1479" y="827"/>
                </a:lnTo>
                <a:lnTo>
                  <a:pt x="1478" y="817"/>
                </a:lnTo>
                <a:lnTo>
                  <a:pt x="1476" y="808"/>
                </a:lnTo>
                <a:lnTo>
                  <a:pt x="1475" y="798"/>
                </a:lnTo>
                <a:lnTo>
                  <a:pt x="1474" y="788"/>
                </a:lnTo>
                <a:lnTo>
                  <a:pt x="1472" y="779"/>
                </a:lnTo>
                <a:lnTo>
                  <a:pt x="1471" y="769"/>
                </a:lnTo>
                <a:lnTo>
                  <a:pt x="1469" y="759"/>
                </a:lnTo>
                <a:lnTo>
                  <a:pt x="1468" y="749"/>
                </a:lnTo>
                <a:lnTo>
                  <a:pt x="1466" y="739"/>
                </a:lnTo>
                <a:lnTo>
                  <a:pt x="1465" y="730"/>
                </a:lnTo>
                <a:lnTo>
                  <a:pt x="1463" y="720"/>
                </a:lnTo>
                <a:lnTo>
                  <a:pt x="1462" y="710"/>
                </a:lnTo>
                <a:lnTo>
                  <a:pt x="1461" y="699"/>
                </a:lnTo>
                <a:lnTo>
                  <a:pt x="1459" y="689"/>
                </a:lnTo>
                <a:close/>
                <a:moveTo>
                  <a:pt x="1417" y="406"/>
                </a:moveTo>
                <a:lnTo>
                  <a:pt x="1413" y="414"/>
                </a:lnTo>
                <a:lnTo>
                  <a:pt x="1408" y="422"/>
                </a:lnTo>
                <a:lnTo>
                  <a:pt x="1402" y="430"/>
                </a:lnTo>
                <a:lnTo>
                  <a:pt x="1398" y="439"/>
                </a:lnTo>
                <a:lnTo>
                  <a:pt x="1392" y="446"/>
                </a:lnTo>
                <a:lnTo>
                  <a:pt x="1388" y="455"/>
                </a:lnTo>
                <a:lnTo>
                  <a:pt x="1382" y="464"/>
                </a:lnTo>
                <a:lnTo>
                  <a:pt x="1379" y="473"/>
                </a:lnTo>
                <a:lnTo>
                  <a:pt x="1375" y="481"/>
                </a:lnTo>
                <a:lnTo>
                  <a:pt x="1372" y="489"/>
                </a:lnTo>
                <a:lnTo>
                  <a:pt x="1369" y="497"/>
                </a:lnTo>
                <a:lnTo>
                  <a:pt x="1368" y="506"/>
                </a:lnTo>
                <a:lnTo>
                  <a:pt x="1368" y="513"/>
                </a:lnTo>
                <a:lnTo>
                  <a:pt x="1368" y="521"/>
                </a:lnTo>
                <a:lnTo>
                  <a:pt x="1369" y="528"/>
                </a:lnTo>
                <a:lnTo>
                  <a:pt x="1372" y="534"/>
                </a:lnTo>
                <a:lnTo>
                  <a:pt x="1373" y="537"/>
                </a:lnTo>
                <a:lnTo>
                  <a:pt x="1376" y="539"/>
                </a:lnTo>
                <a:lnTo>
                  <a:pt x="1378" y="544"/>
                </a:lnTo>
                <a:lnTo>
                  <a:pt x="1381" y="547"/>
                </a:lnTo>
                <a:lnTo>
                  <a:pt x="1385" y="551"/>
                </a:lnTo>
                <a:lnTo>
                  <a:pt x="1388" y="554"/>
                </a:lnTo>
                <a:lnTo>
                  <a:pt x="1392" y="558"/>
                </a:lnTo>
                <a:lnTo>
                  <a:pt x="1398" y="561"/>
                </a:lnTo>
                <a:lnTo>
                  <a:pt x="1402" y="566"/>
                </a:lnTo>
                <a:lnTo>
                  <a:pt x="1408" y="570"/>
                </a:lnTo>
                <a:lnTo>
                  <a:pt x="1414" y="574"/>
                </a:lnTo>
                <a:lnTo>
                  <a:pt x="1420" y="579"/>
                </a:lnTo>
                <a:lnTo>
                  <a:pt x="1426" y="583"/>
                </a:lnTo>
                <a:lnTo>
                  <a:pt x="1433" y="589"/>
                </a:lnTo>
                <a:lnTo>
                  <a:pt x="1439" y="593"/>
                </a:lnTo>
                <a:lnTo>
                  <a:pt x="1446" y="599"/>
                </a:lnTo>
                <a:lnTo>
                  <a:pt x="1445" y="586"/>
                </a:lnTo>
                <a:lnTo>
                  <a:pt x="1443" y="574"/>
                </a:lnTo>
                <a:lnTo>
                  <a:pt x="1442" y="563"/>
                </a:lnTo>
                <a:lnTo>
                  <a:pt x="1439" y="550"/>
                </a:lnTo>
                <a:lnTo>
                  <a:pt x="1437" y="538"/>
                </a:lnTo>
                <a:lnTo>
                  <a:pt x="1436" y="526"/>
                </a:lnTo>
                <a:lnTo>
                  <a:pt x="1434" y="513"/>
                </a:lnTo>
                <a:lnTo>
                  <a:pt x="1431" y="502"/>
                </a:lnTo>
                <a:lnTo>
                  <a:pt x="1430" y="490"/>
                </a:lnTo>
                <a:lnTo>
                  <a:pt x="1429" y="477"/>
                </a:lnTo>
                <a:lnTo>
                  <a:pt x="1427" y="465"/>
                </a:lnTo>
                <a:lnTo>
                  <a:pt x="1424" y="454"/>
                </a:lnTo>
                <a:lnTo>
                  <a:pt x="1423" y="442"/>
                </a:lnTo>
                <a:lnTo>
                  <a:pt x="1421" y="430"/>
                </a:lnTo>
                <a:lnTo>
                  <a:pt x="1420" y="417"/>
                </a:lnTo>
                <a:lnTo>
                  <a:pt x="1417" y="406"/>
                </a:lnTo>
                <a:close/>
                <a:moveTo>
                  <a:pt x="1812" y="1232"/>
                </a:moveTo>
                <a:lnTo>
                  <a:pt x="1817" y="1220"/>
                </a:lnTo>
                <a:lnTo>
                  <a:pt x="1821" y="1210"/>
                </a:lnTo>
                <a:lnTo>
                  <a:pt x="1825" y="1198"/>
                </a:lnTo>
                <a:lnTo>
                  <a:pt x="1828" y="1188"/>
                </a:lnTo>
                <a:lnTo>
                  <a:pt x="1831" y="1176"/>
                </a:lnTo>
                <a:lnTo>
                  <a:pt x="1834" y="1166"/>
                </a:lnTo>
                <a:lnTo>
                  <a:pt x="1837" y="1156"/>
                </a:lnTo>
                <a:lnTo>
                  <a:pt x="1838" y="1146"/>
                </a:lnTo>
                <a:lnTo>
                  <a:pt x="1841" y="1136"/>
                </a:lnTo>
                <a:lnTo>
                  <a:pt x="1841" y="1127"/>
                </a:lnTo>
                <a:lnTo>
                  <a:pt x="1843" y="1118"/>
                </a:lnTo>
                <a:lnTo>
                  <a:pt x="1843" y="1111"/>
                </a:lnTo>
                <a:lnTo>
                  <a:pt x="1843" y="1102"/>
                </a:lnTo>
                <a:lnTo>
                  <a:pt x="1843" y="1096"/>
                </a:lnTo>
                <a:lnTo>
                  <a:pt x="1841" y="1089"/>
                </a:lnTo>
                <a:lnTo>
                  <a:pt x="1841" y="1085"/>
                </a:lnTo>
                <a:lnTo>
                  <a:pt x="1833" y="1056"/>
                </a:lnTo>
                <a:lnTo>
                  <a:pt x="1821" y="1027"/>
                </a:lnTo>
                <a:lnTo>
                  <a:pt x="1806" y="1000"/>
                </a:lnTo>
                <a:lnTo>
                  <a:pt x="1789" y="973"/>
                </a:lnTo>
                <a:lnTo>
                  <a:pt x="1770" y="948"/>
                </a:lnTo>
                <a:lnTo>
                  <a:pt x="1750" y="922"/>
                </a:lnTo>
                <a:lnTo>
                  <a:pt x="1726" y="899"/>
                </a:lnTo>
                <a:lnTo>
                  <a:pt x="1703" y="874"/>
                </a:lnTo>
                <a:lnTo>
                  <a:pt x="1677" y="852"/>
                </a:lnTo>
                <a:lnTo>
                  <a:pt x="1651" y="830"/>
                </a:lnTo>
                <a:lnTo>
                  <a:pt x="1625" y="808"/>
                </a:lnTo>
                <a:lnTo>
                  <a:pt x="1599" y="787"/>
                </a:lnTo>
                <a:lnTo>
                  <a:pt x="1571" y="768"/>
                </a:lnTo>
                <a:lnTo>
                  <a:pt x="1545" y="747"/>
                </a:lnTo>
                <a:lnTo>
                  <a:pt x="1517" y="730"/>
                </a:lnTo>
                <a:lnTo>
                  <a:pt x="1492" y="711"/>
                </a:lnTo>
                <a:lnTo>
                  <a:pt x="1492" y="717"/>
                </a:lnTo>
                <a:lnTo>
                  <a:pt x="1494" y="723"/>
                </a:lnTo>
                <a:lnTo>
                  <a:pt x="1494" y="729"/>
                </a:lnTo>
                <a:lnTo>
                  <a:pt x="1495" y="734"/>
                </a:lnTo>
                <a:lnTo>
                  <a:pt x="1495" y="739"/>
                </a:lnTo>
                <a:lnTo>
                  <a:pt x="1497" y="743"/>
                </a:lnTo>
                <a:lnTo>
                  <a:pt x="1497" y="749"/>
                </a:lnTo>
                <a:lnTo>
                  <a:pt x="1498" y="753"/>
                </a:lnTo>
                <a:lnTo>
                  <a:pt x="1498" y="758"/>
                </a:lnTo>
                <a:lnTo>
                  <a:pt x="1498" y="762"/>
                </a:lnTo>
                <a:lnTo>
                  <a:pt x="1500" y="765"/>
                </a:lnTo>
                <a:lnTo>
                  <a:pt x="1500" y="769"/>
                </a:lnTo>
                <a:lnTo>
                  <a:pt x="1500" y="772"/>
                </a:lnTo>
                <a:lnTo>
                  <a:pt x="1501" y="775"/>
                </a:lnTo>
                <a:lnTo>
                  <a:pt x="1501" y="778"/>
                </a:lnTo>
                <a:lnTo>
                  <a:pt x="1501" y="781"/>
                </a:lnTo>
                <a:lnTo>
                  <a:pt x="1503" y="791"/>
                </a:lnTo>
                <a:lnTo>
                  <a:pt x="1504" y="803"/>
                </a:lnTo>
                <a:lnTo>
                  <a:pt x="1506" y="813"/>
                </a:lnTo>
                <a:lnTo>
                  <a:pt x="1507" y="823"/>
                </a:lnTo>
                <a:lnTo>
                  <a:pt x="1508" y="835"/>
                </a:lnTo>
                <a:lnTo>
                  <a:pt x="1510" y="845"/>
                </a:lnTo>
                <a:lnTo>
                  <a:pt x="1511" y="856"/>
                </a:lnTo>
                <a:lnTo>
                  <a:pt x="1513" y="867"/>
                </a:lnTo>
                <a:lnTo>
                  <a:pt x="1514" y="878"/>
                </a:lnTo>
                <a:lnTo>
                  <a:pt x="1516" y="888"/>
                </a:lnTo>
                <a:lnTo>
                  <a:pt x="1517" y="900"/>
                </a:lnTo>
                <a:lnTo>
                  <a:pt x="1519" y="910"/>
                </a:lnTo>
                <a:lnTo>
                  <a:pt x="1519" y="922"/>
                </a:lnTo>
                <a:lnTo>
                  <a:pt x="1520" y="932"/>
                </a:lnTo>
                <a:lnTo>
                  <a:pt x="1522" y="944"/>
                </a:lnTo>
                <a:lnTo>
                  <a:pt x="1523" y="954"/>
                </a:lnTo>
                <a:lnTo>
                  <a:pt x="1543" y="970"/>
                </a:lnTo>
                <a:lnTo>
                  <a:pt x="1564" y="986"/>
                </a:lnTo>
                <a:lnTo>
                  <a:pt x="1583" y="1002"/>
                </a:lnTo>
                <a:lnTo>
                  <a:pt x="1601" y="1019"/>
                </a:lnTo>
                <a:lnTo>
                  <a:pt x="1620" y="1035"/>
                </a:lnTo>
                <a:lnTo>
                  <a:pt x="1639" y="1053"/>
                </a:lnTo>
                <a:lnTo>
                  <a:pt x="1657" y="1070"/>
                </a:lnTo>
                <a:lnTo>
                  <a:pt x="1676" y="1088"/>
                </a:lnTo>
                <a:lnTo>
                  <a:pt x="1693" y="1107"/>
                </a:lnTo>
                <a:lnTo>
                  <a:pt x="1710" y="1124"/>
                </a:lnTo>
                <a:lnTo>
                  <a:pt x="1728" y="1141"/>
                </a:lnTo>
                <a:lnTo>
                  <a:pt x="1744" y="1160"/>
                </a:lnTo>
                <a:lnTo>
                  <a:pt x="1761" y="1178"/>
                </a:lnTo>
                <a:lnTo>
                  <a:pt x="1779" y="1195"/>
                </a:lnTo>
                <a:lnTo>
                  <a:pt x="1795" y="1213"/>
                </a:lnTo>
                <a:lnTo>
                  <a:pt x="1812" y="1232"/>
                </a:lnTo>
                <a:close/>
                <a:moveTo>
                  <a:pt x="1757" y="1310"/>
                </a:moveTo>
                <a:lnTo>
                  <a:pt x="1758" y="1309"/>
                </a:lnTo>
                <a:lnTo>
                  <a:pt x="1760" y="1307"/>
                </a:lnTo>
                <a:lnTo>
                  <a:pt x="1760" y="1306"/>
                </a:lnTo>
                <a:lnTo>
                  <a:pt x="1761" y="1304"/>
                </a:lnTo>
                <a:lnTo>
                  <a:pt x="1763" y="1303"/>
                </a:lnTo>
                <a:lnTo>
                  <a:pt x="1764" y="1303"/>
                </a:lnTo>
                <a:lnTo>
                  <a:pt x="1766" y="1301"/>
                </a:lnTo>
                <a:lnTo>
                  <a:pt x="1767" y="1300"/>
                </a:lnTo>
                <a:lnTo>
                  <a:pt x="1769" y="1299"/>
                </a:lnTo>
                <a:lnTo>
                  <a:pt x="1770" y="1297"/>
                </a:lnTo>
                <a:lnTo>
                  <a:pt x="1772" y="1296"/>
                </a:lnTo>
                <a:lnTo>
                  <a:pt x="1773" y="1294"/>
                </a:lnTo>
                <a:lnTo>
                  <a:pt x="1774" y="1293"/>
                </a:lnTo>
                <a:lnTo>
                  <a:pt x="1776" y="1291"/>
                </a:lnTo>
                <a:lnTo>
                  <a:pt x="1777" y="1290"/>
                </a:lnTo>
                <a:lnTo>
                  <a:pt x="1779" y="1288"/>
                </a:lnTo>
                <a:lnTo>
                  <a:pt x="1766" y="1275"/>
                </a:lnTo>
                <a:lnTo>
                  <a:pt x="1753" y="1262"/>
                </a:lnTo>
                <a:lnTo>
                  <a:pt x="1740" y="1248"/>
                </a:lnTo>
                <a:lnTo>
                  <a:pt x="1726" y="1233"/>
                </a:lnTo>
                <a:lnTo>
                  <a:pt x="1712" y="1219"/>
                </a:lnTo>
                <a:lnTo>
                  <a:pt x="1697" y="1203"/>
                </a:lnTo>
                <a:lnTo>
                  <a:pt x="1683" y="1188"/>
                </a:lnTo>
                <a:lnTo>
                  <a:pt x="1667" y="1172"/>
                </a:lnTo>
                <a:lnTo>
                  <a:pt x="1652" y="1156"/>
                </a:lnTo>
                <a:lnTo>
                  <a:pt x="1636" y="1140"/>
                </a:lnTo>
                <a:lnTo>
                  <a:pt x="1619" y="1124"/>
                </a:lnTo>
                <a:lnTo>
                  <a:pt x="1603" y="1108"/>
                </a:lnTo>
                <a:lnTo>
                  <a:pt x="1585" y="1092"/>
                </a:lnTo>
                <a:lnTo>
                  <a:pt x="1568" y="1078"/>
                </a:lnTo>
                <a:lnTo>
                  <a:pt x="1551" y="1062"/>
                </a:lnTo>
                <a:lnTo>
                  <a:pt x="1533" y="1046"/>
                </a:lnTo>
                <a:lnTo>
                  <a:pt x="1533" y="1050"/>
                </a:lnTo>
                <a:lnTo>
                  <a:pt x="1533" y="1053"/>
                </a:lnTo>
                <a:lnTo>
                  <a:pt x="1535" y="1057"/>
                </a:lnTo>
                <a:lnTo>
                  <a:pt x="1535" y="1060"/>
                </a:lnTo>
                <a:lnTo>
                  <a:pt x="1535" y="1064"/>
                </a:lnTo>
                <a:lnTo>
                  <a:pt x="1536" y="1067"/>
                </a:lnTo>
                <a:lnTo>
                  <a:pt x="1536" y="1072"/>
                </a:lnTo>
                <a:lnTo>
                  <a:pt x="1536" y="1075"/>
                </a:lnTo>
                <a:lnTo>
                  <a:pt x="1538" y="1079"/>
                </a:lnTo>
                <a:lnTo>
                  <a:pt x="1538" y="1082"/>
                </a:lnTo>
                <a:lnTo>
                  <a:pt x="1538" y="1086"/>
                </a:lnTo>
                <a:lnTo>
                  <a:pt x="1539" y="1089"/>
                </a:lnTo>
                <a:lnTo>
                  <a:pt x="1539" y="1092"/>
                </a:lnTo>
                <a:lnTo>
                  <a:pt x="1539" y="1096"/>
                </a:lnTo>
                <a:lnTo>
                  <a:pt x="1540" y="1099"/>
                </a:lnTo>
                <a:lnTo>
                  <a:pt x="1540" y="1104"/>
                </a:lnTo>
                <a:lnTo>
                  <a:pt x="1556" y="1117"/>
                </a:lnTo>
                <a:lnTo>
                  <a:pt x="1571" y="1128"/>
                </a:lnTo>
                <a:lnTo>
                  <a:pt x="1585" y="1141"/>
                </a:lnTo>
                <a:lnTo>
                  <a:pt x="1600" y="1155"/>
                </a:lnTo>
                <a:lnTo>
                  <a:pt x="1615" y="1168"/>
                </a:lnTo>
                <a:lnTo>
                  <a:pt x="1629" y="1181"/>
                </a:lnTo>
                <a:lnTo>
                  <a:pt x="1644" y="1194"/>
                </a:lnTo>
                <a:lnTo>
                  <a:pt x="1657" y="1208"/>
                </a:lnTo>
                <a:lnTo>
                  <a:pt x="1670" y="1221"/>
                </a:lnTo>
                <a:lnTo>
                  <a:pt x="1683" y="1235"/>
                </a:lnTo>
                <a:lnTo>
                  <a:pt x="1696" y="1248"/>
                </a:lnTo>
                <a:lnTo>
                  <a:pt x="1708" y="1261"/>
                </a:lnTo>
                <a:lnTo>
                  <a:pt x="1721" y="1272"/>
                </a:lnTo>
                <a:lnTo>
                  <a:pt x="1732" y="1285"/>
                </a:lnTo>
                <a:lnTo>
                  <a:pt x="1745" y="1299"/>
                </a:lnTo>
                <a:lnTo>
                  <a:pt x="1757" y="1310"/>
                </a:lnTo>
                <a:close/>
                <a:moveTo>
                  <a:pt x="1229" y="765"/>
                </a:moveTo>
                <a:lnTo>
                  <a:pt x="1237" y="769"/>
                </a:lnTo>
                <a:lnTo>
                  <a:pt x="1243" y="774"/>
                </a:lnTo>
                <a:lnTo>
                  <a:pt x="1250" y="778"/>
                </a:lnTo>
                <a:lnTo>
                  <a:pt x="1256" y="784"/>
                </a:lnTo>
                <a:lnTo>
                  <a:pt x="1263" y="788"/>
                </a:lnTo>
                <a:lnTo>
                  <a:pt x="1269" y="793"/>
                </a:lnTo>
                <a:lnTo>
                  <a:pt x="1276" y="797"/>
                </a:lnTo>
                <a:lnTo>
                  <a:pt x="1282" y="803"/>
                </a:lnTo>
                <a:lnTo>
                  <a:pt x="1289" y="807"/>
                </a:lnTo>
                <a:lnTo>
                  <a:pt x="1295" y="813"/>
                </a:lnTo>
                <a:lnTo>
                  <a:pt x="1302" y="817"/>
                </a:lnTo>
                <a:lnTo>
                  <a:pt x="1308" y="823"/>
                </a:lnTo>
                <a:lnTo>
                  <a:pt x="1314" y="827"/>
                </a:lnTo>
                <a:lnTo>
                  <a:pt x="1320" y="833"/>
                </a:lnTo>
                <a:lnTo>
                  <a:pt x="1325" y="839"/>
                </a:lnTo>
                <a:lnTo>
                  <a:pt x="1331" y="843"/>
                </a:lnTo>
                <a:lnTo>
                  <a:pt x="1333" y="845"/>
                </a:lnTo>
                <a:lnTo>
                  <a:pt x="1334" y="845"/>
                </a:lnTo>
                <a:lnTo>
                  <a:pt x="1336" y="845"/>
                </a:lnTo>
                <a:lnTo>
                  <a:pt x="1336" y="846"/>
                </a:lnTo>
                <a:lnTo>
                  <a:pt x="1337" y="846"/>
                </a:lnTo>
                <a:lnTo>
                  <a:pt x="1338" y="846"/>
                </a:lnTo>
                <a:lnTo>
                  <a:pt x="1340" y="848"/>
                </a:lnTo>
                <a:lnTo>
                  <a:pt x="1341" y="848"/>
                </a:lnTo>
                <a:lnTo>
                  <a:pt x="1343" y="848"/>
                </a:lnTo>
                <a:lnTo>
                  <a:pt x="1343" y="849"/>
                </a:lnTo>
                <a:lnTo>
                  <a:pt x="1343" y="845"/>
                </a:lnTo>
                <a:lnTo>
                  <a:pt x="1343" y="840"/>
                </a:lnTo>
                <a:lnTo>
                  <a:pt x="1341" y="836"/>
                </a:lnTo>
                <a:lnTo>
                  <a:pt x="1341" y="832"/>
                </a:lnTo>
                <a:lnTo>
                  <a:pt x="1340" y="827"/>
                </a:lnTo>
                <a:lnTo>
                  <a:pt x="1340" y="823"/>
                </a:lnTo>
                <a:lnTo>
                  <a:pt x="1338" y="819"/>
                </a:lnTo>
                <a:lnTo>
                  <a:pt x="1338" y="814"/>
                </a:lnTo>
                <a:lnTo>
                  <a:pt x="1337" y="810"/>
                </a:lnTo>
                <a:lnTo>
                  <a:pt x="1337" y="807"/>
                </a:lnTo>
                <a:lnTo>
                  <a:pt x="1337" y="803"/>
                </a:lnTo>
                <a:lnTo>
                  <a:pt x="1336" y="798"/>
                </a:lnTo>
                <a:lnTo>
                  <a:pt x="1336" y="794"/>
                </a:lnTo>
                <a:lnTo>
                  <a:pt x="1334" y="790"/>
                </a:lnTo>
                <a:lnTo>
                  <a:pt x="1334" y="785"/>
                </a:lnTo>
                <a:lnTo>
                  <a:pt x="1334" y="781"/>
                </a:lnTo>
                <a:lnTo>
                  <a:pt x="1325" y="774"/>
                </a:lnTo>
                <a:lnTo>
                  <a:pt x="1317" y="766"/>
                </a:lnTo>
                <a:lnTo>
                  <a:pt x="1308" y="759"/>
                </a:lnTo>
                <a:lnTo>
                  <a:pt x="1299" y="752"/>
                </a:lnTo>
                <a:lnTo>
                  <a:pt x="1290" y="745"/>
                </a:lnTo>
                <a:lnTo>
                  <a:pt x="1283" y="737"/>
                </a:lnTo>
                <a:lnTo>
                  <a:pt x="1274" y="730"/>
                </a:lnTo>
                <a:lnTo>
                  <a:pt x="1267" y="724"/>
                </a:lnTo>
                <a:lnTo>
                  <a:pt x="1260" y="717"/>
                </a:lnTo>
                <a:lnTo>
                  <a:pt x="1253" y="711"/>
                </a:lnTo>
                <a:lnTo>
                  <a:pt x="1245" y="704"/>
                </a:lnTo>
                <a:lnTo>
                  <a:pt x="1240" y="698"/>
                </a:lnTo>
                <a:lnTo>
                  <a:pt x="1232" y="691"/>
                </a:lnTo>
                <a:lnTo>
                  <a:pt x="1228" y="685"/>
                </a:lnTo>
                <a:lnTo>
                  <a:pt x="1222" y="679"/>
                </a:lnTo>
                <a:lnTo>
                  <a:pt x="1218" y="673"/>
                </a:lnTo>
                <a:lnTo>
                  <a:pt x="1219" y="679"/>
                </a:lnTo>
                <a:lnTo>
                  <a:pt x="1219" y="683"/>
                </a:lnTo>
                <a:lnTo>
                  <a:pt x="1219" y="689"/>
                </a:lnTo>
                <a:lnTo>
                  <a:pt x="1221" y="695"/>
                </a:lnTo>
                <a:lnTo>
                  <a:pt x="1221" y="701"/>
                </a:lnTo>
                <a:lnTo>
                  <a:pt x="1222" y="707"/>
                </a:lnTo>
                <a:lnTo>
                  <a:pt x="1222" y="713"/>
                </a:lnTo>
                <a:lnTo>
                  <a:pt x="1224" y="718"/>
                </a:lnTo>
                <a:lnTo>
                  <a:pt x="1224" y="724"/>
                </a:lnTo>
                <a:lnTo>
                  <a:pt x="1225" y="730"/>
                </a:lnTo>
                <a:lnTo>
                  <a:pt x="1225" y="736"/>
                </a:lnTo>
                <a:lnTo>
                  <a:pt x="1227" y="742"/>
                </a:lnTo>
                <a:lnTo>
                  <a:pt x="1228" y="747"/>
                </a:lnTo>
                <a:lnTo>
                  <a:pt x="1228" y="753"/>
                </a:lnTo>
                <a:lnTo>
                  <a:pt x="1229" y="759"/>
                </a:lnTo>
                <a:lnTo>
                  <a:pt x="1229" y="765"/>
                </a:lnTo>
                <a:close/>
                <a:moveTo>
                  <a:pt x="1279" y="1207"/>
                </a:moveTo>
                <a:lnTo>
                  <a:pt x="1273" y="1211"/>
                </a:lnTo>
                <a:lnTo>
                  <a:pt x="1267" y="1217"/>
                </a:lnTo>
                <a:lnTo>
                  <a:pt x="1261" y="1221"/>
                </a:lnTo>
                <a:lnTo>
                  <a:pt x="1256" y="1226"/>
                </a:lnTo>
                <a:lnTo>
                  <a:pt x="1251" y="1230"/>
                </a:lnTo>
                <a:lnTo>
                  <a:pt x="1245" y="1235"/>
                </a:lnTo>
                <a:lnTo>
                  <a:pt x="1240" y="1239"/>
                </a:lnTo>
                <a:lnTo>
                  <a:pt x="1234" y="1243"/>
                </a:lnTo>
                <a:lnTo>
                  <a:pt x="1228" y="1246"/>
                </a:lnTo>
                <a:lnTo>
                  <a:pt x="1222" y="1251"/>
                </a:lnTo>
                <a:lnTo>
                  <a:pt x="1216" y="1253"/>
                </a:lnTo>
                <a:lnTo>
                  <a:pt x="1212" y="1258"/>
                </a:lnTo>
                <a:lnTo>
                  <a:pt x="1206" y="1261"/>
                </a:lnTo>
                <a:lnTo>
                  <a:pt x="1200" y="1264"/>
                </a:lnTo>
                <a:lnTo>
                  <a:pt x="1195" y="1267"/>
                </a:lnTo>
                <a:lnTo>
                  <a:pt x="1190" y="1269"/>
                </a:lnTo>
                <a:lnTo>
                  <a:pt x="1177" y="1262"/>
                </a:lnTo>
                <a:lnTo>
                  <a:pt x="1193" y="1252"/>
                </a:lnTo>
                <a:lnTo>
                  <a:pt x="1209" y="1240"/>
                </a:lnTo>
                <a:lnTo>
                  <a:pt x="1224" y="1227"/>
                </a:lnTo>
                <a:lnTo>
                  <a:pt x="1240" y="1214"/>
                </a:lnTo>
                <a:lnTo>
                  <a:pt x="1253" y="1200"/>
                </a:lnTo>
                <a:lnTo>
                  <a:pt x="1267" y="1185"/>
                </a:lnTo>
                <a:lnTo>
                  <a:pt x="1280" y="1169"/>
                </a:lnTo>
                <a:lnTo>
                  <a:pt x="1292" y="1155"/>
                </a:lnTo>
                <a:lnTo>
                  <a:pt x="1302" y="1139"/>
                </a:lnTo>
                <a:lnTo>
                  <a:pt x="1314" y="1123"/>
                </a:lnTo>
                <a:lnTo>
                  <a:pt x="1322" y="1107"/>
                </a:lnTo>
                <a:lnTo>
                  <a:pt x="1330" y="1092"/>
                </a:lnTo>
                <a:lnTo>
                  <a:pt x="1337" y="1078"/>
                </a:lnTo>
                <a:lnTo>
                  <a:pt x="1343" y="1063"/>
                </a:lnTo>
                <a:lnTo>
                  <a:pt x="1347" y="1050"/>
                </a:lnTo>
                <a:lnTo>
                  <a:pt x="1350" y="1038"/>
                </a:lnTo>
                <a:lnTo>
                  <a:pt x="1349" y="1038"/>
                </a:lnTo>
                <a:lnTo>
                  <a:pt x="1347" y="1037"/>
                </a:lnTo>
                <a:lnTo>
                  <a:pt x="1346" y="1037"/>
                </a:lnTo>
                <a:lnTo>
                  <a:pt x="1343" y="1035"/>
                </a:lnTo>
                <a:lnTo>
                  <a:pt x="1341" y="1035"/>
                </a:lnTo>
                <a:lnTo>
                  <a:pt x="1340" y="1034"/>
                </a:lnTo>
                <a:lnTo>
                  <a:pt x="1338" y="1034"/>
                </a:lnTo>
                <a:lnTo>
                  <a:pt x="1337" y="1032"/>
                </a:lnTo>
                <a:lnTo>
                  <a:pt x="1336" y="1032"/>
                </a:lnTo>
                <a:lnTo>
                  <a:pt x="1334" y="1031"/>
                </a:lnTo>
                <a:lnTo>
                  <a:pt x="1333" y="1031"/>
                </a:lnTo>
                <a:lnTo>
                  <a:pt x="1331" y="1030"/>
                </a:lnTo>
                <a:lnTo>
                  <a:pt x="1328" y="1030"/>
                </a:lnTo>
                <a:lnTo>
                  <a:pt x="1327" y="1028"/>
                </a:lnTo>
                <a:lnTo>
                  <a:pt x="1325" y="1028"/>
                </a:lnTo>
                <a:lnTo>
                  <a:pt x="1324" y="1027"/>
                </a:lnTo>
                <a:lnTo>
                  <a:pt x="1286" y="1079"/>
                </a:lnTo>
                <a:lnTo>
                  <a:pt x="1283" y="1079"/>
                </a:lnTo>
                <a:lnTo>
                  <a:pt x="1282" y="1079"/>
                </a:lnTo>
                <a:lnTo>
                  <a:pt x="1280" y="1079"/>
                </a:lnTo>
                <a:lnTo>
                  <a:pt x="1279" y="1078"/>
                </a:lnTo>
                <a:lnTo>
                  <a:pt x="1277" y="1078"/>
                </a:lnTo>
                <a:lnTo>
                  <a:pt x="1276" y="1078"/>
                </a:lnTo>
                <a:lnTo>
                  <a:pt x="1274" y="1078"/>
                </a:lnTo>
                <a:lnTo>
                  <a:pt x="1273" y="1078"/>
                </a:lnTo>
                <a:lnTo>
                  <a:pt x="1272" y="1076"/>
                </a:lnTo>
                <a:lnTo>
                  <a:pt x="1270" y="1076"/>
                </a:lnTo>
                <a:lnTo>
                  <a:pt x="1269" y="1076"/>
                </a:lnTo>
                <a:lnTo>
                  <a:pt x="1267" y="1076"/>
                </a:lnTo>
                <a:lnTo>
                  <a:pt x="1266" y="1076"/>
                </a:lnTo>
                <a:lnTo>
                  <a:pt x="1264" y="1076"/>
                </a:lnTo>
                <a:lnTo>
                  <a:pt x="1263" y="1075"/>
                </a:lnTo>
                <a:lnTo>
                  <a:pt x="1261" y="1075"/>
                </a:lnTo>
                <a:lnTo>
                  <a:pt x="1261" y="1078"/>
                </a:lnTo>
                <a:lnTo>
                  <a:pt x="1261" y="1079"/>
                </a:lnTo>
                <a:lnTo>
                  <a:pt x="1261" y="1082"/>
                </a:lnTo>
                <a:lnTo>
                  <a:pt x="1261" y="1085"/>
                </a:lnTo>
                <a:lnTo>
                  <a:pt x="1261" y="1086"/>
                </a:lnTo>
                <a:lnTo>
                  <a:pt x="1261" y="1089"/>
                </a:lnTo>
                <a:lnTo>
                  <a:pt x="1261" y="1092"/>
                </a:lnTo>
                <a:lnTo>
                  <a:pt x="1261" y="1094"/>
                </a:lnTo>
                <a:lnTo>
                  <a:pt x="1261" y="1096"/>
                </a:lnTo>
                <a:lnTo>
                  <a:pt x="1261" y="1099"/>
                </a:lnTo>
                <a:lnTo>
                  <a:pt x="1261" y="1101"/>
                </a:lnTo>
                <a:lnTo>
                  <a:pt x="1261" y="1104"/>
                </a:lnTo>
                <a:lnTo>
                  <a:pt x="1261" y="1107"/>
                </a:lnTo>
                <a:lnTo>
                  <a:pt x="1261" y="1108"/>
                </a:lnTo>
                <a:lnTo>
                  <a:pt x="1261" y="1111"/>
                </a:lnTo>
                <a:lnTo>
                  <a:pt x="1261" y="1114"/>
                </a:lnTo>
                <a:lnTo>
                  <a:pt x="1261" y="1117"/>
                </a:lnTo>
                <a:lnTo>
                  <a:pt x="1261" y="1120"/>
                </a:lnTo>
                <a:lnTo>
                  <a:pt x="1260" y="1124"/>
                </a:lnTo>
                <a:lnTo>
                  <a:pt x="1259" y="1130"/>
                </a:lnTo>
                <a:lnTo>
                  <a:pt x="1257" y="1134"/>
                </a:lnTo>
                <a:lnTo>
                  <a:pt x="1256" y="1140"/>
                </a:lnTo>
                <a:lnTo>
                  <a:pt x="1253" y="1146"/>
                </a:lnTo>
                <a:lnTo>
                  <a:pt x="1250" y="1150"/>
                </a:lnTo>
                <a:lnTo>
                  <a:pt x="1247" y="1156"/>
                </a:lnTo>
                <a:lnTo>
                  <a:pt x="1244" y="1162"/>
                </a:lnTo>
                <a:lnTo>
                  <a:pt x="1240" y="1168"/>
                </a:lnTo>
                <a:lnTo>
                  <a:pt x="1237" y="1172"/>
                </a:lnTo>
                <a:lnTo>
                  <a:pt x="1231" y="1176"/>
                </a:lnTo>
                <a:lnTo>
                  <a:pt x="1227" y="1179"/>
                </a:lnTo>
                <a:lnTo>
                  <a:pt x="1221" y="1184"/>
                </a:lnTo>
                <a:lnTo>
                  <a:pt x="1216" y="1185"/>
                </a:lnTo>
                <a:lnTo>
                  <a:pt x="1212" y="1187"/>
                </a:lnTo>
                <a:lnTo>
                  <a:pt x="1209" y="1187"/>
                </a:lnTo>
                <a:lnTo>
                  <a:pt x="1206" y="1188"/>
                </a:lnTo>
                <a:lnTo>
                  <a:pt x="1202" y="1188"/>
                </a:lnTo>
                <a:lnTo>
                  <a:pt x="1199" y="1188"/>
                </a:lnTo>
                <a:lnTo>
                  <a:pt x="1196" y="1188"/>
                </a:lnTo>
                <a:lnTo>
                  <a:pt x="1193" y="1188"/>
                </a:lnTo>
                <a:lnTo>
                  <a:pt x="1190" y="1188"/>
                </a:lnTo>
                <a:lnTo>
                  <a:pt x="1187" y="1188"/>
                </a:lnTo>
                <a:lnTo>
                  <a:pt x="1186" y="1188"/>
                </a:lnTo>
                <a:lnTo>
                  <a:pt x="1183" y="1188"/>
                </a:lnTo>
                <a:lnTo>
                  <a:pt x="1180" y="1187"/>
                </a:lnTo>
                <a:lnTo>
                  <a:pt x="1177" y="1187"/>
                </a:lnTo>
                <a:lnTo>
                  <a:pt x="1174" y="1185"/>
                </a:lnTo>
                <a:lnTo>
                  <a:pt x="1171" y="1184"/>
                </a:lnTo>
                <a:lnTo>
                  <a:pt x="1168" y="1184"/>
                </a:lnTo>
                <a:lnTo>
                  <a:pt x="1167" y="1187"/>
                </a:lnTo>
                <a:lnTo>
                  <a:pt x="1167" y="1189"/>
                </a:lnTo>
                <a:lnTo>
                  <a:pt x="1167" y="1192"/>
                </a:lnTo>
                <a:lnTo>
                  <a:pt x="1167" y="1195"/>
                </a:lnTo>
                <a:lnTo>
                  <a:pt x="1167" y="1198"/>
                </a:lnTo>
                <a:lnTo>
                  <a:pt x="1167" y="1200"/>
                </a:lnTo>
                <a:lnTo>
                  <a:pt x="1167" y="1203"/>
                </a:lnTo>
                <a:lnTo>
                  <a:pt x="1166" y="1205"/>
                </a:lnTo>
                <a:lnTo>
                  <a:pt x="1166" y="1208"/>
                </a:lnTo>
                <a:lnTo>
                  <a:pt x="1166" y="1211"/>
                </a:lnTo>
                <a:lnTo>
                  <a:pt x="1166" y="1214"/>
                </a:lnTo>
                <a:lnTo>
                  <a:pt x="1166" y="1217"/>
                </a:lnTo>
                <a:lnTo>
                  <a:pt x="1166" y="1220"/>
                </a:lnTo>
                <a:lnTo>
                  <a:pt x="1164" y="1223"/>
                </a:lnTo>
                <a:lnTo>
                  <a:pt x="1164" y="1226"/>
                </a:lnTo>
                <a:lnTo>
                  <a:pt x="1163" y="1229"/>
                </a:lnTo>
                <a:lnTo>
                  <a:pt x="1158" y="1245"/>
                </a:lnTo>
                <a:lnTo>
                  <a:pt x="1151" y="1261"/>
                </a:lnTo>
                <a:lnTo>
                  <a:pt x="1142" y="1274"/>
                </a:lnTo>
                <a:lnTo>
                  <a:pt x="1134" y="1285"/>
                </a:lnTo>
                <a:lnTo>
                  <a:pt x="1122" y="1296"/>
                </a:lnTo>
                <a:lnTo>
                  <a:pt x="1109" y="1306"/>
                </a:lnTo>
                <a:lnTo>
                  <a:pt x="1096" y="1313"/>
                </a:lnTo>
                <a:lnTo>
                  <a:pt x="1081" y="1320"/>
                </a:lnTo>
                <a:lnTo>
                  <a:pt x="1065" y="1326"/>
                </a:lnTo>
                <a:lnTo>
                  <a:pt x="1049" y="1331"/>
                </a:lnTo>
                <a:lnTo>
                  <a:pt x="1033" y="1335"/>
                </a:lnTo>
                <a:lnTo>
                  <a:pt x="1016" y="1338"/>
                </a:lnTo>
                <a:lnTo>
                  <a:pt x="998" y="1341"/>
                </a:lnTo>
                <a:lnTo>
                  <a:pt x="979" y="1344"/>
                </a:lnTo>
                <a:lnTo>
                  <a:pt x="962" y="1345"/>
                </a:lnTo>
                <a:lnTo>
                  <a:pt x="945" y="1347"/>
                </a:lnTo>
                <a:lnTo>
                  <a:pt x="920" y="1347"/>
                </a:lnTo>
                <a:lnTo>
                  <a:pt x="894" y="1345"/>
                </a:lnTo>
                <a:lnTo>
                  <a:pt x="868" y="1341"/>
                </a:lnTo>
                <a:lnTo>
                  <a:pt x="840" y="1335"/>
                </a:lnTo>
                <a:lnTo>
                  <a:pt x="812" y="1326"/>
                </a:lnTo>
                <a:lnTo>
                  <a:pt x="785" y="1315"/>
                </a:lnTo>
                <a:lnTo>
                  <a:pt x="757" y="1303"/>
                </a:lnTo>
                <a:lnTo>
                  <a:pt x="731" y="1288"/>
                </a:lnTo>
                <a:lnTo>
                  <a:pt x="706" y="1271"/>
                </a:lnTo>
                <a:lnTo>
                  <a:pt x="683" y="1253"/>
                </a:lnTo>
                <a:lnTo>
                  <a:pt x="661" y="1235"/>
                </a:lnTo>
                <a:lnTo>
                  <a:pt x="644" y="1213"/>
                </a:lnTo>
                <a:lnTo>
                  <a:pt x="629" y="1191"/>
                </a:lnTo>
                <a:lnTo>
                  <a:pt x="618" y="1166"/>
                </a:lnTo>
                <a:lnTo>
                  <a:pt x="610" y="1141"/>
                </a:lnTo>
                <a:lnTo>
                  <a:pt x="607" y="1115"/>
                </a:lnTo>
                <a:lnTo>
                  <a:pt x="594" y="1118"/>
                </a:lnTo>
                <a:lnTo>
                  <a:pt x="581" y="1121"/>
                </a:lnTo>
                <a:lnTo>
                  <a:pt x="568" y="1125"/>
                </a:lnTo>
                <a:lnTo>
                  <a:pt x="554" y="1130"/>
                </a:lnTo>
                <a:lnTo>
                  <a:pt x="541" y="1134"/>
                </a:lnTo>
                <a:lnTo>
                  <a:pt x="528" y="1139"/>
                </a:lnTo>
                <a:lnTo>
                  <a:pt x="513" y="1144"/>
                </a:lnTo>
                <a:lnTo>
                  <a:pt x="500" y="1149"/>
                </a:lnTo>
                <a:lnTo>
                  <a:pt x="485" y="1156"/>
                </a:lnTo>
                <a:lnTo>
                  <a:pt x="472" y="1162"/>
                </a:lnTo>
                <a:lnTo>
                  <a:pt x="458" y="1168"/>
                </a:lnTo>
                <a:lnTo>
                  <a:pt x="445" y="1175"/>
                </a:lnTo>
                <a:lnTo>
                  <a:pt x="432" y="1182"/>
                </a:lnTo>
                <a:lnTo>
                  <a:pt x="417" y="1191"/>
                </a:lnTo>
                <a:lnTo>
                  <a:pt x="404" y="1198"/>
                </a:lnTo>
                <a:lnTo>
                  <a:pt x="391" y="1207"/>
                </a:lnTo>
                <a:lnTo>
                  <a:pt x="405" y="1232"/>
                </a:lnTo>
                <a:lnTo>
                  <a:pt x="424" y="1258"/>
                </a:lnTo>
                <a:lnTo>
                  <a:pt x="446" y="1283"/>
                </a:lnTo>
                <a:lnTo>
                  <a:pt x="471" y="1307"/>
                </a:lnTo>
                <a:lnTo>
                  <a:pt x="498" y="1332"/>
                </a:lnTo>
                <a:lnTo>
                  <a:pt x="529" y="1357"/>
                </a:lnTo>
                <a:lnTo>
                  <a:pt x="564" y="1379"/>
                </a:lnTo>
                <a:lnTo>
                  <a:pt x="599" y="1400"/>
                </a:lnTo>
                <a:lnTo>
                  <a:pt x="638" y="1421"/>
                </a:lnTo>
                <a:lnTo>
                  <a:pt x="679" y="1440"/>
                </a:lnTo>
                <a:lnTo>
                  <a:pt x="721" y="1456"/>
                </a:lnTo>
                <a:lnTo>
                  <a:pt x="764" y="1469"/>
                </a:lnTo>
                <a:lnTo>
                  <a:pt x="811" y="1480"/>
                </a:lnTo>
                <a:lnTo>
                  <a:pt x="857" y="1489"/>
                </a:lnTo>
                <a:lnTo>
                  <a:pt x="905" y="1493"/>
                </a:lnTo>
                <a:lnTo>
                  <a:pt x="953" y="1496"/>
                </a:lnTo>
                <a:lnTo>
                  <a:pt x="969" y="1495"/>
                </a:lnTo>
                <a:lnTo>
                  <a:pt x="984" y="1495"/>
                </a:lnTo>
                <a:lnTo>
                  <a:pt x="1001" y="1493"/>
                </a:lnTo>
                <a:lnTo>
                  <a:pt x="1017" y="1490"/>
                </a:lnTo>
                <a:lnTo>
                  <a:pt x="1032" y="1489"/>
                </a:lnTo>
                <a:lnTo>
                  <a:pt x="1048" y="1486"/>
                </a:lnTo>
                <a:lnTo>
                  <a:pt x="1064" y="1482"/>
                </a:lnTo>
                <a:lnTo>
                  <a:pt x="1078" y="1479"/>
                </a:lnTo>
                <a:lnTo>
                  <a:pt x="1091" y="1474"/>
                </a:lnTo>
                <a:lnTo>
                  <a:pt x="1104" y="1470"/>
                </a:lnTo>
                <a:lnTo>
                  <a:pt x="1116" y="1464"/>
                </a:lnTo>
                <a:lnTo>
                  <a:pt x="1126" y="1460"/>
                </a:lnTo>
                <a:lnTo>
                  <a:pt x="1135" y="1454"/>
                </a:lnTo>
                <a:lnTo>
                  <a:pt x="1141" y="1450"/>
                </a:lnTo>
                <a:lnTo>
                  <a:pt x="1147" y="1444"/>
                </a:lnTo>
                <a:lnTo>
                  <a:pt x="1148" y="1438"/>
                </a:lnTo>
                <a:lnTo>
                  <a:pt x="1150" y="1431"/>
                </a:lnTo>
                <a:lnTo>
                  <a:pt x="1151" y="1422"/>
                </a:lnTo>
                <a:lnTo>
                  <a:pt x="1152" y="1415"/>
                </a:lnTo>
                <a:lnTo>
                  <a:pt x="1152" y="1409"/>
                </a:lnTo>
                <a:lnTo>
                  <a:pt x="1152" y="1402"/>
                </a:lnTo>
                <a:lnTo>
                  <a:pt x="1152" y="1395"/>
                </a:lnTo>
                <a:lnTo>
                  <a:pt x="1152" y="1387"/>
                </a:lnTo>
                <a:lnTo>
                  <a:pt x="1151" y="1381"/>
                </a:lnTo>
                <a:lnTo>
                  <a:pt x="1150" y="1374"/>
                </a:lnTo>
                <a:lnTo>
                  <a:pt x="1147" y="1368"/>
                </a:lnTo>
                <a:lnTo>
                  <a:pt x="1145" y="1361"/>
                </a:lnTo>
                <a:lnTo>
                  <a:pt x="1142" y="1355"/>
                </a:lnTo>
                <a:lnTo>
                  <a:pt x="1138" y="1348"/>
                </a:lnTo>
                <a:lnTo>
                  <a:pt x="1134" y="1342"/>
                </a:lnTo>
                <a:lnTo>
                  <a:pt x="1129" y="1336"/>
                </a:lnTo>
                <a:lnTo>
                  <a:pt x="1125" y="1329"/>
                </a:lnTo>
                <a:lnTo>
                  <a:pt x="1125" y="1328"/>
                </a:lnTo>
                <a:lnTo>
                  <a:pt x="1125" y="1326"/>
                </a:lnTo>
                <a:lnTo>
                  <a:pt x="1125" y="1323"/>
                </a:lnTo>
                <a:lnTo>
                  <a:pt x="1126" y="1322"/>
                </a:lnTo>
                <a:lnTo>
                  <a:pt x="1126" y="1317"/>
                </a:lnTo>
                <a:lnTo>
                  <a:pt x="1128" y="1315"/>
                </a:lnTo>
                <a:lnTo>
                  <a:pt x="1128" y="1312"/>
                </a:lnTo>
                <a:lnTo>
                  <a:pt x="1129" y="1307"/>
                </a:lnTo>
                <a:lnTo>
                  <a:pt x="1132" y="1303"/>
                </a:lnTo>
                <a:lnTo>
                  <a:pt x="1134" y="1299"/>
                </a:lnTo>
                <a:lnTo>
                  <a:pt x="1135" y="1296"/>
                </a:lnTo>
                <a:lnTo>
                  <a:pt x="1138" y="1291"/>
                </a:lnTo>
                <a:lnTo>
                  <a:pt x="1141" y="1288"/>
                </a:lnTo>
                <a:lnTo>
                  <a:pt x="1145" y="1284"/>
                </a:lnTo>
                <a:lnTo>
                  <a:pt x="1148" y="1281"/>
                </a:lnTo>
                <a:lnTo>
                  <a:pt x="1150" y="1285"/>
                </a:lnTo>
                <a:lnTo>
                  <a:pt x="1151" y="1290"/>
                </a:lnTo>
                <a:lnTo>
                  <a:pt x="1152" y="1294"/>
                </a:lnTo>
                <a:lnTo>
                  <a:pt x="1155" y="1299"/>
                </a:lnTo>
                <a:lnTo>
                  <a:pt x="1157" y="1303"/>
                </a:lnTo>
                <a:lnTo>
                  <a:pt x="1158" y="1306"/>
                </a:lnTo>
                <a:lnTo>
                  <a:pt x="1160" y="1310"/>
                </a:lnTo>
                <a:lnTo>
                  <a:pt x="1163" y="1313"/>
                </a:lnTo>
                <a:lnTo>
                  <a:pt x="1164" y="1316"/>
                </a:lnTo>
                <a:lnTo>
                  <a:pt x="1166" y="1319"/>
                </a:lnTo>
                <a:lnTo>
                  <a:pt x="1168" y="1320"/>
                </a:lnTo>
                <a:lnTo>
                  <a:pt x="1170" y="1323"/>
                </a:lnTo>
                <a:lnTo>
                  <a:pt x="1171" y="1325"/>
                </a:lnTo>
                <a:lnTo>
                  <a:pt x="1174" y="1328"/>
                </a:lnTo>
                <a:lnTo>
                  <a:pt x="1176" y="1329"/>
                </a:lnTo>
                <a:lnTo>
                  <a:pt x="1177" y="1329"/>
                </a:lnTo>
                <a:lnTo>
                  <a:pt x="1179" y="1331"/>
                </a:lnTo>
                <a:lnTo>
                  <a:pt x="1181" y="1331"/>
                </a:lnTo>
                <a:lnTo>
                  <a:pt x="1184" y="1332"/>
                </a:lnTo>
                <a:lnTo>
                  <a:pt x="1187" y="1332"/>
                </a:lnTo>
                <a:lnTo>
                  <a:pt x="1190" y="1332"/>
                </a:lnTo>
                <a:lnTo>
                  <a:pt x="1195" y="1332"/>
                </a:lnTo>
                <a:lnTo>
                  <a:pt x="1197" y="1332"/>
                </a:lnTo>
                <a:lnTo>
                  <a:pt x="1202" y="1332"/>
                </a:lnTo>
                <a:lnTo>
                  <a:pt x="1206" y="1332"/>
                </a:lnTo>
                <a:lnTo>
                  <a:pt x="1209" y="1332"/>
                </a:lnTo>
                <a:lnTo>
                  <a:pt x="1213" y="1331"/>
                </a:lnTo>
                <a:lnTo>
                  <a:pt x="1218" y="1331"/>
                </a:lnTo>
                <a:lnTo>
                  <a:pt x="1222" y="1329"/>
                </a:lnTo>
                <a:lnTo>
                  <a:pt x="1227" y="1328"/>
                </a:lnTo>
                <a:lnTo>
                  <a:pt x="1231" y="1326"/>
                </a:lnTo>
                <a:lnTo>
                  <a:pt x="1235" y="1325"/>
                </a:lnTo>
                <a:lnTo>
                  <a:pt x="1238" y="1323"/>
                </a:lnTo>
                <a:lnTo>
                  <a:pt x="1241" y="1320"/>
                </a:lnTo>
                <a:lnTo>
                  <a:pt x="1244" y="1317"/>
                </a:lnTo>
                <a:lnTo>
                  <a:pt x="1248" y="1313"/>
                </a:lnTo>
                <a:lnTo>
                  <a:pt x="1251" y="1310"/>
                </a:lnTo>
                <a:lnTo>
                  <a:pt x="1256" y="1304"/>
                </a:lnTo>
                <a:lnTo>
                  <a:pt x="1260" y="1300"/>
                </a:lnTo>
                <a:lnTo>
                  <a:pt x="1264" y="1296"/>
                </a:lnTo>
                <a:lnTo>
                  <a:pt x="1269" y="1291"/>
                </a:lnTo>
                <a:lnTo>
                  <a:pt x="1274" y="1285"/>
                </a:lnTo>
                <a:lnTo>
                  <a:pt x="1280" y="1281"/>
                </a:lnTo>
                <a:lnTo>
                  <a:pt x="1286" y="1277"/>
                </a:lnTo>
                <a:lnTo>
                  <a:pt x="1293" y="1272"/>
                </a:lnTo>
                <a:lnTo>
                  <a:pt x="1299" y="1269"/>
                </a:lnTo>
                <a:lnTo>
                  <a:pt x="1308" y="1267"/>
                </a:lnTo>
                <a:lnTo>
                  <a:pt x="1317" y="1265"/>
                </a:lnTo>
                <a:lnTo>
                  <a:pt x="1324" y="1264"/>
                </a:lnTo>
                <a:lnTo>
                  <a:pt x="1331" y="1262"/>
                </a:lnTo>
                <a:lnTo>
                  <a:pt x="1340" y="1261"/>
                </a:lnTo>
                <a:lnTo>
                  <a:pt x="1349" y="1259"/>
                </a:lnTo>
                <a:lnTo>
                  <a:pt x="1357" y="1258"/>
                </a:lnTo>
                <a:lnTo>
                  <a:pt x="1368" y="1258"/>
                </a:lnTo>
                <a:lnTo>
                  <a:pt x="1378" y="1256"/>
                </a:lnTo>
                <a:lnTo>
                  <a:pt x="1386" y="1255"/>
                </a:lnTo>
                <a:lnTo>
                  <a:pt x="1397" y="1255"/>
                </a:lnTo>
                <a:lnTo>
                  <a:pt x="1407" y="1253"/>
                </a:lnTo>
                <a:lnTo>
                  <a:pt x="1415" y="1252"/>
                </a:lnTo>
                <a:lnTo>
                  <a:pt x="1426" y="1252"/>
                </a:lnTo>
                <a:lnTo>
                  <a:pt x="1433" y="1251"/>
                </a:lnTo>
                <a:lnTo>
                  <a:pt x="1442" y="1249"/>
                </a:lnTo>
                <a:lnTo>
                  <a:pt x="1447" y="1249"/>
                </a:lnTo>
                <a:lnTo>
                  <a:pt x="1453" y="1248"/>
                </a:lnTo>
                <a:lnTo>
                  <a:pt x="1442" y="1242"/>
                </a:lnTo>
                <a:lnTo>
                  <a:pt x="1430" y="1237"/>
                </a:lnTo>
                <a:lnTo>
                  <a:pt x="1418" y="1232"/>
                </a:lnTo>
                <a:lnTo>
                  <a:pt x="1407" y="1227"/>
                </a:lnTo>
                <a:lnTo>
                  <a:pt x="1397" y="1223"/>
                </a:lnTo>
                <a:lnTo>
                  <a:pt x="1386" y="1220"/>
                </a:lnTo>
                <a:lnTo>
                  <a:pt x="1375" y="1217"/>
                </a:lnTo>
                <a:lnTo>
                  <a:pt x="1365" y="1214"/>
                </a:lnTo>
                <a:lnTo>
                  <a:pt x="1354" y="1211"/>
                </a:lnTo>
                <a:lnTo>
                  <a:pt x="1344" y="1210"/>
                </a:lnTo>
                <a:lnTo>
                  <a:pt x="1334" y="1208"/>
                </a:lnTo>
                <a:lnTo>
                  <a:pt x="1324" y="1207"/>
                </a:lnTo>
                <a:lnTo>
                  <a:pt x="1312" y="1207"/>
                </a:lnTo>
                <a:lnTo>
                  <a:pt x="1302" y="1205"/>
                </a:lnTo>
                <a:lnTo>
                  <a:pt x="1290" y="1207"/>
                </a:lnTo>
                <a:lnTo>
                  <a:pt x="1279" y="1207"/>
                </a:lnTo>
                <a:close/>
                <a:moveTo>
                  <a:pt x="1379" y="1053"/>
                </a:moveTo>
                <a:lnTo>
                  <a:pt x="1376" y="1060"/>
                </a:lnTo>
                <a:lnTo>
                  <a:pt x="1375" y="1069"/>
                </a:lnTo>
                <a:lnTo>
                  <a:pt x="1372" y="1076"/>
                </a:lnTo>
                <a:lnTo>
                  <a:pt x="1368" y="1083"/>
                </a:lnTo>
                <a:lnTo>
                  <a:pt x="1365" y="1091"/>
                </a:lnTo>
                <a:lnTo>
                  <a:pt x="1360" y="1099"/>
                </a:lnTo>
                <a:lnTo>
                  <a:pt x="1357" y="1107"/>
                </a:lnTo>
                <a:lnTo>
                  <a:pt x="1353" y="1114"/>
                </a:lnTo>
                <a:lnTo>
                  <a:pt x="1349" y="1121"/>
                </a:lnTo>
                <a:lnTo>
                  <a:pt x="1344" y="1128"/>
                </a:lnTo>
                <a:lnTo>
                  <a:pt x="1340" y="1136"/>
                </a:lnTo>
                <a:lnTo>
                  <a:pt x="1336" y="1141"/>
                </a:lnTo>
                <a:lnTo>
                  <a:pt x="1330" y="1149"/>
                </a:lnTo>
                <a:lnTo>
                  <a:pt x="1325" y="1156"/>
                </a:lnTo>
                <a:lnTo>
                  <a:pt x="1320" y="1162"/>
                </a:lnTo>
                <a:lnTo>
                  <a:pt x="1314" y="1169"/>
                </a:lnTo>
                <a:lnTo>
                  <a:pt x="1318" y="1168"/>
                </a:lnTo>
                <a:lnTo>
                  <a:pt x="1321" y="1166"/>
                </a:lnTo>
                <a:lnTo>
                  <a:pt x="1325" y="1166"/>
                </a:lnTo>
                <a:lnTo>
                  <a:pt x="1328" y="1165"/>
                </a:lnTo>
                <a:lnTo>
                  <a:pt x="1333" y="1165"/>
                </a:lnTo>
                <a:lnTo>
                  <a:pt x="1337" y="1163"/>
                </a:lnTo>
                <a:lnTo>
                  <a:pt x="1341" y="1163"/>
                </a:lnTo>
                <a:lnTo>
                  <a:pt x="1346" y="1162"/>
                </a:lnTo>
                <a:lnTo>
                  <a:pt x="1350" y="1162"/>
                </a:lnTo>
                <a:lnTo>
                  <a:pt x="1356" y="1160"/>
                </a:lnTo>
                <a:lnTo>
                  <a:pt x="1360" y="1160"/>
                </a:lnTo>
                <a:lnTo>
                  <a:pt x="1366" y="1160"/>
                </a:lnTo>
                <a:lnTo>
                  <a:pt x="1372" y="1159"/>
                </a:lnTo>
                <a:lnTo>
                  <a:pt x="1378" y="1159"/>
                </a:lnTo>
                <a:lnTo>
                  <a:pt x="1385" y="1159"/>
                </a:lnTo>
                <a:lnTo>
                  <a:pt x="1391" y="1159"/>
                </a:lnTo>
                <a:lnTo>
                  <a:pt x="1398" y="1162"/>
                </a:lnTo>
                <a:lnTo>
                  <a:pt x="1405" y="1163"/>
                </a:lnTo>
                <a:lnTo>
                  <a:pt x="1411" y="1166"/>
                </a:lnTo>
                <a:lnTo>
                  <a:pt x="1417" y="1169"/>
                </a:lnTo>
                <a:lnTo>
                  <a:pt x="1423" y="1172"/>
                </a:lnTo>
                <a:lnTo>
                  <a:pt x="1429" y="1175"/>
                </a:lnTo>
                <a:lnTo>
                  <a:pt x="1434" y="1179"/>
                </a:lnTo>
                <a:lnTo>
                  <a:pt x="1442" y="1182"/>
                </a:lnTo>
                <a:lnTo>
                  <a:pt x="1449" y="1187"/>
                </a:lnTo>
                <a:lnTo>
                  <a:pt x="1456" y="1191"/>
                </a:lnTo>
                <a:lnTo>
                  <a:pt x="1465" y="1194"/>
                </a:lnTo>
                <a:lnTo>
                  <a:pt x="1474" y="1200"/>
                </a:lnTo>
                <a:lnTo>
                  <a:pt x="1484" y="1204"/>
                </a:lnTo>
                <a:lnTo>
                  <a:pt x="1495" y="1208"/>
                </a:lnTo>
                <a:lnTo>
                  <a:pt x="1507" y="1214"/>
                </a:lnTo>
                <a:lnTo>
                  <a:pt x="1522" y="1219"/>
                </a:lnTo>
                <a:lnTo>
                  <a:pt x="1522" y="1216"/>
                </a:lnTo>
                <a:lnTo>
                  <a:pt x="1522" y="1211"/>
                </a:lnTo>
                <a:lnTo>
                  <a:pt x="1520" y="1208"/>
                </a:lnTo>
                <a:lnTo>
                  <a:pt x="1520" y="1204"/>
                </a:lnTo>
                <a:lnTo>
                  <a:pt x="1520" y="1201"/>
                </a:lnTo>
                <a:lnTo>
                  <a:pt x="1520" y="1197"/>
                </a:lnTo>
                <a:lnTo>
                  <a:pt x="1520" y="1194"/>
                </a:lnTo>
                <a:lnTo>
                  <a:pt x="1520" y="1189"/>
                </a:lnTo>
                <a:lnTo>
                  <a:pt x="1519" y="1187"/>
                </a:lnTo>
                <a:lnTo>
                  <a:pt x="1519" y="1182"/>
                </a:lnTo>
                <a:lnTo>
                  <a:pt x="1519" y="1178"/>
                </a:lnTo>
                <a:lnTo>
                  <a:pt x="1519" y="1175"/>
                </a:lnTo>
                <a:lnTo>
                  <a:pt x="1517" y="1171"/>
                </a:lnTo>
                <a:lnTo>
                  <a:pt x="1517" y="1168"/>
                </a:lnTo>
                <a:lnTo>
                  <a:pt x="1517" y="1163"/>
                </a:lnTo>
                <a:lnTo>
                  <a:pt x="1516" y="1159"/>
                </a:lnTo>
                <a:lnTo>
                  <a:pt x="1508" y="1152"/>
                </a:lnTo>
                <a:lnTo>
                  <a:pt x="1501" y="1144"/>
                </a:lnTo>
                <a:lnTo>
                  <a:pt x="1492" y="1137"/>
                </a:lnTo>
                <a:lnTo>
                  <a:pt x="1485" y="1131"/>
                </a:lnTo>
                <a:lnTo>
                  <a:pt x="1476" y="1124"/>
                </a:lnTo>
                <a:lnTo>
                  <a:pt x="1469" y="1117"/>
                </a:lnTo>
                <a:lnTo>
                  <a:pt x="1462" y="1111"/>
                </a:lnTo>
                <a:lnTo>
                  <a:pt x="1453" y="1105"/>
                </a:lnTo>
                <a:lnTo>
                  <a:pt x="1446" y="1099"/>
                </a:lnTo>
                <a:lnTo>
                  <a:pt x="1439" y="1094"/>
                </a:lnTo>
                <a:lnTo>
                  <a:pt x="1431" y="1088"/>
                </a:lnTo>
                <a:lnTo>
                  <a:pt x="1424" y="1082"/>
                </a:lnTo>
                <a:lnTo>
                  <a:pt x="1417" y="1078"/>
                </a:lnTo>
                <a:lnTo>
                  <a:pt x="1411" y="1073"/>
                </a:lnTo>
                <a:lnTo>
                  <a:pt x="1405" y="1069"/>
                </a:lnTo>
                <a:lnTo>
                  <a:pt x="1398" y="1064"/>
                </a:lnTo>
                <a:lnTo>
                  <a:pt x="1397" y="1064"/>
                </a:lnTo>
                <a:lnTo>
                  <a:pt x="1395" y="1063"/>
                </a:lnTo>
                <a:lnTo>
                  <a:pt x="1394" y="1063"/>
                </a:lnTo>
                <a:lnTo>
                  <a:pt x="1392" y="1062"/>
                </a:lnTo>
                <a:lnTo>
                  <a:pt x="1391" y="1060"/>
                </a:lnTo>
                <a:lnTo>
                  <a:pt x="1389" y="1059"/>
                </a:lnTo>
                <a:lnTo>
                  <a:pt x="1388" y="1059"/>
                </a:lnTo>
                <a:lnTo>
                  <a:pt x="1386" y="1057"/>
                </a:lnTo>
                <a:lnTo>
                  <a:pt x="1385" y="1057"/>
                </a:lnTo>
                <a:lnTo>
                  <a:pt x="1383" y="1056"/>
                </a:lnTo>
                <a:lnTo>
                  <a:pt x="1382" y="1054"/>
                </a:lnTo>
                <a:lnTo>
                  <a:pt x="1381" y="1054"/>
                </a:lnTo>
                <a:lnTo>
                  <a:pt x="1379" y="1053"/>
                </a:lnTo>
                <a:close/>
                <a:moveTo>
                  <a:pt x="1383" y="931"/>
                </a:moveTo>
                <a:lnTo>
                  <a:pt x="1385" y="935"/>
                </a:lnTo>
                <a:lnTo>
                  <a:pt x="1386" y="939"/>
                </a:lnTo>
                <a:lnTo>
                  <a:pt x="1388" y="944"/>
                </a:lnTo>
                <a:lnTo>
                  <a:pt x="1388" y="950"/>
                </a:lnTo>
                <a:lnTo>
                  <a:pt x="1389" y="954"/>
                </a:lnTo>
                <a:lnTo>
                  <a:pt x="1389" y="958"/>
                </a:lnTo>
                <a:lnTo>
                  <a:pt x="1391" y="963"/>
                </a:lnTo>
                <a:lnTo>
                  <a:pt x="1391" y="968"/>
                </a:lnTo>
                <a:lnTo>
                  <a:pt x="1391" y="973"/>
                </a:lnTo>
                <a:lnTo>
                  <a:pt x="1391" y="977"/>
                </a:lnTo>
                <a:lnTo>
                  <a:pt x="1391" y="983"/>
                </a:lnTo>
                <a:lnTo>
                  <a:pt x="1391" y="987"/>
                </a:lnTo>
                <a:lnTo>
                  <a:pt x="1391" y="992"/>
                </a:lnTo>
                <a:lnTo>
                  <a:pt x="1391" y="998"/>
                </a:lnTo>
                <a:lnTo>
                  <a:pt x="1389" y="1002"/>
                </a:lnTo>
                <a:lnTo>
                  <a:pt x="1389" y="1008"/>
                </a:lnTo>
                <a:lnTo>
                  <a:pt x="1391" y="1008"/>
                </a:lnTo>
                <a:lnTo>
                  <a:pt x="1394" y="1009"/>
                </a:lnTo>
                <a:lnTo>
                  <a:pt x="1395" y="1011"/>
                </a:lnTo>
                <a:lnTo>
                  <a:pt x="1398" y="1011"/>
                </a:lnTo>
                <a:lnTo>
                  <a:pt x="1399" y="1012"/>
                </a:lnTo>
                <a:lnTo>
                  <a:pt x="1401" y="1014"/>
                </a:lnTo>
                <a:lnTo>
                  <a:pt x="1404" y="1015"/>
                </a:lnTo>
                <a:lnTo>
                  <a:pt x="1405" y="1015"/>
                </a:lnTo>
                <a:lnTo>
                  <a:pt x="1407" y="1016"/>
                </a:lnTo>
                <a:lnTo>
                  <a:pt x="1410" y="1018"/>
                </a:lnTo>
                <a:lnTo>
                  <a:pt x="1411" y="1019"/>
                </a:lnTo>
                <a:lnTo>
                  <a:pt x="1413" y="1021"/>
                </a:lnTo>
                <a:lnTo>
                  <a:pt x="1414" y="1021"/>
                </a:lnTo>
                <a:lnTo>
                  <a:pt x="1417" y="1022"/>
                </a:lnTo>
                <a:lnTo>
                  <a:pt x="1418" y="1024"/>
                </a:lnTo>
                <a:lnTo>
                  <a:pt x="1420" y="1024"/>
                </a:lnTo>
                <a:lnTo>
                  <a:pt x="1426" y="1027"/>
                </a:lnTo>
                <a:lnTo>
                  <a:pt x="1431" y="1031"/>
                </a:lnTo>
                <a:lnTo>
                  <a:pt x="1437" y="1034"/>
                </a:lnTo>
                <a:lnTo>
                  <a:pt x="1443" y="1037"/>
                </a:lnTo>
                <a:lnTo>
                  <a:pt x="1449" y="1041"/>
                </a:lnTo>
                <a:lnTo>
                  <a:pt x="1455" y="1044"/>
                </a:lnTo>
                <a:lnTo>
                  <a:pt x="1461" y="1047"/>
                </a:lnTo>
                <a:lnTo>
                  <a:pt x="1465" y="1051"/>
                </a:lnTo>
                <a:lnTo>
                  <a:pt x="1471" y="1054"/>
                </a:lnTo>
                <a:lnTo>
                  <a:pt x="1476" y="1059"/>
                </a:lnTo>
                <a:lnTo>
                  <a:pt x="1482" y="1063"/>
                </a:lnTo>
                <a:lnTo>
                  <a:pt x="1487" y="1066"/>
                </a:lnTo>
                <a:lnTo>
                  <a:pt x="1492" y="1070"/>
                </a:lnTo>
                <a:lnTo>
                  <a:pt x="1498" y="1075"/>
                </a:lnTo>
                <a:lnTo>
                  <a:pt x="1504" y="1078"/>
                </a:lnTo>
                <a:lnTo>
                  <a:pt x="1508" y="1082"/>
                </a:lnTo>
                <a:lnTo>
                  <a:pt x="1508" y="1078"/>
                </a:lnTo>
                <a:lnTo>
                  <a:pt x="1508" y="1075"/>
                </a:lnTo>
                <a:lnTo>
                  <a:pt x="1507" y="1070"/>
                </a:lnTo>
                <a:lnTo>
                  <a:pt x="1507" y="1066"/>
                </a:lnTo>
                <a:lnTo>
                  <a:pt x="1507" y="1062"/>
                </a:lnTo>
                <a:lnTo>
                  <a:pt x="1506" y="1057"/>
                </a:lnTo>
                <a:lnTo>
                  <a:pt x="1506" y="1054"/>
                </a:lnTo>
                <a:lnTo>
                  <a:pt x="1506" y="1050"/>
                </a:lnTo>
                <a:lnTo>
                  <a:pt x="1506" y="1046"/>
                </a:lnTo>
                <a:lnTo>
                  <a:pt x="1504" y="1043"/>
                </a:lnTo>
                <a:lnTo>
                  <a:pt x="1504" y="1038"/>
                </a:lnTo>
                <a:lnTo>
                  <a:pt x="1504" y="1034"/>
                </a:lnTo>
                <a:lnTo>
                  <a:pt x="1503" y="1031"/>
                </a:lnTo>
                <a:lnTo>
                  <a:pt x="1503" y="1027"/>
                </a:lnTo>
                <a:lnTo>
                  <a:pt x="1503" y="1024"/>
                </a:lnTo>
                <a:lnTo>
                  <a:pt x="1501" y="1019"/>
                </a:lnTo>
                <a:lnTo>
                  <a:pt x="1495" y="1014"/>
                </a:lnTo>
                <a:lnTo>
                  <a:pt x="1488" y="1008"/>
                </a:lnTo>
                <a:lnTo>
                  <a:pt x="1481" y="1002"/>
                </a:lnTo>
                <a:lnTo>
                  <a:pt x="1474" y="996"/>
                </a:lnTo>
                <a:lnTo>
                  <a:pt x="1466" y="990"/>
                </a:lnTo>
                <a:lnTo>
                  <a:pt x="1459" y="984"/>
                </a:lnTo>
                <a:lnTo>
                  <a:pt x="1452" y="979"/>
                </a:lnTo>
                <a:lnTo>
                  <a:pt x="1445" y="973"/>
                </a:lnTo>
                <a:lnTo>
                  <a:pt x="1437" y="967"/>
                </a:lnTo>
                <a:lnTo>
                  <a:pt x="1430" y="963"/>
                </a:lnTo>
                <a:lnTo>
                  <a:pt x="1423" y="957"/>
                </a:lnTo>
                <a:lnTo>
                  <a:pt x="1414" y="951"/>
                </a:lnTo>
                <a:lnTo>
                  <a:pt x="1407" y="945"/>
                </a:lnTo>
                <a:lnTo>
                  <a:pt x="1399" y="941"/>
                </a:lnTo>
                <a:lnTo>
                  <a:pt x="1392" y="935"/>
                </a:lnTo>
                <a:lnTo>
                  <a:pt x="1383" y="931"/>
                </a:lnTo>
                <a:close/>
                <a:moveTo>
                  <a:pt x="1343" y="983"/>
                </a:moveTo>
                <a:lnTo>
                  <a:pt x="1340" y="971"/>
                </a:lnTo>
                <a:lnTo>
                  <a:pt x="1336" y="961"/>
                </a:lnTo>
                <a:lnTo>
                  <a:pt x="1330" y="951"/>
                </a:lnTo>
                <a:lnTo>
                  <a:pt x="1325" y="941"/>
                </a:lnTo>
                <a:lnTo>
                  <a:pt x="1320" y="931"/>
                </a:lnTo>
                <a:lnTo>
                  <a:pt x="1314" y="922"/>
                </a:lnTo>
                <a:lnTo>
                  <a:pt x="1308" y="913"/>
                </a:lnTo>
                <a:lnTo>
                  <a:pt x="1302" y="904"/>
                </a:lnTo>
                <a:lnTo>
                  <a:pt x="1296" y="896"/>
                </a:lnTo>
                <a:lnTo>
                  <a:pt x="1289" y="888"/>
                </a:lnTo>
                <a:lnTo>
                  <a:pt x="1282" y="881"/>
                </a:lnTo>
                <a:lnTo>
                  <a:pt x="1276" y="874"/>
                </a:lnTo>
                <a:lnTo>
                  <a:pt x="1269" y="867"/>
                </a:lnTo>
                <a:lnTo>
                  <a:pt x="1261" y="861"/>
                </a:lnTo>
                <a:lnTo>
                  <a:pt x="1254" y="855"/>
                </a:lnTo>
                <a:lnTo>
                  <a:pt x="1247" y="849"/>
                </a:lnTo>
                <a:lnTo>
                  <a:pt x="1247" y="848"/>
                </a:lnTo>
                <a:lnTo>
                  <a:pt x="1245" y="848"/>
                </a:lnTo>
                <a:lnTo>
                  <a:pt x="1244" y="846"/>
                </a:lnTo>
                <a:lnTo>
                  <a:pt x="1243" y="846"/>
                </a:lnTo>
                <a:lnTo>
                  <a:pt x="1243" y="845"/>
                </a:lnTo>
                <a:lnTo>
                  <a:pt x="1241" y="845"/>
                </a:lnTo>
                <a:lnTo>
                  <a:pt x="1240" y="845"/>
                </a:lnTo>
                <a:lnTo>
                  <a:pt x="1240" y="843"/>
                </a:lnTo>
                <a:lnTo>
                  <a:pt x="1241" y="851"/>
                </a:lnTo>
                <a:lnTo>
                  <a:pt x="1241" y="856"/>
                </a:lnTo>
                <a:lnTo>
                  <a:pt x="1243" y="864"/>
                </a:lnTo>
                <a:lnTo>
                  <a:pt x="1243" y="870"/>
                </a:lnTo>
                <a:lnTo>
                  <a:pt x="1244" y="877"/>
                </a:lnTo>
                <a:lnTo>
                  <a:pt x="1244" y="883"/>
                </a:lnTo>
                <a:lnTo>
                  <a:pt x="1245" y="888"/>
                </a:lnTo>
                <a:lnTo>
                  <a:pt x="1245" y="894"/>
                </a:lnTo>
                <a:lnTo>
                  <a:pt x="1247" y="902"/>
                </a:lnTo>
                <a:lnTo>
                  <a:pt x="1247" y="907"/>
                </a:lnTo>
                <a:lnTo>
                  <a:pt x="1248" y="913"/>
                </a:lnTo>
                <a:lnTo>
                  <a:pt x="1248" y="919"/>
                </a:lnTo>
                <a:lnTo>
                  <a:pt x="1250" y="925"/>
                </a:lnTo>
                <a:lnTo>
                  <a:pt x="1250" y="931"/>
                </a:lnTo>
                <a:lnTo>
                  <a:pt x="1251" y="936"/>
                </a:lnTo>
                <a:lnTo>
                  <a:pt x="1251" y="942"/>
                </a:lnTo>
                <a:lnTo>
                  <a:pt x="1257" y="945"/>
                </a:lnTo>
                <a:lnTo>
                  <a:pt x="1263" y="947"/>
                </a:lnTo>
                <a:lnTo>
                  <a:pt x="1269" y="950"/>
                </a:lnTo>
                <a:lnTo>
                  <a:pt x="1273" y="952"/>
                </a:lnTo>
                <a:lnTo>
                  <a:pt x="1279" y="954"/>
                </a:lnTo>
                <a:lnTo>
                  <a:pt x="1285" y="957"/>
                </a:lnTo>
                <a:lnTo>
                  <a:pt x="1290" y="960"/>
                </a:lnTo>
                <a:lnTo>
                  <a:pt x="1296" y="963"/>
                </a:lnTo>
                <a:lnTo>
                  <a:pt x="1302" y="964"/>
                </a:lnTo>
                <a:lnTo>
                  <a:pt x="1308" y="967"/>
                </a:lnTo>
                <a:lnTo>
                  <a:pt x="1314" y="970"/>
                </a:lnTo>
                <a:lnTo>
                  <a:pt x="1320" y="973"/>
                </a:lnTo>
                <a:lnTo>
                  <a:pt x="1325" y="976"/>
                </a:lnTo>
                <a:lnTo>
                  <a:pt x="1331" y="979"/>
                </a:lnTo>
                <a:lnTo>
                  <a:pt x="1337" y="980"/>
                </a:lnTo>
                <a:lnTo>
                  <a:pt x="1343" y="983"/>
                </a:lnTo>
                <a:close/>
                <a:moveTo>
                  <a:pt x="1170" y="563"/>
                </a:moveTo>
                <a:lnTo>
                  <a:pt x="1166" y="570"/>
                </a:lnTo>
                <a:lnTo>
                  <a:pt x="1161" y="577"/>
                </a:lnTo>
                <a:lnTo>
                  <a:pt x="1157" y="585"/>
                </a:lnTo>
                <a:lnTo>
                  <a:pt x="1151" y="592"/>
                </a:lnTo>
                <a:lnTo>
                  <a:pt x="1147" y="599"/>
                </a:lnTo>
                <a:lnTo>
                  <a:pt x="1142" y="608"/>
                </a:lnTo>
                <a:lnTo>
                  <a:pt x="1139" y="615"/>
                </a:lnTo>
                <a:lnTo>
                  <a:pt x="1135" y="624"/>
                </a:lnTo>
                <a:lnTo>
                  <a:pt x="1132" y="631"/>
                </a:lnTo>
                <a:lnTo>
                  <a:pt x="1131" y="638"/>
                </a:lnTo>
                <a:lnTo>
                  <a:pt x="1128" y="647"/>
                </a:lnTo>
                <a:lnTo>
                  <a:pt x="1128" y="654"/>
                </a:lnTo>
                <a:lnTo>
                  <a:pt x="1126" y="660"/>
                </a:lnTo>
                <a:lnTo>
                  <a:pt x="1128" y="667"/>
                </a:lnTo>
                <a:lnTo>
                  <a:pt x="1129" y="675"/>
                </a:lnTo>
                <a:lnTo>
                  <a:pt x="1132" y="681"/>
                </a:lnTo>
                <a:lnTo>
                  <a:pt x="1134" y="685"/>
                </a:lnTo>
                <a:lnTo>
                  <a:pt x="1136" y="688"/>
                </a:lnTo>
                <a:lnTo>
                  <a:pt x="1138" y="692"/>
                </a:lnTo>
                <a:lnTo>
                  <a:pt x="1142" y="697"/>
                </a:lnTo>
                <a:lnTo>
                  <a:pt x="1145" y="699"/>
                </a:lnTo>
                <a:lnTo>
                  <a:pt x="1150" y="704"/>
                </a:lnTo>
                <a:lnTo>
                  <a:pt x="1152" y="708"/>
                </a:lnTo>
                <a:lnTo>
                  <a:pt x="1157" y="711"/>
                </a:lnTo>
                <a:lnTo>
                  <a:pt x="1161" y="715"/>
                </a:lnTo>
                <a:lnTo>
                  <a:pt x="1167" y="720"/>
                </a:lnTo>
                <a:lnTo>
                  <a:pt x="1171" y="723"/>
                </a:lnTo>
                <a:lnTo>
                  <a:pt x="1177" y="727"/>
                </a:lnTo>
                <a:lnTo>
                  <a:pt x="1181" y="731"/>
                </a:lnTo>
                <a:lnTo>
                  <a:pt x="1187" y="734"/>
                </a:lnTo>
                <a:lnTo>
                  <a:pt x="1193" y="739"/>
                </a:lnTo>
                <a:lnTo>
                  <a:pt x="1199" y="743"/>
                </a:lnTo>
                <a:lnTo>
                  <a:pt x="1197" y="730"/>
                </a:lnTo>
                <a:lnTo>
                  <a:pt x="1196" y="718"/>
                </a:lnTo>
                <a:lnTo>
                  <a:pt x="1193" y="707"/>
                </a:lnTo>
                <a:lnTo>
                  <a:pt x="1192" y="694"/>
                </a:lnTo>
                <a:lnTo>
                  <a:pt x="1190" y="682"/>
                </a:lnTo>
                <a:lnTo>
                  <a:pt x="1189" y="670"/>
                </a:lnTo>
                <a:lnTo>
                  <a:pt x="1186" y="660"/>
                </a:lnTo>
                <a:lnTo>
                  <a:pt x="1184" y="649"/>
                </a:lnTo>
                <a:lnTo>
                  <a:pt x="1183" y="637"/>
                </a:lnTo>
                <a:lnTo>
                  <a:pt x="1181" y="627"/>
                </a:lnTo>
                <a:lnTo>
                  <a:pt x="1179" y="615"/>
                </a:lnTo>
                <a:lnTo>
                  <a:pt x="1177" y="605"/>
                </a:lnTo>
                <a:lnTo>
                  <a:pt x="1176" y="593"/>
                </a:lnTo>
                <a:lnTo>
                  <a:pt x="1174" y="583"/>
                </a:lnTo>
                <a:lnTo>
                  <a:pt x="1171" y="573"/>
                </a:lnTo>
                <a:lnTo>
                  <a:pt x="1170" y="563"/>
                </a:lnTo>
                <a:close/>
                <a:moveTo>
                  <a:pt x="1629" y="1767"/>
                </a:moveTo>
                <a:lnTo>
                  <a:pt x="1668" y="1800"/>
                </a:lnTo>
                <a:lnTo>
                  <a:pt x="1629" y="1850"/>
                </a:lnTo>
                <a:lnTo>
                  <a:pt x="1593" y="1813"/>
                </a:lnTo>
                <a:lnTo>
                  <a:pt x="1629" y="1767"/>
                </a:lnTo>
                <a:close/>
                <a:moveTo>
                  <a:pt x="1016" y="1363"/>
                </a:moveTo>
                <a:lnTo>
                  <a:pt x="1055" y="1397"/>
                </a:lnTo>
                <a:lnTo>
                  <a:pt x="1016" y="1445"/>
                </a:lnTo>
                <a:lnTo>
                  <a:pt x="981" y="1409"/>
                </a:lnTo>
                <a:lnTo>
                  <a:pt x="1016" y="13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9"/>
                                        </p:tgtEl>
                                        <p:attrNameLst>
                                          <p:attrName>style.visibility</p:attrName>
                                        </p:attrNameLst>
                                      </p:cBhvr>
                                      <p:to>
                                        <p:strVal val="visible"/>
                                      </p:to>
                                    </p:set>
                                    <p:animEffect filter="box(in)" transition="in">
                                      <p:cBhvr additive="repl">
                                        <p:cTn id="7" dur="500"/>
                                        <p:tgtEl>
                                          <p:spTgt spid="1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200"/>
                                        </p:tgtEl>
                                        <p:attrNameLst>
                                          <p:attrName>style.visibility</p:attrName>
                                        </p:attrNameLst>
                                      </p:cBhvr>
                                      <p:to>
                                        <p:strVal val="visible"/>
                                      </p:to>
                                    </p:set>
                                    <p:animEffect filter="wipe(right)" transition="in">
                                      <p:cBhvr additive="repl">
                                        <p:cTn id="1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7160"/>
            <a:ext cx="7305480" cy="537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4bc40"/>
                </a:solidFill>
                <a:latin typeface="Arial"/>
                <a:cs typeface="B Titr"/>
              </a:rPr>
              <a:t>فرآیند اخذ خدمات کاریابی توسط جویندگان کار</a:t>
            </a:r>
            <a:endParaRPr b="0" lang="en-US" sz="2000" spc="-1" strike="noStrike">
              <a:solidFill>
                <a:srgbClr val="f4bc40"/>
              </a:solidFill>
              <a:latin typeface="Arial"/>
            </a:endParaRPr>
          </a:p>
        </p:txBody>
      </p:sp>
      <p:sp>
        <p:nvSpPr>
          <p:cNvPr id="236" name=""/>
          <p:cNvSpPr txBox="1"/>
          <p:nvPr/>
        </p:nvSpPr>
        <p:spPr>
          <a:xfrm>
            <a:off x="263520" y="765000"/>
            <a:ext cx="7477200" cy="5330880"/>
          </a:xfrm>
          <a:prstGeom prst="rect">
            <a:avLst/>
          </a:prstGeom>
          <a:noFill/>
          <a:ln w="0">
            <a:noFill/>
          </a:ln>
        </p:spPr>
        <p:txBody>
          <a:bodyPr anchor="t">
            <a:normAutofit/>
          </a:bodyPr>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cs typeface="B Mitra"/>
              </a:rPr>
              <a:t>جویندگان کار به دو طریق می توانند به خدمات دفاتر کاریابی دسترسی یابند</a:t>
            </a:r>
            <a:endParaRPr b="0" lang="en-US" sz="2000" spc="-1" strike="noStrike">
              <a:solidFill>
                <a:srgbClr val="ffffff"/>
              </a:solidFill>
              <a:latin typeface="Arial"/>
            </a:endParaRPr>
          </a:p>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cs typeface="B Mitra"/>
              </a:rPr>
              <a:t>الف: ورود به سامانه جستجوی شغل به آدرس اینترنتی </a:t>
            </a:r>
            <a:r>
              <a:rPr b="0" lang="en-US" sz="2000" spc="-1" strike="noStrike">
                <a:solidFill>
                  <a:srgbClr val="ffffff"/>
                </a:solidFill>
                <a:latin typeface="Arial"/>
                <a:ea typeface="B Mitra"/>
              </a:rPr>
              <a:t>http://shoghl.mcls.gov.ir</a:t>
            </a:r>
            <a:r>
              <a:rPr b="0" lang="en-US" sz="2000" spc="-1" strike="noStrike">
                <a:solidFill>
                  <a:srgbClr val="ffffff"/>
                </a:solidFill>
                <a:latin typeface="Arial"/>
                <a:ea typeface="B Mitra"/>
              </a:rPr>
              <a:t> </a:t>
            </a:r>
            <a:r>
              <a:rPr b="0" lang="fa-IR" sz="2000" spc="-1" strike="noStrike">
                <a:solidFill>
                  <a:srgbClr val="ffffff"/>
                </a:solidFill>
                <a:latin typeface="Arial"/>
                <a:ea typeface="B Mitra"/>
              </a:rPr>
              <a:t>  و انتخاب دفتر کاریابی </a:t>
            </a:r>
            <a:endParaRPr b="0" lang="en-US" sz="2000" spc="-1" strike="noStrike">
              <a:solidFill>
                <a:srgbClr val="ffffff"/>
              </a:solidFill>
              <a:latin typeface="Arial"/>
            </a:endParaRPr>
          </a:p>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cs typeface="B Mitra"/>
              </a:rPr>
              <a:t>ب: مراجعه حضوری به دفتر کاریابی و ثبت اطلاعات(هویتی، تحصیلی، مهارتی، شغلی) در دفاتر کاریابی.</a:t>
            </a:r>
            <a:endParaRPr b="0" lang="en-US" sz="2000" spc="-1" strike="noStrike">
              <a:solidFill>
                <a:srgbClr val="ffffff"/>
              </a:solidFill>
              <a:latin typeface="Arial"/>
            </a:endParaRPr>
          </a:p>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Mitra"/>
              </a:rPr>
              <a:t> کاریابی ها ملزم به ثبت اطلاعات کارجویان در سامانه جستجوی شغل می باشند.</a:t>
            </a:r>
            <a:r>
              <a:rPr b="0" lang="en-US" sz="2000" spc="-1" strike="noStrike">
                <a:solidFill>
                  <a:srgbClr val="ffffff"/>
                </a:solidFill>
                <a:latin typeface="Arial"/>
                <a:ea typeface="B Mitra"/>
              </a:rPr>
              <a:t> </a:t>
            </a:r>
            <a:endParaRPr b="0" lang="en-US" sz="2000" spc="-1" strike="noStrike">
              <a:solidFill>
                <a:srgbClr val="ffffff"/>
              </a:solidFill>
              <a:latin typeface="Arial"/>
            </a:endParaRPr>
          </a:p>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cs typeface="B Mitra"/>
              </a:rPr>
              <a:t>توضیح :دفاتر کاریابی مجازند مبلغ </a:t>
            </a:r>
            <a:r>
              <a:rPr b="0" lang="fa-IR" sz="2000" spc="-1" strike="noStrike">
                <a:solidFill>
                  <a:srgbClr val="ffffff"/>
                </a:solidFill>
                <a:latin typeface="Arial"/>
                <a:ea typeface="B Mitra"/>
              </a:rPr>
              <a:t>65</a:t>
            </a:r>
            <a:r>
              <a:rPr b="0" lang="fa-IR" sz="2000" spc="-1" strike="noStrike">
                <a:solidFill>
                  <a:srgbClr val="ffffff"/>
                </a:solidFill>
                <a:latin typeface="Arial"/>
                <a:ea typeface="B Mitra"/>
              </a:rPr>
              <a:t> هزار تومان را به عنوان حق الزحمه ثبت نام از جویندگان کار ثبت نام شده اخذ نمایند.</a:t>
            </a:r>
            <a:endParaRPr b="0" lang="en-US" sz="2000" spc="-1" strike="noStrike">
              <a:solidFill>
                <a:srgbClr val="ffffff"/>
              </a:solidFill>
              <a:latin typeface="Arial"/>
            </a:endParaRPr>
          </a:p>
        </p:txBody>
      </p:sp>
      <p:sp>
        <p:nvSpPr>
          <p:cNvPr id="237"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2A76-A5E7-4844-8D6E-EBA37A3DBAF0}"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9240" y="226800"/>
            <a:ext cx="737712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4bc40"/>
                </a:solidFill>
                <a:latin typeface="Arial"/>
                <a:cs typeface="B Titr"/>
              </a:rPr>
              <a:t>فرآیند راهنمایی و مشاوره شغلی با جویندگان کار</a:t>
            </a:r>
            <a:endParaRPr b="0" lang="en-US" sz="2000" spc="-1" strike="noStrike">
              <a:solidFill>
                <a:srgbClr val="f4bc40"/>
              </a:solidFill>
              <a:latin typeface="Arial"/>
            </a:endParaRPr>
          </a:p>
        </p:txBody>
      </p:sp>
      <p:sp>
        <p:nvSpPr>
          <p:cNvPr id="239" name=""/>
          <p:cNvSpPr txBox="1"/>
          <p:nvPr/>
        </p:nvSpPr>
        <p:spPr>
          <a:xfrm>
            <a:off x="263160" y="836280"/>
            <a:ext cx="7332840" cy="5761080"/>
          </a:xfrm>
          <a:prstGeom prst="rect">
            <a:avLst/>
          </a:prstGeom>
          <a:noFill/>
          <a:ln w="0">
            <a:noFill/>
          </a:ln>
        </p:spPr>
        <p:txBody>
          <a:bodyPr anchor="t">
            <a:normAutofit fontScale="91000"/>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cs typeface="B Mitra"/>
              </a:rPr>
              <a:t>راهنمایی و مشاوره شغلی با جویندگان کار:</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Mitra"/>
              </a:rPr>
              <a:t> مرحله اول: کاریابی با اخذ اطلاعات هویتی، تحصیلی، مهارتی و شغلی به جوینده کار کمک می نماید که رزومه تهیه نماید. </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cs typeface="B Mitra"/>
              </a:rPr>
              <a:t>مرحله دوم: رزومه کارجو با بانک فرصت های شغلی کاریابی بطور خاص و بازار کار بطور عام مطابقت داده می شود و میزان اشتغال پذیری وی بررسی می گردد.</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Mitra"/>
              </a:rPr>
              <a:t> مرحله سوم: کاریابی بر اساس نتایج مرحله قبل، کارجویان را به یکی از گزینه های زیر هدایت می نماید</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Mitra"/>
              </a:rPr>
              <a:t> الف- معرفی به کارفرما جهت بکارگماری در فرصت شغلی اعلام شده</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Mitra"/>
              </a:rPr>
              <a:t>-درصورت پذیرش و استخدام نیروی کار معرفی شده به کارفرمایان برای قرارداد یکسال و بیشتر، دفاتر کاریابی می توانند حق الزحمه بکارگماری که شامل نصف حداقل حقوق اعلامی از سوی شورای عالی کار می باشد را از جویندگان کار مطالبه نمایند. </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cs typeface="B Mitra"/>
              </a:rPr>
              <a:t>دفاتر کاریابی موظفند در صورت عدم پذیرش و استخدام از سوی کارفرمایان، کل تضمین های اخذ شده را به جوینده کار مورد نظر بازگردانند. </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cs typeface="B Mitra"/>
              </a:rPr>
              <a:t>ب-معرفی به دوره های آموزش فنی و حرفه ای جهت کسب مهارت و یا ارتقا مهارت </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cs typeface="B Mitra"/>
              </a:rPr>
              <a:t>پ- معرفی به مراکز مشاوره کارآفرینی جهت عملیاتی نمودن ایده</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Mitra"/>
              </a:rPr>
              <a:t> ت- معرفی به درگاه ملی مجوزها جهت اخذ مجوز مشاغل خانگی</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Mitra"/>
              </a:rPr>
              <a:t> ث- معرفی به دوره های کارآموزی، کارورزی و یا داوطلبانه به منظور افزایش میزان آمادگی برای ورود به بازار کار </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4bc40"/>
                </a:solidFill>
                <a:latin typeface="Arial"/>
              </a:rPr>
              <a:t>ده روزه شدن صدور مجوز کاریابی های غیر دولتی داخلی </a:t>
            </a:r>
            <a:endParaRPr b="0" lang="en-US" sz="4000" spc="-1" strike="noStrike">
              <a:solidFill>
                <a:srgbClr val="f4bc40"/>
              </a:solidFill>
              <a:latin typeface="Arial"/>
            </a:endParaRPr>
          </a:p>
        </p:txBody>
      </p:sp>
      <p:sp>
        <p:nvSpPr>
          <p:cNvPr id="241" name=""/>
          <p:cNvSpPr txBox="1"/>
          <p:nvPr/>
        </p:nvSpPr>
        <p:spPr>
          <a:xfrm>
            <a:off x="263520" y="1598760"/>
            <a:ext cx="7386480" cy="4497120"/>
          </a:xfrm>
          <a:prstGeom prst="rect">
            <a:avLst/>
          </a:prstGeom>
          <a:noFill/>
          <a:ln w="0">
            <a:noFill/>
          </a:ln>
        </p:spPr>
        <p:txBody>
          <a:bodyPr anchor="t">
            <a:normAutofit fontScale="95000"/>
          </a:bodyPr>
          <a:p>
            <a:pPr marL="325800" indent="-325800" algn="just" rtl="1">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با تلاش های به عمل آمده توسط دفتر هدایت نیروی کار و کاریابی ها، مدت زمان صدور "مجوز کاریابی های غیر دولتی داخلی" </a:t>
            </a:r>
            <a:r>
              <a:rPr b="1" lang="fa-IR" sz="1800" spc="-1" strike="noStrike">
                <a:solidFill>
                  <a:srgbClr val="ffffff"/>
                </a:solidFill>
                <a:latin typeface="Arial"/>
              </a:rPr>
              <a:t>۱۰</a:t>
            </a:r>
            <a:r>
              <a:rPr b="1" lang="fa-IR" sz="1800" spc="-1" strike="noStrike">
                <a:solidFill>
                  <a:srgbClr val="ffffff"/>
                </a:solidFill>
                <a:latin typeface="Arial"/>
              </a:rPr>
              <a:t> روز کاری شده و هدف از این اقدام بهبود فضای کسب و کار و تسهیل در صدور فرآیند مجوز کاریابی های غیر دولتی داخلی است.</a:t>
            </a:r>
            <a:endParaRPr b="0" lang="en-US" sz="1800" spc="-1" strike="noStrike">
              <a:solidFill>
                <a:srgbClr val="ffffff"/>
              </a:solidFill>
              <a:latin typeface="Arial"/>
            </a:endParaRPr>
          </a:p>
          <a:p>
            <a:pPr marL="325800" indent="-325800" algn="just" rtl="1">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بر همین اساس، متقاضیان دریافت مجوز تاسیس کاریابی های غیردولتی داخلی برای ثبت درخواست خود می توانند به نشانی </a:t>
            </a:r>
            <a:r>
              <a:rPr b="1" lang="en-US" sz="1800" spc="-1" strike="noStrike">
                <a:solidFill>
                  <a:srgbClr val="ffffff"/>
                </a:solidFill>
                <a:latin typeface="Arial"/>
              </a:rPr>
              <a:t>http://karyabi-mojavvez.mcls.gov.ir</a:t>
            </a:r>
            <a:r>
              <a:rPr b="1" lang="en-US" sz="1800" spc="-1" strike="noStrike">
                <a:solidFill>
                  <a:srgbClr val="ffffff"/>
                </a:solidFill>
                <a:latin typeface="Arial"/>
              </a:rPr>
              <a:t>  </a:t>
            </a:r>
            <a:r>
              <a:rPr b="1" lang="fa-IR" sz="1800" spc="-1" strike="noStrike">
                <a:solidFill>
                  <a:srgbClr val="ffffff"/>
                </a:solidFill>
                <a:latin typeface="Arial"/>
              </a:rPr>
              <a:t>مراجعه نمایند.</a:t>
            </a:r>
            <a:endParaRPr b="0" lang="en-US" sz="1800" spc="-1" strike="noStrike">
              <a:solidFill>
                <a:srgbClr val="ffffff"/>
              </a:solidFill>
              <a:latin typeface="Arial"/>
            </a:endParaRPr>
          </a:p>
          <a:p>
            <a:pPr marL="325800" indent="-325800" algn="just" rtl="1">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کلیه مراحل مرتبط با صدور مجوز به صورت الکترونیکی صورت می گیرد و در صورت  عدم بررسی درخواست مجوز کاریابی یا عدم طرح و بررسی در هیئت استانی ظرف </a:t>
            </a:r>
            <a:r>
              <a:rPr b="1" lang="fa-IR" sz="1800" spc="-1" strike="noStrike">
                <a:solidFill>
                  <a:srgbClr val="ffffff"/>
                </a:solidFill>
                <a:latin typeface="Arial"/>
              </a:rPr>
              <a:t>۱۰</a:t>
            </a:r>
            <a:r>
              <a:rPr b="1" lang="fa-IR" sz="1800" spc="-1" strike="noStrike">
                <a:solidFill>
                  <a:srgbClr val="ffffff"/>
                </a:solidFill>
                <a:latin typeface="Arial"/>
              </a:rPr>
              <a:t> روزکاری، مجوز به صورت خودکار توسط سامانه به صورت </a:t>
            </a:r>
            <a:r>
              <a:rPr b="1" lang="en-US" sz="1800" spc="-1" strike="noStrike">
                <a:solidFill>
                  <a:srgbClr val="ffffff"/>
                </a:solidFill>
                <a:latin typeface="Arial"/>
              </a:rPr>
              <a:t>QR Code</a:t>
            </a:r>
            <a:r>
              <a:rPr b="1" lang="en-US" sz="1800" spc="-1" strike="noStrike">
                <a:solidFill>
                  <a:srgbClr val="ffffff"/>
                </a:solidFill>
                <a:latin typeface="Arial"/>
              </a:rPr>
              <a:t>  </a:t>
            </a:r>
            <a:r>
              <a:rPr b="1" lang="fa-IR" sz="1800" spc="-1" strike="noStrike">
                <a:solidFill>
                  <a:srgbClr val="ffffff"/>
                </a:solidFill>
                <a:latin typeface="Arial"/>
              </a:rPr>
              <a:t>صادر و پس از تایید کاربر استانی، امکان چاپ مجوز به صورت فیزیکی فراهم می گردد.</a:t>
            </a:r>
            <a:endParaRPr b="0" lang="en-US" sz="1800" spc="-1" strike="noStrike">
              <a:solidFill>
                <a:srgbClr val="ffffff"/>
              </a:solidFill>
              <a:latin typeface="Arial"/>
            </a:endParaRPr>
          </a:p>
          <a:p>
            <a:pPr marL="325800" indent="-325800" algn="just" rtl="1">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همچنین این سامانه امکان چاپ و ذخیره مجوز و ثبت و بررسی اعتراض به رای هیئت استانی را برای متقاضیان فراهم کرده است.</a:t>
            </a:r>
            <a:endParaRPr b="0" lang="en-US" sz="1800" spc="-1" strike="noStrike">
              <a:solidFill>
                <a:srgbClr val="ffffff"/>
              </a:solidFill>
              <a:latin typeface="Arial"/>
            </a:endParaRPr>
          </a:p>
          <a:p>
            <a:pPr marL="325800" indent="-325800" algn="r" rtl="1">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84F0-DCFF-4E01-A7F4-CFFDC81081A0}"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43" name="Footer Placeholder 4"/>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EE94-9C8A-4956-B203-7622E4C330E1}"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18880" y="227160"/>
            <a:ext cx="7476840" cy="76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4bc40"/>
                </a:solidFill>
                <a:latin typeface="Arial"/>
                <a:cs typeface="B Titr"/>
              </a:rPr>
              <a:t>سامانه صدور مجوز</a:t>
            </a:r>
            <a:endParaRPr b="0" lang="en-US" sz="4000" spc="-1" strike="noStrike">
              <a:solidFill>
                <a:srgbClr val="f4bc40"/>
              </a:solidFill>
              <a:latin typeface="Arial"/>
            </a:endParaRPr>
          </a:p>
        </p:txBody>
      </p:sp>
      <p:sp>
        <p:nvSpPr>
          <p:cNvPr id="246" name=""/>
          <p:cNvSpPr txBox="1"/>
          <p:nvPr/>
        </p:nvSpPr>
        <p:spPr>
          <a:xfrm>
            <a:off x="263520" y="1125000"/>
            <a:ext cx="7386480" cy="49705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متقاضیان دریافت مجوز تأسیس کاریابی‌های غیردولتی داخلی در صورت تمایل برای ثبت درخواست خود می‌توانند ابتدا به درگاه ملی مجوزها ابتدا به نشانی</a:t>
            </a:r>
            <a:r>
              <a:rPr b="1" lang="en-AU" sz="2400" spc="-1" strike="noStrike">
                <a:solidFill>
                  <a:srgbClr val="ffffff"/>
                </a:solidFill>
                <a:latin typeface="Arial"/>
                <a:ea typeface="B Zar"/>
              </a:rPr>
              <a:t>www.mojavez.ir</a:t>
            </a:r>
            <a:r>
              <a:rPr b="1" lang="en-AU" sz="2400" spc="-1" strike="noStrike">
                <a:solidFill>
                  <a:srgbClr val="ffffff"/>
                </a:solidFill>
                <a:latin typeface="Arial"/>
                <a:ea typeface="B Zar"/>
              </a:rPr>
              <a:t> </a:t>
            </a:r>
            <a:r>
              <a:rPr b="1" lang="fa-IR" sz="2400" spc="-1" strike="noStrike">
                <a:solidFill>
                  <a:srgbClr val="ffffff"/>
                </a:solidFill>
                <a:latin typeface="Arial"/>
                <a:ea typeface="B Zar"/>
              </a:rPr>
              <a:t> و از آن طریق به نشانی: </a:t>
            </a:r>
            <a:r>
              <a:rPr b="1" lang="en-AU" sz="2400" spc="-1" strike="noStrike">
                <a:solidFill>
                  <a:srgbClr val="ffffff"/>
                </a:solidFill>
                <a:latin typeface="Arial"/>
                <a:ea typeface="B Zar"/>
              </a:rPr>
              <a:t>http://karyabi-mojavvez.mcls.gov.ir</a:t>
            </a:r>
            <a:r>
              <a:rPr b="1" lang="en-AU" sz="2400" spc="-1" strike="noStrike">
                <a:solidFill>
                  <a:srgbClr val="ffffff"/>
                </a:solidFill>
                <a:latin typeface="Arial"/>
                <a:ea typeface="B Zar"/>
              </a:rPr>
              <a:t>  </a:t>
            </a:r>
            <a:r>
              <a:rPr b="1" lang="fa-IR" sz="2400" spc="-1" strike="noStrike">
                <a:solidFill>
                  <a:srgbClr val="ffffff"/>
                </a:solidFill>
                <a:latin typeface="Arial"/>
                <a:ea typeface="B Zar"/>
              </a:rPr>
              <a:t> مراجعه کنند.</a:t>
            </a:r>
            <a:endParaRPr b="0" lang="en-US" sz="2400" spc="-1" strike="noStrike">
              <a:solidFill>
                <a:srgbClr val="ffffff"/>
              </a:solidFill>
              <a:latin typeface="Arial"/>
            </a:endParaRPr>
          </a:p>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33D7-257E-4668-8ABC-AD5131CC8345}"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48" name="Footer Placeholder 4"/>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CB7E-ED6E-4DB8-908C-C85226BAF8F2}"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pic>
        <p:nvPicPr>
          <p:cNvPr id="250" name="Picture 1" descr=""/>
          <p:cNvPicPr/>
          <p:nvPr/>
        </p:nvPicPr>
        <p:blipFill>
          <a:blip r:embed="rId2"/>
          <a:stretch/>
        </p:blipFill>
        <p:spPr>
          <a:xfrm>
            <a:off x="0" y="3284640"/>
            <a:ext cx="3780000" cy="3387600"/>
          </a:xfrm>
          <a:prstGeom prst="rect">
            <a:avLst/>
          </a:prstGeom>
          <a:ln w="0">
            <a:noFill/>
          </a:ln>
        </p:spPr>
      </p:pic>
      <p:pic>
        <p:nvPicPr>
          <p:cNvPr id="251" name="Picture 2" descr=""/>
          <p:cNvPicPr/>
          <p:nvPr/>
        </p:nvPicPr>
        <p:blipFill>
          <a:blip r:embed="rId3"/>
          <a:stretch/>
        </p:blipFill>
        <p:spPr>
          <a:xfrm>
            <a:off x="3813120" y="3284640"/>
            <a:ext cx="4052880" cy="3413160"/>
          </a:xfrm>
          <a:prstGeom prst="rect">
            <a:avLst/>
          </a:prstGeom>
          <a:ln w="0">
            <a:noFill/>
          </a:ln>
        </p:spPr>
      </p:pic>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4bc40"/>
                </a:solidFill>
                <a:latin typeface="Arial"/>
                <a:cs typeface="B Titr"/>
              </a:rPr>
              <a:t>شرایط لازم برای صدور مجوز</a:t>
            </a:r>
            <a:r>
              <a:rPr b="0" lang="ar-SA" sz="1800" spc="-1" strike="noStrike">
                <a:solidFill>
                  <a:srgbClr val="f4bc40"/>
                </a:solidFill>
                <a:latin typeface="Arial"/>
                <a:cs typeface="B Titr"/>
              </a:rPr>
              <a:t>دفاتر مشاوره شغلی و کاریابی داخلی </a:t>
            </a:r>
            <a:r>
              <a:rPr b="0" lang="fa-IR" sz="1800" spc="-1" strike="noStrike">
                <a:solidFill>
                  <a:srgbClr val="f4bc40"/>
                </a:solidFill>
                <a:latin typeface="Arial"/>
                <a:ea typeface="B Titr"/>
              </a:rPr>
              <a:t>(</a:t>
            </a:r>
            <a:r>
              <a:rPr b="0" lang="fa-IR" sz="1800" spc="-1" strike="noStrike">
                <a:solidFill>
                  <a:srgbClr val="f4bc40"/>
                </a:solidFill>
                <a:latin typeface="Arial"/>
                <a:ea typeface="B Titr"/>
              </a:rPr>
              <a:t>10</a:t>
            </a:r>
            <a:r>
              <a:rPr b="0" lang="fa-IR" sz="1800" spc="-1" strike="noStrike">
                <a:solidFill>
                  <a:srgbClr val="f4bc40"/>
                </a:solidFill>
                <a:latin typeface="Arial"/>
                <a:cs typeface="B Titr"/>
              </a:rPr>
              <a:t>روزه شدن)</a:t>
            </a:r>
            <a:endParaRPr b="0" lang="en-US" sz="1800" spc="-1" strike="noStrike">
              <a:solidFill>
                <a:srgbClr val="f4bc40"/>
              </a:solidFill>
              <a:latin typeface="Arial"/>
            </a:endParaRPr>
          </a:p>
        </p:txBody>
      </p:sp>
      <p:graphicFrame>
        <p:nvGraphicFramePr>
          <p:cNvPr id="253" name=""/>
          <p:cNvGraphicFramePr/>
          <p:nvPr/>
        </p:nvGraphicFramePr>
        <p:xfrm>
          <a:off x="539640" y="1125360"/>
          <a:ext cx="7083360" cy="5256360"/>
        </p:xfrm>
        <a:graphic>
          <a:graphicData uri="http://schemas.openxmlformats.org/drawingml/2006/table">
            <a:tbl>
              <a:tblPr/>
              <a:tblGrid>
                <a:gridCol w="7083360"/>
              </a:tblGrid>
              <a:tr h="41040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1</a:t>
                      </a:r>
                      <a:r>
                        <a:rPr b="1" lang="ar-SA" sz="1600" spc="-1" strike="noStrike">
                          <a:solidFill>
                            <a:srgbClr val="ffffff"/>
                          </a:solidFill>
                          <a:latin typeface="Arial"/>
                          <a:ea typeface="B Mitra"/>
                        </a:rPr>
                        <a:t>-  تابعیت جمهوری اسلامی ایران</a:t>
                      </a:r>
                      <a:r>
                        <a:rPr b="1" lang="en-US" sz="1600" spc="-1" strike="noStrike">
                          <a:solidFill>
                            <a:srgbClr val="ffffff"/>
                          </a:solidFill>
                          <a:latin typeface="Arial"/>
                          <a:ea typeface="B Mitra"/>
                        </a:rPr>
                        <a:t>.</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280cc"/>
                    </a:solidFill>
                  </a:tcPr>
                </a:tc>
              </a:tr>
              <a:tr h="57852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2</a:t>
                      </a:r>
                      <a:r>
                        <a:rPr b="1" lang="ar-SA" sz="1600" spc="-1" strike="noStrike">
                          <a:solidFill>
                            <a:srgbClr val="ffffff"/>
                          </a:solidFill>
                          <a:latin typeface="Arial"/>
                          <a:ea typeface="B Mitra"/>
                        </a:rPr>
                        <a:t>-  تدین به دین اسلام یا یکی از اقلیت های دینی شناخته شده در قانون اساسی</a:t>
                      </a:r>
                      <a:r>
                        <a:rPr b="1" lang="en-US" sz="1600" spc="-1" strike="noStrike">
                          <a:solidFill>
                            <a:srgbClr val="ffffff"/>
                          </a:solidFill>
                          <a:latin typeface="Arial"/>
                          <a:ea typeface="B Mitra"/>
                        </a:rPr>
                        <a:t>.</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280cc"/>
                    </a:solidFill>
                  </a:tcPr>
                </a:tc>
              </a:tr>
              <a:tr h="41004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3</a:t>
                      </a:r>
                      <a:r>
                        <a:rPr b="1" lang="ar-SA" sz="1600" spc="-1" strike="noStrike">
                          <a:solidFill>
                            <a:srgbClr val="ffffff"/>
                          </a:solidFill>
                          <a:latin typeface="Arial"/>
                          <a:ea typeface="B Mitra"/>
                        </a:rPr>
                        <a:t>-  مقیم بودن در ایران</a:t>
                      </a:r>
                      <a:r>
                        <a:rPr b="1" lang="en-US" sz="1600" spc="-1" strike="noStrike">
                          <a:solidFill>
                            <a:srgbClr val="ffffff"/>
                          </a:solidFill>
                          <a:latin typeface="Arial"/>
                          <a:ea typeface="B Mitra"/>
                        </a:rPr>
                        <a:t>.</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r>
              <a:tr h="41004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4</a:t>
                      </a:r>
                      <a:r>
                        <a:rPr b="1" lang="ar-SA" sz="1600" spc="-1" strike="noStrike">
                          <a:solidFill>
                            <a:srgbClr val="ffffff"/>
                          </a:solidFill>
                          <a:latin typeface="Arial"/>
                          <a:ea typeface="B Mitra"/>
                        </a:rPr>
                        <a:t>-  شرایط سنی</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r>
              <a:tr h="41004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4-1</a:t>
                      </a:r>
                      <a:r>
                        <a:rPr b="1" lang="ar-SA" sz="1600" spc="-1" strike="noStrike">
                          <a:solidFill>
                            <a:srgbClr val="ffffff"/>
                          </a:solidFill>
                          <a:latin typeface="Arial"/>
                          <a:ea typeface="B Mitra"/>
                        </a:rPr>
                        <a:t>-  داشتن حداقل سن </a:t>
                      </a:r>
                      <a:r>
                        <a:rPr b="1" lang="ar-SA" sz="1600" spc="-1" strike="noStrike">
                          <a:solidFill>
                            <a:srgbClr val="ffffff"/>
                          </a:solidFill>
                          <a:latin typeface="Arial"/>
                          <a:ea typeface="B Mitra"/>
                        </a:rPr>
                        <a:t>30</a:t>
                      </a:r>
                      <a:r>
                        <a:rPr b="1" lang="ar-SA" sz="1600" spc="-1" strike="noStrike">
                          <a:solidFill>
                            <a:srgbClr val="ffffff"/>
                          </a:solidFill>
                          <a:latin typeface="Arial"/>
                          <a:ea typeface="B Mitra"/>
                        </a:rPr>
                        <a:t> سال تمام برای داخلی فیزیکی و دریایی</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r>
              <a:tr h="41004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4-2</a:t>
                      </a:r>
                      <a:r>
                        <a:rPr b="1" lang="ar-SA" sz="1600" spc="-1" strike="noStrike">
                          <a:solidFill>
                            <a:srgbClr val="ffffff"/>
                          </a:solidFill>
                          <a:latin typeface="Arial"/>
                          <a:ea typeface="B Mitra"/>
                        </a:rPr>
                        <a:t>- داشتن حداقل </a:t>
                      </a:r>
                      <a:r>
                        <a:rPr b="1" lang="ar-SA" sz="1600" spc="-1" strike="noStrike">
                          <a:solidFill>
                            <a:srgbClr val="ffffff"/>
                          </a:solidFill>
                          <a:latin typeface="Arial"/>
                          <a:ea typeface="B Mitra"/>
                        </a:rPr>
                        <a:t>24</a:t>
                      </a:r>
                      <a:r>
                        <a:rPr b="1" lang="ar-SA" sz="1600" spc="-1" strike="noStrike">
                          <a:solidFill>
                            <a:srgbClr val="ffffff"/>
                          </a:solidFill>
                          <a:latin typeface="Arial"/>
                          <a:ea typeface="B Mitra"/>
                        </a:rPr>
                        <a:t> سال سن برای کاریابی الکترونیکی</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r>
              <a:tr h="40896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5</a:t>
                      </a:r>
                      <a:r>
                        <a:rPr b="1" lang="ar-SA" sz="1600" spc="-1" strike="noStrike">
                          <a:solidFill>
                            <a:srgbClr val="ffffff"/>
                          </a:solidFill>
                          <a:latin typeface="Arial"/>
                          <a:ea typeface="B Mitra"/>
                        </a:rPr>
                        <a:t>-  تایید صلاحیت فردی از طریق مراجع ذی صلاح</a:t>
                      </a:r>
                      <a:r>
                        <a:rPr b="1" lang="en-US" sz="1600" spc="-1" strike="noStrike">
                          <a:solidFill>
                            <a:srgbClr val="ffffff"/>
                          </a:solidFill>
                          <a:latin typeface="Arial"/>
                          <a:ea typeface="B Mitra"/>
                        </a:rPr>
                        <a:t>.</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r>
              <a:tr h="41004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6</a:t>
                      </a:r>
                      <a:r>
                        <a:rPr b="1" lang="ar-SA" sz="1600" spc="-1" strike="noStrike">
                          <a:solidFill>
                            <a:srgbClr val="ffffff"/>
                          </a:solidFill>
                          <a:latin typeface="Arial"/>
                          <a:ea typeface="B Mitra"/>
                        </a:rPr>
                        <a:t>-  دارا بودن مدرک حداقل کارشناسی</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r>
              <a:tr h="41004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6-1</a:t>
                      </a:r>
                      <a:r>
                        <a:rPr b="1" lang="ar-SA" sz="1600" spc="-1" strike="noStrike">
                          <a:solidFill>
                            <a:srgbClr val="ffffff"/>
                          </a:solidFill>
                          <a:latin typeface="Arial"/>
                          <a:ea typeface="B Mitra"/>
                        </a:rPr>
                        <a:t>- در یکی از رشته‌های علوم دریایی (برای کاریابی دریایی)</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r>
              <a:tr h="41004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6-2</a:t>
                      </a:r>
                      <a:r>
                        <a:rPr b="1" lang="ar-SA" sz="1600" spc="-1" strike="noStrike">
                          <a:solidFill>
                            <a:srgbClr val="ffffff"/>
                          </a:solidFill>
                          <a:latin typeface="Arial"/>
                          <a:ea typeface="B Mitra"/>
                        </a:rPr>
                        <a:t> - آشنایی با امور</a:t>
                      </a:r>
                      <a:r>
                        <a:rPr b="1" lang="en-US" sz="1600" spc="-1" strike="noStrike">
                          <a:solidFill>
                            <a:srgbClr val="ffffff"/>
                          </a:solidFill>
                          <a:latin typeface="Arial"/>
                          <a:ea typeface="B Mitra"/>
                        </a:rPr>
                        <a:t> </a:t>
                      </a:r>
                      <a:r>
                        <a:rPr b="1" lang="en-US" sz="1600" spc="-1" strike="noStrike">
                          <a:solidFill>
                            <a:srgbClr val="ffffff"/>
                          </a:solidFill>
                          <a:latin typeface="Arial"/>
                          <a:ea typeface="B Mitra"/>
                        </a:rPr>
                        <a:t>IT</a:t>
                      </a:r>
                      <a:r>
                        <a:rPr b="1" lang="en-US" sz="1600" spc="-1" strike="noStrike">
                          <a:solidFill>
                            <a:srgbClr val="ffffff"/>
                          </a:solidFill>
                          <a:latin typeface="Arial"/>
                          <a:ea typeface="B Mitra"/>
                        </a:rPr>
                        <a:t> </a:t>
                      </a:r>
                      <a:r>
                        <a:rPr b="1" lang="ar-SA" sz="1600" spc="-1" strike="noStrike">
                          <a:solidFill>
                            <a:srgbClr val="ffffff"/>
                          </a:solidFill>
                          <a:latin typeface="Arial"/>
                          <a:ea typeface="B Mitra"/>
                        </a:rPr>
                        <a:t>(برای کاریابی الکترونیکی)</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r>
              <a:tr h="41004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7</a:t>
                      </a:r>
                      <a:r>
                        <a:rPr b="1" lang="ar-SA" sz="1600" spc="-1" strike="noStrike">
                          <a:solidFill>
                            <a:srgbClr val="ffffff"/>
                          </a:solidFill>
                          <a:latin typeface="Arial"/>
                          <a:ea typeface="B Mitra"/>
                        </a:rPr>
                        <a:t>-  دارا بودن کارت پایان خدمت یا معافیت دائم (ویژه آقایان)</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r>
              <a:tr h="578520">
                <a:tc>
                  <a:txBody>
                    <a:bodyPr lIns="9360" rIns="9360" tIns="9360" bIns="93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Mitra"/>
                        </a:rPr>
                        <a:t>8</a:t>
                      </a:r>
                      <a:r>
                        <a:rPr b="1" lang="ar-SA" sz="1600" spc="-1" strike="noStrike">
                          <a:solidFill>
                            <a:srgbClr val="ffffff"/>
                          </a:solidFill>
                          <a:latin typeface="Arial"/>
                          <a:ea typeface="B Mitra"/>
                        </a:rPr>
                        <a:t>-  ارایه تایید صلاحیت تخصصی از سازمان بنادر و دریانوردی (ویژه کاریابی دریایی)</a:t>
                      </a:r>
                      <a:endParaRPr b="0"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r>
            </a:tbl>
          </a:graphicData>
        </a:graphic>
      </p:graphicFrame>
      <p:sp>
        <p:nvSpPr>
          <p:cNvPr id="254"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4D40-EE64-45BD-997F-6191FC86D65A}"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55" name="Footer Placeholder 4"/>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AD82-4A7B-4258-B9FB-012E1CBD2C97}"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5800" y="115920"/>
            <a:ext cx="7305480" cy="504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4bc40"/>
                </a:solidFill>
                <a:latin typeface="Arial"/>
                <a:cs typeface="B Titr"/>
              </a:rPr>
              <a:t>فرآیند لازم برای اخذ مجوز کاریابی داخلی</a:t>
            </a:r>
            <a:endParaRPr b="0" lang="en-US" sz="2400" spc="-1" strike="noStrike">
              <a:solidFill>
                <a:srgbClr val="f4bc40"/>
              </a:solidFill>
              <a:latin typeface="Arial"/>
            </a:endParaRPr>
          </a:p>
        </p:txBody>
      </p:sp>
      <p:graphicFrame>
        <p:nvGraphicFramePr>
          <p:cNvPr id="258" name=""/>
          <p:cNvGraphicFramePr/>
          <p:nvPr/>
        </p:nvGraphicFramePr>
        <p:xfrm>
          <a:off x="395280" y="657360"/>
          <a:ext cx="7056360" cy="5906880"/>
        </p:xfrm>
        <a:graphic>
          <a:graphicData uri="http://schemas.openxmlformats.org/drawingml/2006/table">
            <a:tbl>
              <a:tblPr/>
              <a:tblGrid>
                <a:gridCol w="71280"/>
                <a:gridCol w="2305080"/>
                <a:gridCol w="4680000"/>
              </a:tblGrid>
              <a:tr h="501480">
                <a:tc gridSpan="2">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66ff"/>
                          </a:solidFill>
                          <a:uFillTx/>
                          <a:latin typeface="Arial"/>
                          <a:hlinkClick r:id="rId1"/>
                        </a:rPr>
                        <a:t>https://mojavez.ir</a:t>
                      </a:r>
                      <a:endParaRPr b="0" lang="en-US" sz="8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18720">
                      <a:solidFill>
                        <a:srgbClr val="ffffff"/>
                      </a:solidFill>
                    </a:lnB>
                    <a:solidFill>
                      <a:srgbClr val="9280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57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B Titr"/>
                        </a:rPr>
                        <a:t> </a:t>
                      </a:r>
                      <a:r>
                        <a:rPr b="1" lang="ar-SA" sz="1400" spc="-1" strike="noStrike">
                          <a:solidFill>
                            <a:srgbClr val="ffffff"/>
                          </a:solidFill>
                          <a:latin typeface="Arial"/>
                          <a:ea typeface="B Titr"/>
                        </a:rPr>
                        <a:t>1</a:t>
                      </a:r>
                      <a:r>
                        <a:rPr b="1" lang="ar-SA" sz="1400" spc="-1" strike="noStrike">
                          <a:solidFill>
                            <a:srgbClr val="ffffff"/>
                          </a:solidFill>
                          <a:latin typeface="Arial"/>
                          <a:ea typeface="B Titr"/>
                        </a:rPr>
                        <a:t>- مراجعه متقاضی به درگاه صدور مجوزها به نشانی :</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18720">
                      <a:solidFill>
                        <a:srgbClr val="ffffff"/>
                      </a:solidFill>
                    </a:lnB>
                    <a:solidFill>
                      <a:srgbClr val="9280cc"/>
                    </a:solidFill>
                  </a:tcPr>
                </a:tc>
              </a:tr>
              <a:tr h="256680">
                <a:tc gridSpan="2">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66ff"/>
                          </a:solidFill>
                          <a:uFillTx/>
                          <a:latin typeface="Arial"/>
                          <a:hlinkClick r:id="rId2"/>
                        </a:rPr>
                        <a:t>https://karyabi-mojavvez.mcls.gov.ir</a:t>
                      </a:r>
                      <a:endParaRPr b="0" lang="en-US" sz="800" spc="-1" strike="noStrike">
                        <a:solidFill>
                          <a:srgbClr val="ffffff"/>
                        </a:solidFill>
                        <a:latin typeface="Arial"/>
                      </a:endParaRPr>
                    </a:p>
                  </a:txBody>
                  <a:tcPr anchor="ctr" marL="5760" marR="5760">
                    <a:lnL w="5760">
                      <a:solidFill>
                        <a:srgbClr val="ffffff"/>
                      </a:solidFill>
                    </a:lnL>
                    <a:lnR w="5760">
                      <a:solidFill>
                        <a:srgbClr val="ffffff"/>
                      </a:solidFill>
                    </a:lnR>
                    <a:lnT w="18720">
                      <a:solidFill>
                        <a:srgbClr val="ffffff"/>
                      </a:solidFill>
                    </a:lnT>
                    <a:lnB w="5760">
                      <a:solidFill>
                        <a:srgbClr val="ffffff"/>
                      </a:solidFill>
                    </a:lnB>
                    <a:solidFill>
                      <a:srgbClr val="9280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5760" anchor="ctr">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2e"/>
                          </a:solidFill>
                          <a:latin typeface="Arial"/>
                          <a:ea typeface="B Titr"/>
                        </a:rPr>
                        <a:t>2</a:t>
                      </a:r>
                      <a:r>
                        <a:rPr b="0" lang="ar-SA" sz="1400" spc="-1" strike="noStrike">
                          <a:solidFill>
                            <a:srgbClr val="00002e"/>
                          </a:solidFill>
                          <a:latin typeface="Arial"/>
                          <a:ea typeface="B Titr"/>
                        </a:rPr>
                        <a:t>- اتصال به سامانه صدور مجوز کاریابی به نشانی: </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18720">
                      <a:solidFill>
                        <a:srgbClr val="ffffff"/>
                      </a:solidFill>
                    </a:lnT>
                    <a:lnB w="5760">
                      <a:solidFill>
                        <a:srgbClr val="ffffff"/>
                      </a:solidFill>
                    </a:lnB>
                    <a:solidFill>
                      <a:srgbClr val="dcd8ec"/>
                    </a:solidFill>
                  </a:tcPr>
                </a:tc>
              </a:tr>
              <a:tr h="501480">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 </a:t>
                      </a:r>
                      <a:endParaRPr b="0" lang="en-US" sz="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gridSpan="2">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2e"/>
                          </a:solidFill>
                          <a:latin typeface="Arial"/>
                          <a:ea typeface="B Titr"/>
                        </a:rPr>
                        <a:t>3</a:t>
                      </a:r>
                      <a:r>
                        <a:rPr b="0" lang="ar-SA" sz="1400" spc="-1" strike="noStrike">
                          <a:solidFill>
                            <a:srgbClr val="00002e"/>
                          </a:solidFill>
                          <a:latin typeface="Arial"/>
                          <a:ea typeface="B Titr"/>
                        </a:rPr>
                        <a:t>- تکمیل فرم درخواست، تکمیل فرم پرسشنامه، بارگذاری عکس، رزومه و مدارک توسط متقاضی</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eedf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1480">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 </a:t>
                      </a:r>
                      <a:endParaRPr b="0" lang="en-US" sz="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gridSpan="2">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2e"/>
                          </a:solidFill>
                          <a:latin typeface="Arial"/>
                          <a:ea typeface="B Titr"/>
                        </a:rPr>
                        <a:t>4</a:t>
                      </a:r>
                      <a:r>
                        <a:rPr b="0" lang="ar-SA" sz="1400" spc="-1" strike="noStrike">
                          <a:solidFill>
                            <a:srgbClr val="00002e"/>
                          </a:solidFill>
                          <a:latin typeface="Arial"/>
                          <a:ea typeface="B Titr"/>
                        </a:rPr>
                        <a:t>- بررسی مدارک توسط اداره کل تعاون، کار و رفاه اجتماعی استان (در صورت نقص مدارک، مراتب به متقاضی جهت تکمیل مدارک اعلام می گردد)</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dcd8e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1480">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 </a:t>
                      </a:r>
                      <a:endParaRPr b="0" lang="en-US" sz="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gridSpan="2">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2e"/>
                          </a:solidFill>
                          <a:latin typeface="Arial"/>
                          <a:ea typeface="B Titr"/>
                        </a:rPr>
                        <a:t>5</a:t>
                      </a:r>
                      <a:r>
                        <a:rPr b="0" lang="ar-SA" sz="1400" spc="-1" strike="noStrike">
                          <a:solidFill>
                            <a:srgbClr val="00002e"/>
                          </a:solidFill>
                          <a:latin typeface="Arial"/>
                          <a:ea typeface="B Titr"/>
                        </a:rPr>
                        <a:t>-  طرح درخواست متقاضی توسط اداره کل تعاون، کار و رفاه اجتماعی استان در هیئت استانی</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eedf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35880">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 </a:t>
                      </a:r>
                      <a:endParaRPr b="0" lang="en-US" sz="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gridSpan="2">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2e"/>
                          </a:solidFill>
                          <a:latin typeface="Arial"/>
                          <a:ea typeface="B Titr"/>
                        </a:rPr>
                        <a:t>6</a:t>
                      </a:r>
                      <a:r>
                        <a:rPr b="0" lang="ar-SA" sz="1400" spc="-1" strike="noStrike">
                          <a:solidFill>
                            <a:srgbClr val="00002e"/>
                          </a:solidFill>
                          <a:latin typeface="Arial"/>
                          <a:ea typeface="B Titr"/>
                        </a:rPr>
                        <a:t>- تایید درخواست متقاضی توسط هیئت استانی (در صورت عدم تایید درخواست متقاضی توسط اعضاء هیئت استانی مراتب به متقاضی اعلام می گردد و متقاضی می تواند در صورت اعتراض، درخواست تجدید نظر به دفتر هدایت نیروی کار و کاریابی‌ها جهت طرح در هیئت مرکزی نماید در صورت اعتراض به رای هیئت مرکزی می تواند موضوع را از طریق مراجع قضایی پیگیری نماید)</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dcd8e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6680">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 </a:t>
                      </a:r>
                      <a:endParaRPr b="0" lang="en-US" sz="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gridSpan="2">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2e"/>
                          </a:solidFill>
                          <a:latin typeface="Arial"/>
                          <a:ea typeface="B Titr"/>
                        </a:rPr>
                        <a:t>7</a:t>
                      </a:r>
                      <a:r>
                        <a:rPr b="0" lang="ar-SA" sz="1400" spc="-1" strike="noStrike">
                          <a:solidFill>
                            <a:srgbClr val="00002e"/>
                          </a:solidFill>
                          <a:latin typeface="Arial"/>
                          <a:ea typeface="B Titr"/>
                        </a:rPr>
                        <a:t>- استعلام صلاحیت فردی متقاضی از مراجع ذیصلاح</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eedf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1480">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 </a:t>
                      </a:r>
                      <a:endParaRPr b="0" lang="en-US" sz="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gridSpan="2">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2e"/>
                          </a:solidFill>
                          <a:latin typeface="Arial"/>
                          <a:ea typeface="B Titr"/>
                        </a:rPr>
                        <a:t>8</a:t>
                      </a:r>
                      <a:r>
                        <a:rPr b="0" lang="ar-SA" sz="1400" spc="-1" strike="noStrike">
                          <a:solidFill>
                            <a:srgbClr val="00002e"/>
                          </a:solidFill>
                          <a:latin typeface="Arial"/>
                          <a:ea typeface="B Titr"/>
                        </a:rPr>
                        <a:t>- درج سایت یا شبکه های اجتماعی در پورتال جامع معرفی سامانه ها و سایت های اینترنتی کشور (سامانه ها) (ویژه کاریابی‌های الکترونیکی)</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dcd8e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1480">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 </a:t>
                      </a:r>
                      <a:endParaRPr b="0" lang="en-US" sz="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gridSpan="2">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2e"/>
                          </a:solidFill>
                          <a:latin typeface="Arial"/>
                          <a:ea typeface="B Titr"/>
                        </a:rPr>
                        <a:t>9</a:t>
                      </a:r>
                      <a:r>
                        <a:rPr b="0" lang="ar-SA" sz="1400" spc="-1" strike="noStrike">
                          <a:solidFill>
                            <a:srgbClr val="00002e"/>
                          </a:solidFill>
                          <a:latin typeface="Arial"/>
                          <a:ea typeface="B Titr"/>
                        </a:rPr>
                        <a:t>- اخذ نماد اعتماد کسب و کارهای الکترونیکی (ای نماد) برای سایت (ویژه کاریابی های الکترونیکی)</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eedf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1480">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 </a:t>
                      </a:r>
                      <a:endParaRPr b="0" lang="en-US" sz="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gridSpan="2">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2e"/>
                          </a:solidFill>
                          <a:latin typeface="Arial"/>
                          <a:ea typeface="B Titr"/>
                        </a:rPr>
                        <a:t>10</a:t>
                      </a:r>
                      <a:r>
                        <a:rPr b="0" lang="ar-SA" sz="1400" spc="-1" strike="noStrike">
                          <a:solidFill>
                            <a:srgbClr val="00002e"/>
                          </a:solidFill>
                          <a:latin typeface="Arial"/>
                          <a:ea typeface="B Titr"/>
                        </a:rPr>
                        <a:t>- اخذ تعهد از متقاضی مبنی بر تمکین از نتیجه تعیین صلاحیت فردی (در صورت عدم تایید صلاحیت فردی متقاضی توسط مراجع ذیصلاح مجوز کاریابی ابطال می گردد)</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dcd8e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6680">
                <a:tc gridSpan="3">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B Titr"/>
                        </a:rPr>
                        <a:t>11</a:t>
                      </a:r>
                      <a:r>
                        <a:rPr b="1" lang="ar-SA" sz="1400" spc="-1" strike="noStrike">
                          <a:solidFill>
                            <a:srgbClr val="ffffff"/>
                          </a:solidFill>
                          <a:latin typeface="Arial"/>
                          <a:ea typeface="B Titr"/>
                        </a:rPr>
                        <a:t>-  صدور مجوز کاریابی</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1480">
                <a:tc gridSpan="3">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B Titr"/>
                        </a:rPr>
                        <a:t>12</a:t>
                      </a:r>
                      <a:r>
                        <a:rPr b="1" lang="ar-SA" sz="1400" spc="-1" strike="noStrike">
                          <a:solidFill>
                            <a:srgbClr val="ffffff"/>
                          </a:solidFill>
                          <a:latin typeface="Arial"/>
                          <a:ea typeface="B Titr"/>
                        </a:rPr>
                        <a:t>-  اضافه نمودن فعالیت کاریابی به موضوع اساسنامه شرکت (ویژه اشخاص حقوقی)</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6680">
                <a:tc gridSpan="3">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B Titr"/>
                        </a:rPr>
                        <a:t>13</a:t>
                      </a:r>
                      <a:r>
                        <a:rPr b="1" lang="ar-SA" sz="1400" spc="-1" strike="noStrike">
                          <a:solidFill>
                            <a:srgbClr val="ffffff"/>
                          </a:solidFill>
                          <a:latin typeface="Arial"/>
                          <a:ea typeface="B Titr"/>
                        </a:rPr>
                        <a:t>- تهیه مکان و کسب تاییدیه اداره کل تعاون، کار و رفاه اجتماعی استان</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6680">
                <a:tc gridSpan="3">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B Titr"/>
                        </a:rPr>
                        <a:t>14</a:t>
                      </a:r>
                      <a:r>
                        <a:rPr b="1" lang="ar-SA" sz="1400" spc="-1" strike="noStrike">
                          <a:solidFill>
                            <a:srgbClr val="ffffff"/>
                          </a:solidFill>
                          <a:latin typeface="Arial"/>
                          <a:ea typeface="B Titr"/>
                        </a:rPr>
                        <a:t>- استخدام پرسنل</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1480">
                <a:tc gridSpan="3">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B Titr"/>
                        </a:rPr>
                        <a:t>15</a:t>
                      </a:r>
                      <a:r>
                        <a:rPr b="1" lang="ar-SA" sz="1400" spc="-1" strike="noStrike">
                          <a:solidFill>
                            <a:srgbClr val="ffffff"/>
                          </a:solidFill>
                          <a:latin typeface="Arial"/>
                          <a:ea typeface="B Titr"/>
                        </a:rPr>
                        <a:t>- اعلام شروع به کار کاریابی توسط اداره کل تعاون، کار و رفاه اجتماعی استان به دفتر هدایت نیروی کار و کاریابی ها</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1480">
                <a:tc gridSpan="3">
                  <a:txBody>
                    <a:bodyPr lIns="5760" rIns="5760" tIns="5760" bIns="576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B Titr"/>
                        </a:rPr>
                        <a:t>16</a:t>
                      </a:r>
                      <a:r>
                        <a:rPr b="1" lang="ar-SA" sz="1400" spc="-1" strike="noStrike">
                          <a:solidFill>
                            <a:srgbClr val="ffffff"/>
                          </a:solidFill>
                          <a:latin typeface="Arial"/>
                          <a:ea typeface="B Titr"/>
                        </a:rPr>
                        <a:t>- درج نام کاریابی در فهرست کاریابی های دارای مجوز کشور در سایت دفتر هدایت نیروی کار</a:t>
                      </a:r>
                      <a:endParaRPr b="0" lang="en-US" sz="1400" spc="-1" strike="noStrike">
                        <a:solidFill>
                          <a:srgbClr val="ffffff"/>
                        </a:solidFill>
                        <a:latin typeface="Arial"/>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9280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9"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F429-7039-4985-831B-9AF02AB7841C}"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60"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D15E-199A-4519-AFCA-C4661B211649}"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18880" y="226800"/>
            <a:ext cx="7089480" cy="322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4bc40"/>
                </a:solidFill>
                <a:latin typeface="Arial"/>
                <a:cs typeface="B Titr"/>
              </a:rPr>
              <a:t>نمودار فرآیند صدور مجوز کاریابی های داخلی</a:t>
            </a:r>
            <a:endParaRPr b="0" lang="en-US" sz="2000" spc="-1" strike="noStrike">
              <a:solidFill>
                <a:srgbClr val="f4bc40"/>
              </a:solidFill>
              <a:latin typeface="Arial"/>
            </a:endParaRPr>
          </a:p>
        </p:txBody>
      </p:sp>
      <p:sp>
        <p:nvSpPr>
          <p:cNvPr id="262"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0B5A-EEF5-4612-85AA-2839E78DAF34}"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63"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BC3D-E922-4440-A7BD-E474F9522B7B}"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pic>
        <p:nvPicPr>
          <p:cNvPr id="264" name="Content Placeholder 6" descr=""/>
          <p:cNvPicPr/>
          <p:nvPr/>
        </p:nvPicPr>
        <p:blipFill>
          <a:blip r:embed="rId1"/>
          <a:srcRect l="20270" t="15524" r="22568" b="4075"/>
          <a:stretch/>
        </p:blipFill>
        <p:spPr>
          <a:xfrm>
            <a:off x="395280" y="692280"/>
            <a:ext cx="7056360" cy="5905440"/>
          </a:xfrm>
          <a:prstGeom prst="rect">
            <a:avLst/>
          </a:prstGeom>
          <a:ln w="0">
            <a:noFill/>
          </a:ln>
        </p:spPr>
      </p:pic>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7160"/>
            <a:ext cx="7476840" cy="96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4bc40"/>
                </a:solidFill>
                <a:latin typeface="Arial"/>
                <a:cs typeface="B Titr"/>
              </a:rPr>
              <a:t>استعلامات و مجوزهای پیشنیاز:</a:t>
            </a:r>
            <a:endParaRPr b="0" lang="en-US" sz="4000" spc="-1" strike="noStrike">
              <a:solidFill>
                <a:srgbClr val="f4bc40"/>
              </a:solidFill>
              <a:latin typeface="Arial"/>
            </a:endParaRPr>
          </a:p>
        </p:txBody>
      </p:sp>
      <p:sp>
        <p:nvSpPr>
          <p:cNvPr id="266" name=""/>
          <p:cNvSpPr txBox="1"/>
          <p:nvPr/>
        </p:nvSpPr>
        <p:spPr>
          <a:xfrm>
            <a:off x="263520" y="1341000"/>
            <a:ext cx="7386480" cy="5040360"/>
          </a:xfrm>
          <a:prstGeom prst="rect">
            <a:avLst/>
          </a:prstGeom>
          <a:noFill/>
          <a:ln w="0">
            <a:noFill/>
          </a:ln>
        </p:spPr>
        <p:txBody>
          <a:bodyPr anchor="t">
            <a:normAutofit fontScale="90000"/>
          </a:bodyPr>
          <a:p>
            <a:pPr marL="308520" indent="-308520" algn="r" rtl="1">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ea typeface="B Zar"/>
              </a:rPr>
              <a:t>.</a:t>
            </a:r>
            <a:r>
              <a:rPr b="1" lang="fa-IR" sz="3000" spc="-1" strike="noStrike">
                <a:solidFill>
                  <a:srgbClr val="ffffff"/>
                </a:solidFill>
                <a:latin typeface="Arial"/>
                <a:ea typeface="B Zar"/>
              </a:rPr>
              <a:t>1</a:t>
            </a:r>
            <a:r>
              <a:rPr b="1" lang="fa-IR" sz="3000" spc="-1" strike="noStrike">
                <a:solidFill>
                  <a:srgbClr val="ffffff"/>
                </a:solidFill>
                <a:latin typeface="Arial"/>
                <a:ea typeface="B Zar"/>
              </a:rPr>
              <a:t> تاییدیه صلاحیت فردی از واحد حراست استان</a:t>
            </a:r>
            <a:endParaRPr b="0" lang="en-US" sz="3000" spc="-1" strike="noStrike">
              <a:solidFill>
                <a:srgbClr val="ffffff"/>
              </a:solidFill>
              <a:latin typeface="Arial"/>
            </a:endParaRPr>
          </a:p>
          <a:p>
            <a:pPr marL="308520" indent="-308520" algn="r" rtl="1">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ea typeface="B Zar"/>
              </a:rPr>
              <a:t>.</a:t>
            </a:r>
            <a:r>
              <a:rPr b="1" lang="fa-IR" sz="3000" spc="-1" strike="noStrike">
                <a:solidFill>
                  <a:srgbClr val="ffffff"/>
                </a:solidFill>
                <a:latin typeface="Arial"/>
                <a:ea typeface="B Zar"/>
              </a:rPr>
              <a:t>2</a:t>
            </a:r>
            <a:r>
              <a:rPr b="1" lang="fa-IR" sz="3000" spc="-1" strike="noStrike">
                <a:solidFill>
                  <a:srgbClr val="ffffff"/>
                </a:solidFill>
                <a:latin typeface="Arial"/>
                <a:ea typeface="B Zar"/>
              </a:rPr>
              <a:t> ارایه گواهی سوء پیشینه کیفری موثر</a:t>
            </a:r>
            <a:endParaRPr b="0" lang="en-US" sz="3000" spc="-1" strike="noStrike">
              <a:solidFill>
                <a:srgbClr val="ffffff"/>
              </a:solidFill>
              <a:latin typeface="Arial"/>
            </a:endParaRPr>
          </a:p>
          <a:p>
            <a:pPr marL="308520" indent="-308520" algn="r" rtl="1">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ea typeface="B Zar"/>
              </a:rPr>
              <a:t>.</a:t>
            </a:r>
            <a:r>
              <a:rPr b="1" lang="fa-IR" sz="3000" spc="-1" strike="noStrike">
                <a:solidFill>
                  <a:srgbClr val="ffffff"/>
                </a:solidFill>
                <a:latin typeface="Arial"/>
                <a:ea typeface="B Zar"/>
              </a:rPr>
              <a:t>3</a:t>
            </a:r>
            <a:r>
              <a:rPr b="1" lang="fa-IR" sz="3000" spc="-1" strike="noStrike">
                <a:solidFill>
                  <a:srgbClr val="ffffff"/>
                </a:solidFill>
                <a:latin typeface="Arial"/>
                <a:ea typeface="B Zar"/>
              </a:rPr>
              <a:t> اخذ نماد اعتماد الکترونیک از سوی مرکزتوسعه تجارت وزارت صنعت، معدن و تجارت (ویژه متقاضیان کاریابی الکترونیکی)</a:t>
            </a:r>
            <a:endParaRPr b="0" lang="en-US" sz="3000" spc="-1" strike="noStrike">
              <a:solidFill>
                <a:srgbClr val="ffffff"/>
              </a:solidFill>
              <a:latin typeface="Arial"/>
            </a:endParaRPr>
          </a:p>
          <a:p>
            <a:pPr marL="308520" indent="-308520" algn="r" rtl="1">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ea typeface="B Zar"/>
              </a:rPr>
              <a:t>.</a:t>
            </a:r>
            <a:r>
              <a:rPr b="1" lang="fa-IR" sz="3000" spc="-1" strike="noStrike">
                <a:solidFill>
                  <a:srgbClr val="ffffff"/>
                </a:solidFill>
                <a:latin typeface="Arial"/>
                <a:ea typeface="B Zar"/>
              </a:rPr>
              <a:t>4</a:t>
            </a:r>
            <a:r>
              <a:rPr b="1" lang="fa-IR" sz="3000" spc="-1" strike="noStrike">
                <a:solidFill>
                  <a:srgbClr val="ffffff"/>
                </a:solidFill>
                <a:latin typeface="Arial"/>
                <a:ea typeface="B Zar"/>
              </a:rPr>
              <a:t> ثبت نام در طرح ساماندهی سایت های ایرانی وزارت فرهنگ و ارشاد اسلامی (ویژه متقاضیان کاریابی الکترونیکی)</a:t>
            </a:r>
            <a:endParaRPr b="0" lang="en-US" sz="3000" spc="-1" strike="noStrike">
              <a:solidFill>
                <a:srgbClr val="ffffff"/>
              </a:solidFill>
              <a:latin typeface="Arial"/>
            </a:endParaRPr>
          </a:p>
          <a:p>
            <a:pPr marL="308520" indent="-308520" algn="r" rtl="1">
              <a:spcBef>
                <a:spcPts val="751"/>
              </a:spcBef>
              <a:buSzPct val="10977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ea typeface="B Zar"/>
              </a:rPr>
              <a:t>.</a:t>
            </a:r>
            <a:endParaRPr b="0" lang="en-US" sz="3000" spc="-1" strike="noStrike">
              <a:solidFill>
                <a:srgbClr val="ffffff"/>
              </a:solidFill>
              <a:latin typeface="Arial"/>
            </a:endParaRPr>
          </a:p>
        </p:txBody>
      </p:sp>
      <p:sp>
        <p:nvSpPr>
          <p:cNvPr id="267"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9079-DF44-4F53-82D4-861D6F329D6B}"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68" name="Footer Placeholder 4"/>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4D69-229E-41EC-BC66-9481E38D07AA}"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6" descr=""/>
          <p:cNvPicPr/>
          <p:nvPr/>
        </p:nvPicPr>
        <p:blipFill>
          <a:blip r:embed="rId1"/>
          <a:stretch/>
        </p:blipFill>
        <p:spPr>
          <a:xfrm>
            <a:off x="0" y="0"/>
            <a:ext cx="5734080" cy="787320"/>
          </a:xfrm>
          <a:prstGeom prst="rect">
            <a:avLst/>
          </a:prstGeom>
          <a:ln w="0">
            <a:noFill/>
          </a:ln>
        </p:spPr>
      </p:pic>
      <p:sp>
        <p:nvSpPr>
          <p:cNvPr id="271" name="PlaceHolder 1"/>
          <p:cNvSpPr>
            <a:spLocks noGrp="1"/>
          </p:cNvSpPr>
          <p:nvPr>
            <p:ph type="title"/>
          </p:nvPr>
        </p:nvSpPr>
        <p:spPr>
          <a:xfrm>
            <a:off x="218880" y="226800"/>
            <a:ext cx="7476840" cy="825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4bc40"/>
                </a:solidFill>
                <a:latin typeface="Arial"/>
                <a:cs typeface="B Titr"/>
              </a:rPr>
              <a:t>پرسشنامه متقاضیان تاسیس دفتر مشاوره شغلی و کاریابی غیردولتی داخلی </a:t>
            </a:r>
            <a:r>
              <a:rPr b="1" lang="en-US" sz="2400" spc="-1" strike="noStrike">
                <a:solidFill>
                  <a:srgbClr val="f4bc40"/>
                </a:solidFill>
                <a:latin typeface="Arial"/>
                <a:ea typeface="B Titr"/>
              </a:rPr>
              <a:t>)</a:t>
            </a:r>
            <a:r>
              <a:rPr b="1" lang="fa-IR" sz="2400" spc="-1" strike="noStrike">
                <a:solidFill>
                  <a:srgbClr val="f4bc40"/>
                </a:solidFill>
                <a:latin typeface="Arial"/>
                <a:cs typeface="B Titr"/>
              </a:rPr>
              <a:t>ویژه اشخاص حقیقی و حقوقی</a:t>
            </a:r>
            <a:r>
              <a:rPr b="1" lang="en-US" sz="2400" spc="-1" strike="noStrike">
                <a:solidFill>
                  <a:srgbClr val="f4bc40"/>
                </a:solidFill>
                <a:latin typeface="Arial"/>
                <a:ea typeface="B Titr"/>
              </a:rPr>
              <a:t>(</a:t>
            </a:r>
            <a:endParaRPr b="0" lang="en-US" sz="2400" spc="-1" strike="noStrike">
              <a:solidFill>
                <a:srgbClr val="f4bc40"/>
              </a:solidFill>
              <a:latin typeface="Arial"/>
            </a:endParaRPr>
          </a:p>
        </p:txBody>
      </p:sp>
      <p:sp>
        <p:nvSpPr>
          <p:cNvPr id="272" name=""/>
          <p:cNvSpPr txBox="1"/>
          <p:nvPr/>
        </p:nvSpPr>
        <p:spPr>
          <a:xfrm>
            <a:off x="263520" y="1052280"/>
            <a:ext cx="7386480" cy="5043240"/>
          </a:xfrm>
          <a:prstGeom prst="rect">
            <a:avLst/>
          </a:prstGeom>
          <a:noFill/>
          <a:ln w="0">
            <a:noFill/>
          </a:ln>
        </p:spPr>
        <p:txBody>
          <a:bodyPr anchor="t">
            <a:normAutofit fontScale="87000"/>
          </a:bodyPr>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شاخص های عمده اقتصادی استان مورد تقاضای خود را شرح دهید؟</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وضعیت عرضه و تقاضای نیروی کار منطقه فعالیت خود را شرح دهید</a:t>
            </a:r>
            <a:r>
              <a:rPr b="1" lang="en-US" sz="1100" spc="-1" strike="noStrike">
                <a:solidFill>
                  <a:srgbClr val="ffffff"/>
                </a:solidFill>
                <a:latin typeface="Calibri"/>
                <a:ea typeface="B Zar"/>
              </a:rPr>
              <a:t>.</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کدام یک از انواع بیکاری در استان مورد تقاضا (محل فعالیت کاریابی</a:t>
            </a:r>
            <a:r>
              <a:rPr b="1" lang="en-US" sz="1100" spc="-1" strike="noStrike">
                <a:solidFill>
                  <a:srgbClr val="ffffff"/>
                </a:solidFill>
                <a:latin typeface="Calibri"/>
                <a:ea typeface="B Zar"/>
              </a:rPr>
              <a:t>(</a:t>
            </a:r>
            <a:r>
              <a:rPr b="1" lang="en-US" sz="1100" spc="-1" strike="noStrike">
                <a:solidFill>
                  <a:srgbClr val="ffffff"/>
                </a:solidFill>
                <a:latin typeface="B Mitra"/>
                <a:ea typeface="B Zar"/>
              </a:rPr>
              <a:t> </a:t>
            </a:r>
            <a:r>
              <a:rPr b="1" lang="fa-IR" sz="1100" spc="-1" strike="noStrike">
                <a:solidFill>
                  <a:srgbClr val="ffffff"/>
                </a:solidFill>
                <a:latin typeface="B Mitra"/>
                <a:cs typeface="B Zar"/>
              </a:rPr>
              <a:t>از</a:t>
            </a:r>
            <a:r>
              <a:rPr b="1" lang="fa-IR" sz="1100" spc="-1" strike="noStrike">
                <a:solidFill>
                  <a:srgbClr val="ffffff"/>
                </a:solidFill>
                <a:latin typeface="Calibri"/>
                <a:ea typeface="B Zar"/>
              </a:rPr>
              <a:t> اهمیت بیشتری برخوردار بوده و دلایل آن را ذکر کنید؟</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انواع روش های جستجوی شغل و کسب فرصتهای شغلی را بیان نمایید</a:t>
            </a:r>
            <a:r>
              <a:rPr b="1" lang="en-US" sz="1100" spc="-1" strike="noStrike">
                <a:solidFill>
                  <a:srgbClr val="ffffff"/>
                </a:solidFill>
                <a:latin typeface="Calibri"/>
                <a:ea typeface="B Zar"/>
              </a:rPr>
              <a:t>.</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به نظر شما کدامیک از روش های جستجوی شغل برای افزایش عملکرد کاریابی موثرتر است؟ </a:t>
            </a:r>
            <a:r>
              <a:rPr b="1" lang="en-US" sz="1100" spc="-1" strike="noStrike">
                <a:solidFill>
                  <a:srgbClr val="ffffff"/>
                </a:solidFill>
                <a:latin typeface="Calibri"/>
                <a:ea typeface="B Zar"/>
              </a:rPr>
              <a:t>)</a:t>
            </a:r>
            <a:r>
              <a:rPr b="1" lang="fa-IR" sz="1100" spc="-1" strike="noStrike">
                <a:solidFill>
                  <a:srgbClr val="ffffff"/>
                </a:solidFill>
                <a:latin typeface="Calibri"/>
                <a:cs typeface="B Zar"/>
              </a:rPr>
              <a:t>دلایل خود را ذکر کنید</a:t>
            </a:r>
            <a:r>
              <a:rPr b="1" lang="en-US" sz="1100" spc="-1" strike="noStrike">
                <a:solidFill>
                  <a:srgbClr val="ffffff"/>
                </a:solidFill>
                <a:latin typeface="Calibri"/>
                <a:ea typeface="B Zar"/>
              </a:rPr>
              <a:t>(</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سیاست های فعال بازار کار کدامند و کدامیک تاثیر بیشتری بر کاهش نرخ بیکاری استان مورد تقاضا  (محل فعالیت کاریابی) دارد؟  (دلایل خود را ذکر کنید</a:t>
            </a:r>
            <a:r>
              <a:rPr b="1" lang="en-US" sz="1100" spc="-1" strike="noStrike">
                <a:solidFill>
                  <a:srgbClr val="ffffff"/>
                </a:solidFill>
                <a:latin typeface="Calibri"/>
                <a:ea typeface="B Zar"/>
              </a:rPr>
              <a:t>(</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وضعیت آموزشی مراکز فنی و حرفهای استان مورد تقاضا </a:t>
            </a:r>
            <a:r>
              <a:rPr b="1" lang="en-US" sz="1100" spc="-1" strike="noStrike">
                <a:solidFill>
                  <a:srgbClr val="ffffff"/>
                </a:solidFill>
                <a:latin typeface="Calibri"/>
                <a:ea typeface="B Zar"/>
              </a:rPr>
              <a:t>)</a:t>
            </a:r>
            <a:r>
              <a:rPr b="1" lang="fa-IR" sz="1100" spc="-1" strike="noStrike">
                <a:solidFill>
                  <a:srgbClr val="ffffff"/>
                </a:solidFill>
                <a:latin typeface="Calibri"/>
                <a:cs typeface="B Zar"/>
              </a:rPr>
              <a:t>محل فعالیت کاریابی) را چطور ارزیابی می کنید؟ </a:t>
            </a:r>
            <a:r>
              <a:rPr b="1" lang="en-US" sz="1100" spc="-1" strike="noStrike">
                <a:solidFill>
                  <a:srgbClr val="ffffff"/>
                </a:solidFill>
                <a:latin typeface="Calibri"/>
                <a:ea typeface="B Zar"/>
              </a:rPr>
              <a:t>)</a:t>
            </a:r>
            <a:r>
              <a:rPr b="1" lang="fa-IR" sz="1100" spc="-1" strike="noStrike">
                <a:solidFill>
                  <a:srgbClr val="ffffff"/>
                </a:solidFill>
                <a:latin typeface="Calibri"/>
                <a:cs typeface="B Zar"/>
              </a:rPr>
              <a:t>آیا تعداد مراکز استانی و دوره های آموزشی برگزار شده متناسب با نیاز بازار کار استان می باشد؟</a:t>
            </a:r>
            <a:r>
              <a:rPr b="1" lang="en-US" sz="1100" spc="-1" strike="noStrike">
                <a:solidFill>
                  <a:srgbClr val="ffffff"/>
                </a:solidFill>
                <a:latin typeface="Calibri"/>
                <a:ea typeface="B Zar"/>
              </a:rPr>
              <a:t>(</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رشته های مهارتی مورد تقاضای بازار کار منطقه تان را با ذکر دلیل بیان نمایید</a:t>
            </a:r>
            <a:r>
              <a:rPr b="1" lang="en-US" sz="1100" spc="-1" strike="noStrike">
                <a:solidFill>
                  <a:srgbClr val="ffffff"/>
                </a:solidFill>
                <a:latin typeface="Calibri"/>
                <a:ea typeface="B Zar"/>
              </a:rPr>
              <a:t>.</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دفاتر مشاوره شغلی وکاریابی چه خدماتی را می توانند به جامعه هدف خود </a:t>
            </a:r>
            <a:r>
              <a:rPr b="1" lang="en-US" sz="1100" spc="-1" strike="noStrike">
                <a:solidFill>
                  <a:srgbClr val="ffffff"/>
                </a:solidFill>
                <a:latin typeface="Calibri"/>
                <a:ea typeface="B Zar"/>
              </a:rPr>
              <a:t>)</a:t>
            </a:r>
            <a:r>
              <a:rPr b="1" lang="fa-IR" sz="1100" spc="-1" strike="noStrike">
                <a:solidFill>
                  <a:srgbClr val="ffffff"/>
                </a:solidFill>
                <a:latin typeface="Calibri"/>
                <a:cs typeface="B Zar"/>
              </a:rPr>
              <a:t>کارجویان و کارفرمایان) ارایه نمایند؟</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تاثیر راهنمایی و مشاوره شغلی به کارجویان و کارفرمایان را چگونه ارزیابی می کنید؟ انواع آزمون های مشاوره شغلی را توضیح دهید</a:t>
            </a:r>
            <a:r>
              <a:rPr b="1" lang="en-US" sz="1100" spc="-1" strike="noStrike">
                <a:solidFill>
                  <a:srgbClr val="ffffff"/>
                </a:solidFill>
                <a:latin typeface="Calibri"/>
                <a:ea typeface="B Zar"/>
              </a:rPr>
              <a:t>.</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ایرادات اساسی قوانین و مقررات حوزه اشتغال و کاریابی از نظر شما کدام است؟</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راهکارهای عملیاتی شما برای اشتغال به کار بیکاران بلند مدت </a:t>
            </a:r>
            <a:r>
              <a:rPr b="1" lang="en-US" sz="1100" spc="-1" strike="noStrike">
                <a:solidFill>
                  <a:srgbClr val="ffffff"/>
                </a:solidFill>
                <a:latin typeface="Calibri"/>
                <a:ea typeface="B Zar"/>
              </a:rPr>
              <a:t>)</a:t>
            </a:r>
            <a:r>
              <a:rPr b="1" lang="fa-IR" sz="1100" spc="-1" strike="noStrike">
                <a:solidFill>
                  <a:srgbClr val="ffffff"/>
                </a:solidFill>
                <a:latin typeface="Calibri"/>
                <a:cs typeface="B Zar"/>
              </a:rPr>
              <a:t>کارجویانی که بیش از</a:t>
            </a:r>
            <a:r>
              <a:rPr b="1" lang="en-US" sz="1100" spc="-1" strike="noStrike">
                <a:solidFill>
                  <a:srgbClr val="ffffff"/>
                </a:solidFill>
                <a:latin typeface="Calibri"/>
                <a:ea typeface="B Zar"/>
              </a:rPr>
              <a:t> </a:t>
            </a:r>
            <a:r>
              <a:rPr b="1" lang="en-US" sz="1100" spc="-1" strike="noStrike">
                <a:solidFill>
                  <a:srgbClr val="ffffff"/>
                </a:solidFill>
                <a:latin typeface="Calibri"/>
                <a:ea typeface="B Zar"/>
              </a:rPr>
              <a:t>6</a:t>
            </a:r>
            <a:r>
              <a:rPr b="1" lang="en-US" sz="1100" spc="-1" strike="noStrike">
                <a:solidFill>
                  <a:srgbClr val="ffffff"/>
                </a:solidFill>
                <a:latin typeface="Calibri"/>
                <a:ea typeface="B Zar"/>
              </a:rPr>
              <a:t> </a:t>
            </a:r>
            <a:r>
              <a:rPr b="1" lang="fa-IR" sz="1100" spc="-1" strike="noStrike">
                <a:solidFill>
                  <a:srgbClr val="ffffff"/>
                </a:solidFill>
                <a:latin typeface="Calibri"/>
                <a:cs typeface="B Zar"/>
              </a:rPr>
              <a:t>ماه است در جستجوی کار هستند) چیست؟</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با توجه به حق الزحمه های قابل دریافت از خدمات گیرندگان کاریابی ها، راهکار شما برای مدیریت هزینه و درآمد کاریابی ها چیست تا امکان تداوم و فعالیت مستمر این واحدها میسر شود؟</a:t>
            </a:r>
            <a:endParaRPr b="0" lang="en-US" sz="1100" spc="-1" strike="noStrike">
              <a:solidFill>
                <a:srgbClr val="ffffff"/>
              </a:solidFill>
              <a:latin typeface="Arial"/>
            </a:endParaRPr>
          </a:p>
          <a:p>
            <a:pPr marL="298440" indent="-298440" algn="r" rtl="1">
              <a:lnSpc>
                <a:spcPct val="107000"/>
              </a:lnSpc>
              <a:spcBef>
                <a:spcPts val="275"/>
              </a:spcBef>
              <a:spcAft>
                <a:spcPts val="799"/>
              </a:spcAft>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Zar"/>
              </a:rPr>
              <a:t>چشم انداز و برنامه عملیاتی شما برای بهبود کیفیت خدمات و افزایش عملکرد کاریابی ها چیست؟ چه مهارت هایی برای مدیریت یک کاریابی استاندارد مورد نیاز است؟</a:t>
            </a:r>
            <a:endParaRPr b="0" lang="en-US" sz="1100" spc="-1" strike="noStrike">
              <a:solidFill>
                <a:srgbClr val="ffffff"/>
              </a:solidFill>
              <a:latin typeface="Arial"/>
            </a:endParaRPr>
          </a:p>
          <a:p>
            <a:pPr marL="298440" indent="-298440" algn="r" rtl="1">
              <a:lnSpc>
                <a:spcPct val="100000"/>
              </a:lnSpc>
              <a:spcBef>
                <a:spcPts val="275"/>
              </a:spcBef>
              <a:buSzPct val="1027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73"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B75B-AF9D-4BD6-A550-7F0CB4DEEED6}"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74" name="Footer Placeholder 4"/>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D693-97B2-461A-9D8C-4834DF89F82C}"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19240" y="226800"/>
            <a:ext cx="723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4bc40"/>
                </a:solidFill>
                <a:latin typeface="Arial"/>
                <a:cs typeface="B Titr"/>
              </a:rPr>
              <a:t>حق الزحمه دفاتر کاریابی در سال </a:t>
            </a:r>
            <a:r>
              <a:rPr b="0" lang="fa-IR" sz="2400" spc="-1" strike="noStrike">
                <a:solidFill>
                  <a:srgbClr val="f4bc40"/>
                </a:solidFill>
                <a:latin typeface="Arial"/>
                <a:ea typeface="B Titr"/>
              </a:rPr>
              <a:t>1401</a:t>
            </a:r>
            <a:endParaRPr b="0" lang="en-US" sz="2400" spc="-1" strike="noStrike">
              <a:solidFill>
                <a:srgbClr val="f4bc40"/>
              </a:solidFill>
              <a:latin typeface="Arial"/>
            </a:endParaRPr>
          </a:p>
        </p:txBody>
      </p:sp>
      <p:sp>
        <p:nvSpPr>
          <p:cNvPr id="277" name=""/>
          <p:cNvSpPr txBox="1"/>
          <p:nvPr/>
        </p:nvSpPr>
        <p:spPr>
          <a:xfrm>
            <a:off x="263160" y="907920"/>
            <a:ext cx="7359480" cy="5616720"/>
          </a:xfrm>
          <a:prstGeom prst="rect">
            <a:avLst/>
          </a:prstGeom>
          <a:noFill/>
          <a:ln w="0">
            <a:noFill/>
          </a:ln>
        </p:spPr>
        <p:txBody>
          <a:bodyPr anchor="t">
            <a:normAutofit fontScale="83000"/>
          </a:bodyPr>
          <a:p>
            <a:pPr marL="284400" indent="-284400" algn="just"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Mitra"/>
              </a:rPr>
              <a:t>حق الزحمه دفاتر کاریابی بر اساس ابلاغیه میزان و نحوه وصول حق الزحمه دفاتر مشاوره شغلی و کاریابی غیردولتی داخلی در سال </a:t>
            </a:r>
            <a:r>
              <a:rPr b="0" lang="fa-IR" sz="2800" spc="-1" strike="noStrike">
                <a:solidFill>
                  <a:srgbClr val="ffffff"/>
                </a:solidFill>
                <a:latin typeface="Arial"/>
                <a:ea typeface="B Mitra"/>
              </a:rPr>
              <a:t>1401</a:t>
            </a:r>
            <a:r>
              <a:rPr b="0" lang="fa-IR" sz="2800" spc="-1" strike="noStrike">
                <a:solidFill>
                  <a:srgbClr val="ffffff"/>
                </a:solidFill>
                <a:latin typeface="Arial"/>
                <a:ea typeface="B Mitra"/>
              </a:rPr>
              <a:t> ، مصوب هیئت مرکزی موضوع ماده </a:t>
            </a:r>
            <a:r>
              <a:rPr b="0" lang="fa-IR" sz="2800" spc="-1" strike="noStrike">
                <a:solidFill>
                  <a:srgbClr val="ffffff"/>
                </a:solidFill>
                <a:latin typeface="Arial"/>
                <a:ea typeface="B Mitra"/>
              </a:rPr>
              <a:t>7</a:t>
            </a:r>
            <a:r>
              <a:rPr b="0" lang="fa-IR" sz="2800" spc="-1" strike="noStrike">
                <a:solidFill>
                  <a:srgbClr val="ffffff"/>
                </a:solidFill>
                <a:latin typeface="Arial"/>
                <a:ea typeface="B Mitra"/>
              </a:rPr>
              <a:t> آئین نامه کاریابیها:</a:t>
            </a:r>
            <a:endParaRPr b="0" lang="en-US" sz="2800" spc="-1" strike="noStrike">
              <a:solidFill>
                <a:srgbClr val="ffffff"/>
              </a:solidFill>
              <a:latin typeface="Arial"/>
            </a:endParaRPr>
          </a:p>
          <a:p>
            <a:pPr marL="284400" indent="-284400" algn="just"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ea typeface="B Mitra"/>
              </a:rPr>
              <a:t> حق الزحمه ثبت نام به همراه مشاوره در دفاتر کاریابی داخلی </a:t>
            </a:r>
            <a:r>
              <a:rPr b="0" lang="fa-IR" sz="2800" spc="-1" strike="noStrike">
                <a:solidFill>
                  <a:srgbClr val="ffffff"/>
                </a:solidFill>
                <a:latin typeface="Arial"/>
                <a:ea typeface="B Mitra"/>
              </a:rPr>
              <a:t>65</a:t>
            </a:r>
            <a:r>
              <a:rPr b="0" lang="fa-IR" sz="2800" spc="-1" strike="noStrike">
                <a:solidFill>
                  <a:srgbClr val="ffffff"/>
                </a:solidFill>
                <a:latin typeface="Arial"/>
                <a:ea typeface="B Mitra"/>
              </a:rPr>
              <a:t> هزار تومان است.</a:t>
            </a:r>
            <a:endParaRPr b="0" lang="en-US" sz="2800" spc="-1" strike="noStrike">
              <a:solidFill>
                <a:srgbClr val="ffffff"/>
              </a:solidFill>
              <a:latin typeface="Arial"/>
            </a:endParaRPr>
          </a:p>
          <a:p>
            <a:pPr marL="284400" indent="-284400" algn="just"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Mitra"/>
              </a:rPr>
              <a:t>حق الزحمه دفاتر مشاوره شغلی و کاریابی بابت به کارگماری کارجو در داخل کشور برای قراردادهای یکساله و بیشتر، حداکثر </a:t>
            </a:r>
            <a:r>
              <a:rPr b="0" lang="fa-IR" sz="2800" spc="-1" strike="noStrike">
                <a:solidFill>
                  <a:srgbClr val="ffffff"/>
                </a:solidFill>
                <a:latin typeface="Arial"/>
                <a:ea typeface="B Mitra"/>
              </a:rPr>
              <a:t>50</a:t>
            </a:r>
            <a:r>
              <a:rPr b="0" lang="fa-IR" sz="2800" spc="-1" strike="noStrike">
                <a:solidFill>
                  <a:srgbClr val="ffffff"/>
                </a:solidFill>
                <a:latin typeface="Arial"/>
                <a:ea typeface="B Mitra"/>
              </a:rPr>
              <a:t> درصد حداقل دستمزد مصوب شورای عالی کار می باشد.</a:t>
            </a:r>
            <a:endParaRPr b="0" lang="en-US" sz="2800" spc="-1" strike="noStrike">
              <a:solidFill>
                <a:srgbClr val="ffffff"/>
              </a:solidFill>
              <a:latin typeface="Arial"/>
            </a:endParaRPr>
          </a:p>
          <a:p>
            <a:pPr marL="284400" indent="-284400" algn="just"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ea typeface="B Mitra"/>
              </a:rPr>
              <a:t> تبصره: درصورتی که دستمزد ثابت به کار گمارده بیشتر از حداقل دستمزد اعلام شده از سوی شورای عالی کار باشد، </a:t>
            </a:r>
            <a:r>
              <a:rPr b="0" lang="fa-IR" sz="2800" spc="-1" strike="noStrike">
                <a:solidFill>
                  <a:srgbClr val="ffffff"/>
                </a:solidFill>
                <a:latin typeface="Arial"/>
                <a:ea typeface="B Mitra"/>
              </a:rPr>
              <a:t>30</a:t>
            </a:r>
            <a:r>
              <a:rPr b="0" lang="fa-IR" sz="2800" spc="-1" strike="noStrike">
                <a:solidFill>
                  <a:srgbClr val="ffffff"/>
                </a:solidFill>
                <a:latin typeface="Arial"/>
                <a:ea typeface="B Mitra"/>
              </a:rPr>
              <a:t> درصد تفاوت حقوق کارجو با حداقل دستمزد اعلام شده در سال </a:t>
            </a:r>
            <a:r>
              <a:rPr b="0" lang="fa-IR" sz="2800" spc="-1" strike="noStrike">
                <a:solidFill>
                  <a:srgbClr val="ffffff"/>
                </a:solidFill>
                <a:latin typeface="Arial"/>
                <a:ea typeface="B Mitra"/>
              </a:rPr>
              <a:t>1401</a:t>
            </a:r>
            <a:r>
              <a:rPr b="0" lang="fa-IR" sz="2800" spc="-1" strike="noStrike">
                <a:solidFill>
                  <a:srgbClr val="ffffff"/>
                </a:solidFill>
                <a:latin typeface="Arial"/>
                <a:ea typeface="B Mitra"/>
              </a:rPr>
              <a:t> به حق الزحمه اضافه خواهد شد. </a:t>
            </a:r>
            <a:endParaRPr b="0" lang="en-US" sz="2800" spc="-1" strike="noStrike">
              <a:solidFill>
                <a:srgbClr val="ffffff"/>
              </a:solidFill>
              <a:latin typeface="Arial"/>
            </a:endParaRPr>
          </a:p>
        </p:txBody>
      </p:sp>
      <p:sp>
        <p:nvSpPr>
          <p:cNvPr id="278"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AEC8-C7A5-4B14-998E-778A4B01E0E5}"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79"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305B-A4D0-494D-941F-6AD9E8CCFDB6}"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250920" y="2781360"/>
            <a:ext cx="720072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2  Titr"/>
                <a:cs typeface="B Titr"/>
              </a:rPr>
              <a:t>آشنایی با نقش و وظایف کاریابی ها و شیوه اخذ مجوز کاریابی داخلی</a:t>
            </a:r>
            <a:endParaRPr b="0" lang="en-US" sz="3600" spc="-1" strike="noStrike">
              <a:solidFill>
                <a:srgbClr val="ffffff"/>
              </a:solidFill>
              <a:latin typeface="Arial"/>
            </a:endParaRPr>
          </a:p>
        </p:txBody>
      </p:sp>
      <p:sp>
        <p:nvSpPr>
          <p:cNvPr id="202" name="Rectangle 6"/>
          <p:cNvSpPr/>
          <p:nvPr/>
        </p:nvSpPr>
        <p:spPr>
          <a:xfrm>
            <a:off x="2905200" y="5580000"/>
            <a:ext cx="1662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66"/>
                </a:solidFill>
                <a:latin typeface="Arial"/>
                <a:cs typeface="B Titr"/>
              </a:rPr>
              <a:t>دی ماه </a:t>
            </a:r>
            <a:r>
              <a:rPr b="1" lang="fa-IR" sz="1800" spc="-1" strike="noStrike">
                <a:solidFill>
                  <a:srgbClr val="ffff66"/>
                </a:solidFill>
                <a:latin typeface="Arial"/>
                <a:ea typeface="B Titr"/>
              </a:rPr>
              <a:t>1401</a:t>
            </a:r>
            <a:endParaRPr b="0" lang="en-US" sz="1800" spc="-1" strike="noStrike">
              <a:solidFill>
                <a:srgbClr val="ffffff"/>
              </a:solidFill>
              <a:latin typeface="Arial"/>
            </a:endParaRPr>
          </a:p>
        </p:txBody>
      </p:sp>
      <p:sp>
        <p:nvSpPr>
          <p:cNvPr id="203" name="Rectangle 6"/>
          <p:cNvSpPr/>
          <p:nvPr/>
        </p:nvSpPr>
        <p:spPr>
          <a:xfrm>
            <a:off x="738360" y="4365720"/>
            <a:ext cx="5994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66"/>
                </a:solidFill>
                <a:latin typeface="Arial"/>
                <a:cs typeface="B Titr"/>
              </a:rPr>
              <a:t>سعید تفویضی</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66"/>
                </a:solidFill>
                <a:latin typeface="Arial"/>
                <a:cs typeface="B Titr"/>
              </a:rPr>
              <a:t>معاون  دفتر هدایت نیروی کار و کاریابی ها</a:t>
            </a:r>
            <a:endParaRPr b="0" lang="en-US" sz="2400" spc="-1" strike="noStrike">
              <a:solidFill>
                <a:srgbClr val="ffffff"/>
              </a:solidFill>
              <a:latin typeface="Arial"/>
            </a:endParaRPr>
          </a:p>
        </p:txBody>
      </p:sp>
      <p:pic>
        <p:nvPicPr>
          <p:cNvPr id="204" name="Picture 1" descr=""/>
          <p:cNvPicPr/>
          <p:nvPr/>
        </p:nvPicPr>
        <p:blipFill>
          <a:blip r:embed="rId1"/>
          <a:stretch/>
        </p:blipFill>
        <p:spPr>
          <a:xfrm>
            <a:off x="2771640" y="765000"/>
            <a:ext cx="2681280" cy="1343160"/>
          </a:xfrm>
          <a:prstGeom prst="rect">
            <a:avLst/>
          </a:prstGeom>
          <a:ln w="0">
            <a:noFill/>
          </a:ln>
        </p:spPr>
      </p:pic>
    </p:spTree>
  </p:cSld>
  <p:transition spd="slow">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4bc40"/>
                </a:solidFill>
                <a:latin typeface="Arial"/>
                <a:cs typeface="B Zar"/>
              </a:rPr>
              <a:t>میزان حق الزحمه در ایران در سال </a:t>
            </a:r>
            <a:r>
              <a:rPr b="1" lang="fa-IR" sz="3600" spc="-1" strike="noStrike">
                <a:solidFill>
                  <a:srgbClr val="f4bc40"/>
                </a:solidFill>
                <a:latin typeface="Arial"/>
                <a:ea typeface="B Zar"/>
              </a:rPr>
              <a:t>1401</a:t>
            </a:r>
            <a:endParaRPr b="0" lang="en-US" sz="3600" spc="-1" strike="noStrike">
              <a:solidFill>
                <a:srgbClr val="f4bc40"/>
              </a:solidFill>
              <a:latin typeface="Arial"/>
            </a:endParaRPr>
          </a:p>
        </p:txBody>
      </p:sp>
      <p:sp>
        <p:nvSpPr>
          <p:cNvPr id="281"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4499-406C-4CFE-B0D7-4C33957A283F}"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82" name="Footer Placeholder 4"/>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DECD-9245-498E-8650-D4084DD46A48}"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pic>
        <p:nvPicPr>
          <p:cNvPr id="284" name="Content Placeholder 2" descr=""/>
          <p:cNvPicPr/>
          <p:nvPr/>
        </p:nvPicPr>
        <p:blipFill>
          <a:blip r:embed="rId1"/>
          <a:stretch/>
        </p:blipFill>
        <p:spPr>
          <a:xfrm>
            <a:off x="4108320" y="1370160"/>
            <a:ext cx="3514680" cy="4497120"/>
          </a:xfrm>
          <a:prstGeom prst="rect">
            <a:avLst/>
          </a:prstGeom>
          <a:ln w="0">
            <a:noFill/>
          </a:ln>
        </p:spPr>
      </p:pic>
      <p:pic>
        <p:nvPicPr>
          <p:cNvPr id="285" name="Picture 3" descr=""/>
          <p:cNvPicPr/>
          <p:nvPr/>
        </p:nvPicPr>
        <p:blipFill>
          <a:blip r:embed="rId2"/>
          <a:stretch/>
        </p:blipFill>
        <p:spPr>
          <a:xfrm>
            <a:off x="398520" y="1370160"/>
            <a:ext cx="3530520" cy="4495680"/>
          </a:xfrm>
          <a:prstGeom prst="rect">
            <a:avLst/>
          </a:prstGeom>
          <a:ln w="0">
            <a:noFill/>
          </a:ln>
        </p:spPr>
      </p:pic>
    </p:spTree>
  </p:cSld>
  <p:transition spd="slow">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4bc40"/>
                </a:solidFill>
                <a:latin typeface="Arial"/>
                <a:cs typeface="B Zar"/>
              </a:rPr>
              <a:t>اصلی‌ترین انتظار کارجویان از كاريابي‌ها</a:t>
            </a:r>
            <a:endParaRPr b="0" lang="en-US" sz="4000" spc="-1" strike="noStrike">
              <a:solidFill>
                <a:srgbClr val="f4bc40"/>
              </a:solidFill>
              <a:latin typeface="Arial"/>
            </a:endParaRPr>
          </a:p>
        </p:txBody>
      </p:sp>
      <p:sp>
        <p:nvSpPr>
          <p:cNvPr id="287" name=""/>
          <p:cNvSpPr txBox="1"/>
          <p:nvPr/>
        </p:nvSpPr>
        <p:spPr>
          <a:xfrm>
            <a:off x="263520" y="1598760"/>
            <a:ext cx="7386480" cy="4497120"/>
          </a:xfrm>
          <a:prstGeom prst="rect">
            <a:avLst/>
          </a:prstGeom>
          <a:noFill/>
          <a:ln w="0">
            <a:noFill/>
          </a:ln>
        </p:spPr>
        <p:txBody>
          <a:bodyPr anchor="t">
            <a:normAutofit fontScale="92000"/>
          </a:bodyPr>
          <a:p>
            <a:pPr marL="315360" indent="-3153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Zar"/>
              </a:rPr>
              <a:t>به حداقل رساندن زمان جستجوی شغل و اتصال سریع کارجو به کارفرما</a:t>
            </a:r>
            <a:endParaRPr b="0" lang="en-US" sz="3200" spc="-1" strike="noStrike">
              <a:solidFill>
                <a:srgbClr val="ffffff"/>
              </a:solidFill>
              <a:latin typeface="Arial"/>
            </a:endParaRPr>
          </a:p>
          <a:p>
            <a:pPr marL="315360" indent="-3153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Zar"/>
              </a:rPr>
              <a:t>یافتن شغلی مناسب با سن، جنس، شرایط جسمانی و روحی، تحصیلات، سطح مهارت، تجربیات کاری و علائق آنان</a:t>
            </a:r>
            <a:endParaRPr b="0" lang="en-US" sz="3200" spc="-1" strike="noStrike">
              <a:solidFill>
                <a:srgbClr val="ffffff"/>
              </a:solidFill>
              <a:latin typeface="Arial"/>
            </a:endParaRPr>
          </a:p>
          <a:p>
            <a:pPr marL="315360" indent="-31536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Zar"/>
              </a:rPr>
              <a:t>مشاوره لازم برای آموزش و یادگیری تخصص مورد نیاز</a:t>
            </a:r>
            <a:endParaRPr b="0" lang="en-US" sz="3200" spc="-1" strike="noStrike">
              <a:solidFill>
                <a:srgbClr val="ffffff"/>
              </a:solidFill>
              <a:latin typeface="Arial"/>
            </a:endParaRPr>
          </a:p>
          <a:p>
            <a:pPr marL="315360" indent="-31536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Zar"/>
              </a:rPr>
              <a:t>معرفی به فرصتهای شغلی مرتبط</a:t>
            </a:r>
            <a:endParaRPr b="0" lang="en-US" sz="3200" spc="-1" strike="noStrike">
              <a:solidFill>
                <a:srgbClr val="ffffff"/>
              </a:solidFill>
              <a:latin typeface="Arial"/>
            </a:endParaRPr>
          </a:p>
        </p:txBody>
      </p:sp>
      <p:sp>
        <p:nvSpPr>
          <p:cNvPr id="288" name="Date Placeholder 1"/>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0B03-2FF1-41B9-AAED-F8BCE4173EAC}"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89" name="Footer Placeholder 2"/>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7387-AC53-4D85-B70C-D4C205A4F442}"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4bc40"/>
                </a:solidFill>
                <a:latin typeface="Arial"/>
                <a:cs typeface="B Zar"/>
              </a:rPr>
              <a:t>نقش وزارت تعاون، کار و رفاه اجتماعی در ارتقای جایگاه کاریابی‌ها در بازار کار</a:t>
            </a:r>
            <a:endParaRPr b="0" lang="en-US" sz="3600" spc="-1" strike="noStrike">
              <a:solidFill>
                <a:srgbClr val="f4bc40"/>
              </a:solidFill>
              <a:latin typeface="Arial"/>
            </a:endParaRPr>
          </a:p>
        </p:txBody>
      </p:sp>
      <p:sp>
        <p:nvSpPr>
          <p:cNvPr id="292" name=""/>
          <p:cNvSpPr txBox="1"/>
          <p:nvPr/>
        </p:nvSpPr>
        <p:spPr>
          <a:xfrm>
            <a:off x="263520" y="1598760"/>
            <a:ext cx="7386480" cy="4497120"/>
          </a:xfrm>
          <a:prstGeom prst="rect">
            <a:avLst/>
          </a:prstGeom>
          <a:noFill/>
          <a:ln w="0">
            <a:noFill/>
          </a:ln>
        </p:spPr>
        <p:txBody>
          <a:bodyPr anchor="t">
            <a:normAutofit fontScale="86000"/>
          </a:bodyPr>
          <a:p>
            <a:pPr marL="294840" indent="-29484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سیاست گذاری و تنظیم مقررات و دستور العمل‌های مناسب، با تداوم اجرای سیاست‌های زیر می‌تواند به ارتقا جایگاه کاریابی‌ها در بازار کار کمک نماید. </a:t>
            </a:r>
            <a:endParaRPr b="0" lang="en-US" sz="2400" spc="-1" strike="noStrike">
              <a:solidFill>
                <a:srgbClr val="ffffff"/>
              </a:solidFill>
              <a:latin typeface="Arial"/>
            </a:endParaRPr>
          </a:p>
          <a:p>
            <a:pPr marL="294840" indent="-29484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الویت دادن به توسعه کیفی موسسات کاریابی غیردولتی  </a:t>
            </a:r>
            <a:endParaRPr b="0" lang="en-US" sz="2400" spc="-1" strike="noStrike">
              <a:solidFill>
                <a:srgbClr val="ffffff"/>
              </a:solidFill>
              <a:latin typeface="Arial"/>
            </a:endParaRPr>
          </a:p>
          <a:p>
            <a:pPr marL="294840" indent="-29484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توسعه کمی دفتر کاریابی داخلی با استفاده از ظرفیت نهادهاو تشکلها</a:t>
            </a:r>
            <a:endParaRPr b="0" lang="en-US" sz="2400" spc="-1" strike="noStrike">
              <a:solidFill>
                <a:srgbClr val="ffffff"/>
              </a:solidFill>
              <a:latin typeface="Arial"/>
            </a:endParaRPr>
          </a:p>
          <a:p>
            <a:pPr marL="294840" indent="-294840" algn="r" rtl="1">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توانمندسازی آنها از طریق تداوم و ارتقای اجرای برنامه‌های آموزشی ویژه مدیران و پرسنل کاریابی‌ها و آشنایی آنان با مطالب جدید در خصوص کاریابی و مشاوره شغلی که عملاً منجر به افزایش سطح مطلوبیت خدمات ارایه شده در کاریابی‌ها می‌شود. </a:t>
            </a:r>
            <a:endParaRPr b="0" lang="en-US" sz="2400" spc="-1" strike="noStrike">
              <a:solidFill>
                <a:srgbClr val="ffffff"/>
              </a:solidFill>
              <a:latin typeface="Arial"/>
            </a:endParaRPr>
          </a:p>
        </p:txBody>
      </p:sp>
      <p:sp>
        <p:nvSpPr>
          <p:cNvPr id="293" name="Date Placeholder 1"/>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AFD4-77B5-4888-AA7E-0D1ECA1700D3}"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94" name="Footer Placeholder 2"/>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7C86-4805-430D-9E4A-CCAD3BE1F821}"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263520" y="1598760"/>
            <a:ext cx="7386480" cy="4497120"/>
          </a:xfrm>
          <a:prstGeom prst="rect">
            <a:avLst/>
          </a:prstGeom>
          <a:noFill/>
          <a:ln w="0">
            <a:noFill/>
          </a:ln>
        </p:spPr>
        <p:txBody>
          <a:bodyPr anchor="t">
            <a:normAutofit/>
          </a:bodyPr>
          <a:p>
            <a:pPr marL="343080" indent="-343080" algn="r" rtl="1">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رتبه بندی کاریابی‌ها با همکاری انجمن های صنفی و کانون انجمن های صنفی کاریابی ها</a:t>
            </a:r>
            <a:endParaRPr b="0" lang="en-US" sz="2400" spc="-1" strike="noStrike">
              <a:solidFill>
                <a:srgbClr val="ffffff"/>
              </a:solidFill>
              <a:latin typeface="Arial"/>
            </a:endParaRPr>
          </a:p>
          <a:p>
            <a:pPr marL="343080" indent="-34308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اصلاح آئین نامه موجود با هدف تحول در حوزه کاریابیها</a:t>
            </a:r>
            <a:endParaRPr b="0" lang="en-US" sz="2400" spc="-1" strike="noStrike">
              <a:solidFill>
                <a:srgbClr val="ffffff"/>
              </a:solidFill>
              <a:latin typeface="Arial"/>
            </a:endParaRPr>
          </a:p>
          <a:p>
            <a:pPr marL="343080" indent="-343080" algn="r" rtl="1">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جلوگیری از فعالیت کاریابی‌های غیر مجاز با همکاری کانون انجمن های صنفی کاریابی ها</a:t>
            </a:r>
            <a:endParaRPr b="0" lang="en-US" sz="2400" spc="-1" strike="noStrike">
              <a:solidFill>
                <a:srgbClr val="ffffff"/>
              </a:solidFill>
              <a:latin typeface="Arial"/>
            </a:endParaRPr>
          </a:p>
        </p:txBody>
      </p:sp>
      <p:sp>
        <p:nvSpPr>
          <p:cNvPr id="2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4bc40"/>
                </a:solidFill>
                <a:latin typeface="Arial"/>
                <a:cs typeface="B Zar"/>
              </a:rPr>
              <a:t>ادامه نقش وزارت تعاون، کار و رفاه اجتماعی در ارتقا جایگاه کاریابی‌ها در بازار کار</a:t>
            </a:r>
            <a:endParaRPr b="0" lang="en-US" sz="3200" spc="-1" strike="noStrike">
              <a:solidFill>
                <a:srgbClr val="f4bc40"/>
              </a:solidFill>
              <a:latin typeface="Arial"/>
            </a:endParaRPr>
          </a:p>
        </p:txBody>
      </p:sp>
      <p:sp>
        <p:nvSpPr>
          <p:cNvPr id="298" name="Date Placeholder 1"/>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A1FC-EE6C-49B2-9B2F-5E95EA2F73E4}"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99" name="Footer Placeholder 2"/>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1B57-89CF-43AC-BAE8-5A957D501C21}"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18880" y="226800"/>
            <a:ext cx="7476840" cy="825480"/>
          </a:xfrm>
          <a:prstGeom prst="rect">
            <a:avLst/>
          </a:prstGeom>
          <a:noFill/>
          <a:ln w="0">
            <a:noFill/>
          </a:ln>
        </p:spPr>
        <p:txBody>
          <a:bodyPr anchor="ctr">
            <a:noAutofit/>
          </a:bodyPr>
          <a:p>
            <a:pPr indent="0" algn="ctr" rtl="1">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4bc40"/>
                </a:solidFill>
                <a:latin typeface="Calibri"/>
                <a:cs typeface="B Titr"/>
              </a:rPr>
              <a:t>معرفی سامانه جستجوی شغل</a:t>
            </a:r>
            <a:endParaRPr b="0" lang="en-US" sz="4000" spc="-1" strike="noStrike">
              <a:solidFill>
                <a:srgbClr val="f4bc40"/>
              </a:solidFill>
              <a:latin typeface="Arial"/>
            </a:endParaRPr>
          </a:p>
        </p:txBody>
      </p:sp>
      <p:sp>
        <p:nvSpPr>
          <p:cNvPr id="302" name=""/>
          <p:cNvSpPr txBox="1"/>
          <p:nvPr/>
        </p:nvSpPr>
        <p:spPr>
          <a:xfrm>
            <a:off x="263520" y="1052280"/>
            <a:ext cx="7386480" cy="5043240"/>
          </a:xfrm>
          <a:prstGeom prst="rect">
            <a:avLst/>
          </a:prstGeom>
          <a:noFill/>
          <a:ln w="0">
            <a:noFill/>
          </a:ln>
        </p:spPr>
        <p:txBody>
          <a:bodyPr anchor="t">
            <a:normAutofit/>
          </a:bodyPr>
          <a:p>
            <a:pPr marL="343080" indent="-343080" algn="r" rtl="1">
              <a:lnSpc>
                <a:spcPct val="107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Calibri"/>
                <a:cs typeface="B Mitra"/>
              </a:rPr>
              <a:t>سامانه جستجوی شغل باهدف کاهش هزینه های جستجوی شغلی، اتصال سریع کارجویان و کارفرمایان، رضایت مندی مخاطبان و در نهایت ایجاد پویایی در بازار کار، راه اندازی گردید و در دی ماه سال </a:t>
            </a:r>
            <a:r>
              <a:rPr b="1" lang="fa-IR" sz="1400" spc="-1" strike="noStrike">
                <a:solidFill>
                  <a:srgbClr val="ffffff"/>
                </a:solidFill>
                <a:latin typeface="Calibri"/>
                <a:ea typeface="B Mitra"/>
              </a:rPr>
              <a:t>1400</a:t>
            </a:r>
            <a:r>
              <a:rPr b="1" lang="fa-IR" sz="1400" spc="-1" strike="noStrike">
                <a:solidFill>
                  <a:srgbClr val="ffffff"/>
                </a:solidFill>
                <a:latin typeface="Calibri"/>
                <a:ea typeface="B Mitra"/>
              </a:rPr>
              <a:t> مورد بهره برداری قرار گرفت.آدرس سامانه </a:t>
            </a:r>
            <a:r>
              <a:rPr b="1" lang="en-US" sz="1400" spc="-1" strike="noStrike">
                <a:solidFill>
                  <a:srgbClr val="ffffff"/>
                </a:solidFill>
                <a:latin typeface="Calibri"/>
                <a:ea typeface="B Mitra"/>
              </a:rPr>
              <a:t>shoghl. Mcls.gov.ir</a:t>
            </a:r>
            <a:endParaRPr b="0" lang="en-US" sz="1400" spc="-1" strike="noStrike">
              <a:solidFill>
                <a:srgbClr val="ffffff"/>
              </a:solidFill>
              <a:latin typeface="Arial"/>
            </a:endParaRPr>
          </a:p>
          <a:p>
            <a:pPr marL="343080" indent="-343080" algn="r" rtl="1">
              <a:lnSpc>
                <a:spcPct val="107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Calibri"/>
                <a:cs typeface="B Mitra"/>
              </a:rPr>
              <a:t>سامانه جستجوی شغل در بستر فضای مجازی، فرصتی است تا رضایت مندی استفاده کنندگان از خدمات کاریابی افزایش یافته و موجبات کاهش بروکراسی اداری، هزینه های جستجوی شغلی، بهبود عملکرد دفاتر کاریابی و ... را فراهم نماید.</a:t>
            </a:r>
            <a:endParaRPr b="0" lang="en-US" sz="1400" spc="-1" strike="noStrike">
              <a:solidFill>
                <a:srgbClr val="ffffff"/>
              </a:solidFill>
              <a:latin typeface="Arial"/>
            </a:endParaRPr>
          </a:p>
          <a:p>
            <a:pPr marL="343080" indent="-343080" algn="r" rtl="1">
              <a:lnSpc>
                <a:spcPct val="107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lnSpc>
                <a:spcPct val="10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3"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2522-2595-4A4C-AD87-CB7C6EA69A4C}"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304" name="Footer Placeholder 4"/>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4A34-0580-4971-A083-17E46257BA7B}"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pic>
        <p:nvPicPr>
          <p:cNvPr id="306" name="Picture 6" descr=""/>
          <p:cNvPicPr/>
          <p:nvPr/>
        </p:nvPicPr>
        <p:blipFill>
          <a:blip r:embed="rId5"/>
          <a:stretch/>
        </p:blipFill>
        <p:spPr>
          <a:xfrm>
            <a:off x="0" y="2637000"/>
            <a:ext cx="7885080" cy="4000320"/>
          </a:xfrm>
          <a:prstGeom prst="rect">
            <a:avLst/>
          </a:prstGeom>
          <a:ln w="0">
            <a:noFill/>
          </a:ln>
        </p:spPr>
      </p:pic>
    </p:spTree>
  </p:cSld>
  <p:transition spd="slow">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18880" y="0"/>
            <a:ext cx="7476840" cy="1044720"/>
          </a:xfrm>
          <a:prstGeom prst="rect">
            <a:avLst/>
          </a:prstGeom>
          <a:noFill/>
          <a:ln w="0">
            <a:noFill/>
          </a:ln>
        </p:spPr>
        <p:txBody>
          <a:bodyPr anchor="ctr">
            <a:noAutofit/>
          </a:bodyPr>
          <a:p>
            <a:pPr marL="343080" indent="0" algn="ctr" rtl="1">
              <a:lnSpc>
                <a:spcPct val="107000"/>
              </a:lnSpc>
              <a:spcBef>
                <a:spcPts val="9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Calibri"/>
                <a:cs typeface="B Titr"/>
              </a:rPr>
              <a:t>اهداف راه اندازی </a:t>
            </a:r>
            <a:r>
              <a:rPr b="0" lang="fa-IR" sz="3600" spc="-1" strike="noStrike">
                <a:solidFill>
                  <a:srgbClr val="ffc000"/>
                </a:solidFill>
                <a:latin typeface="Calibri"/>
                <a:cs typeface="B Titr"/>
              </a:rPr>
              <a:t>سامانه جستجوی شغل</a:t>
            </a:r>
            <a:endParaRPr b="0" lang="en-US" sz="3600" spc="-1" strike="noStrike">
              <a:solidFill>
                <a:srgbClr val="f4bc40"/>
              </a:solidFill>
              <a:latin typeface="Arial"/>
            </a:endParaRPr>
          </a:p>
        </p:txBody>
      </p:sp>
      <p:sp>
        <p:nvSpPr>
          <p:cNvPr id="308" name=""/>
          <p:cNvSpPr txBox="1"/>
          <p:nvPr/>
        </p:nvSpPr>
        <p:spPr>
          <a:xfrm>
            <a:off x="263520" y="1044720"/>
            <a:ext cx="7548480" cy="5479920"/>
          </a:xfrm>
          <a:prstGeom prst="rect">
            <a:avLst/>
          </a:prstGeom>
          <a:noFill/>
          <a:ln w="0">
            <a:noFill/>
          </a:ln>
        </p:spPr>
        <p:txBody>
          <a:bodyPr anchor="t">
            <a:normAutofit fontScale="88000"/>
          </a:bodyPr>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ارتقاء کمی و کیفی خدمات ارائه شده توسط دفاتر کاریابی و رضایت مندی مخاطبان (اعم از کارجو و کارفرما).</a:t>
            </a:r>
            <a:endParaRPr b="0" lang="en-US" sz="1800" spc="-1" strike="noStrike">
              <a:solidFill>
                <a:srgbClr val="ffffff"/>
              </a:solidFill>
              <a:latin typeface="Arial"/>
            </a:endParaRPr>
          </a:p>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امکان دسترسی و بهره مندی به خدمات کاریابی به صورت الکترونیکی برای همه افراد جامعه.</a:t>
            </a:r>
            <a:endParaRPr b="0" lang="en-US" sz="1800" spc="-1" strike="noStrike">
              <a:solidFill>
                <a:srgbClr val="ffffff"/>
              </a:solidFill>
              <a:latin typeface="Arial"/>
            </a:endParaRPr>
          </a:p>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دسترسی برخط به اطلاعات حوزه بازار کار به منظور سیاست گذاری و برنامه ریزی برای تنظیم بازار کار.</a:t>
            </a:r>
            <a:endParaRPr b="0" lang="en-US" sz="1800" spc="-1" strike="noStrike">
              <a:solidFill>
                <a:srgbClr val="ffffff"/>
              </a:solidFill>
              <a:latin typeface="Arial"/>
            </a:endParaRPr>
          </a:p>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مزایای استفاده از سامانه برای کارفرمایان</a:t>
            </a:r>
            <a:endParaRPr b="0" lang="en-US" sz="1800" spc="-1" strike="noStrike">
              <a:solidFill>
                <a:srgbClr val="ffffff"/>
              </a:solidFill>
              <a:latin typeface="Arial"/>
            </a:endParaRPr>
          </a:p>
          <a:p>
            <a:pPr marL="402120" indent="-402120" algn="r" rtl="1">
              <a:lnSpc>
                <a:spcPct val="107000"/>
              </a:lnSpc>
              <a:spcBef>
                <a:spcPts val="4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امکان ثبت نام مستقیم کارفرمایان و صاحبان کسب و کارهای متقاضی جذب نیروی کار.</a:t>
            </a:r>
            <a:endParaRPr b="0" lang="en-US" sz="1600" spc="-1" strike="noStrike">
              <a:solidFill>
                <a:srgbClr val="ffffff"/>
              </a:solidFill>
              <a:latin typeface="Arial"/>
            </a:endParaRPr>
          </a:p>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ثبت فرصت شغلی مورد نیاز کارفرمایان در سامانه جستجوی شغل.</a:t>
            </a:r>
            <a:endParaRPr b="0" lang="en-US" sz="1800" spc="-1" strike="noStrike">
              <a:solidFill>
                <a:srgbClr val="ffffff"/>
              </a:solidFill>
              <a:latin typeface="Arial"/>
            </a:endParaRPr>
          </a:p>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امکان جستجو در بانک اطلاعاتی رزومه های ثبت شده کارجویان برای کارفرمایان.</a:t>
            </a:r>
            <a:endParaRPr b="0" lang="en-US" sz="1800" spc="-1" strike="noStrike">
              <a:solidFill>
                <a:srgbClr val="ffffff"/>
              </a:solidFill>
              <a:latin typeface="Arial"/>
            </a:endParaRPr>
          </a:p>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انتخاب سریع  نیروی کار مورد نیاز توسط کارفرمایان.</a:t>
            </a:r>
            <a:endParaRPr b="0" lang="en-US" sz="1800" spc="-1" strike="noStrike">
              <a:solidFill>
                <a:srgbClr val="ffffff"/>
              </a:solidFill>
              <a:latin typeface="Arial"/>
            </a:endParaRPr>
          </a:p>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مزایای استفاده از سامانه برای متقاضیان کار</a:t>
            </a:r>
            <a:endParaRPr b="0" lang="en-US" sz="1800" spc="-1" strike="noStrike">
              <a:solidFill>
                <a:srgbClr val="ffffff"/>
              </a:solidFill>
              <a:latin typeface="Arial"/>
            </a:endParaRPr>
          </a:p>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امکان ثبت نام مستقیم متقاضیان کار.</a:t>
            </a:r>
            <a:endParaRPr b="0" lang="en-US" sz="1800" spc="-1" strike="noStrike">
              <a:solidFill>
                <a:srgbClr val="ffffff"/>
              </a:solidFill>
              <a:latin typeface="Arial"/>
            </a:endParaRPr>
          </a:p>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مشاهده فرصت شغلی مورد نیاز کارفرمایان در سامانه جستجوی شغل.</a:t>
            </a:r>
            <a:endParaRPr b="0" lang="en-US" sz="1800" spc="-1" strike="noStrike">
              <a:solidFill>
                <a:srgbClr val="ffffff"/>
              </a:solidFill>
              <a:latin typeface="Arial"/>
            </a:endParaRPr>
          </a:p>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انتخاب سریع  فرصت شغلی مورد نیاز کارفرمایان.</a:t>
            </a:r>
            <a:endParaRPr b="0" lang="en-US" sz="1800" spc="-1" strike="noStrike">
              <a:solidFill>
                <a:srgbClr val="ffffff"/>
              </a:solidFill>
              <a:latin typeface="Arial"/>
            </a:endParaRPr>
          </a:p>
          <a:p>
            <a:pPr marL="402120" indent="-402120" algn="r" rtl="1">
              <a:lnSpc>
                <a:spcPct val="107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کاهش هزینه و مدت زمان جستجوی شغل.</a:t>
            </a:r>
            <a:endParaRPr b="0" lang="en-US" sz="1800" spc="-1" strike="noStrike">
              <a:solidFill>
                <a:srgbClr val="ffffff"/>
              </a:solidFill>
              <a:latin typeface="Arial"/>
            </a:endParaRPr>
          </a:p>
          <a:p>
            <a:pPr marL="402120" indent="-402120" algn="r" rtl="1">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4959-E068-47E7-A8A1-E29FF248D4E4}"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310" name="Footer Placeholder 4"/>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09E4-DDD8-40EB-9148-5080352939F6}"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4bc40"/>
                </a:solidFill>
                <a:latin typeface="Arial"/>
                <a:cs typeface="B Zar"/>
              </a:rPr>
              <a:t>سایت های مفید</a:t>
            </a:r>
            <a:endParaRPr b="0" lang="en-US" sz="4000" spc="-1" strike="noStrike">
              <a:solidFill>
                <a:srgbClr val="f4bc40"/>
              </a:solidFill>
              <a:latin typeface="Arial"/>
            </a:endParaRPr>
          </a:p>
        </p:txBody>
      </p:sp>
      <p:sp>
        <p:nvSpPr>
          <p:cNvPr id="313" name=""/>
          <p:cNvSpPr txBox="1"/>
          <p:nvPr/>
        </p:nvSpPr>
        <p:spPr>
          <a:xfrm>
            <a:off x="263520" y="1598760"/>
            <a:ext cx="7386480" cy="4497120"/>
          </a:xfrm>
          <a:prstGeom prst="rect">
            <a:avLst/>
          </a:prstGeom>
          <a:noFill/>
          <a:ln w="0">
            <a:noFill/>
          </a:ln>
        </p:spPr>
        <p:txBody>
          <a:bodyPr anchor="t">
            <a:normAutofit/>
          </a:bodyPr>
          <a:p>
            <a:pPr marL="343080" indent="-343080" algn="ctr" rtl="1">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Arial"/>
                <a:cs typeface="B Zar"/>
              </a:rPr>
              <a:t>سایت دفتر هدایت نیروی کار و کاریابی ها</a:t>
            </a:r>
            <a:endParaRPr b="0" lang="en-US" sz="4000" spc="-1" strike="noStrike">
              <a:solidFill>
                <a:srgbClr val="ffffff"/>
              </a:solidFill>
              <a:latin typeface="Arial"/>
            </a:endParaRPr>
          </a:p>
          <a:p>
            <a:pPr marL="343080" indent="-343080" algn="ctr" rtl="1">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66ff"/>
                </a:solidFill>
                <a:uFillTx/>
                <a:latin typeface="Arial"/>
                <a:ea typeface="B Zar"/>
                <a:hlinkClick r:id="rId3"/>
              </a:rPr>
              <a:t>https://karyabi.mcls.gov.ir</a:t>
            </a:r>
            <a:r>
              <a:rPr b="0" lang="fa-IR" sz="4000" spc="-1" strike="noStrike" u="sng">
                <a:solidFill>
                  <a:srgbClr val="cc66ff"/>
                </a:solidFill>
                <a:uFillTx/>
                <a:latin typeface="Arial"/>
                <a:ea typeface="B Zar"/>
                <a:hlinkClick r:id="rId4"/>
              </a:rPr>
              <a:t>/</a:t>
            </a:r>
            <a:r>
              <a:rPr b="1" lang="en-US" sz="4000" spc="-1" strike="noStrike">
                <a:solidFill>
                  <a:srgbClr val="ffffff"/>
                </a:solidFill>
                <a:latin typeface="Arial"/>
                <a:ea typeface="B Zar"/>
              </a:rPr>
              <a:t> </a:t>
            </a:r>
            <a:endParaRPr b="0" lang="en-US" sz="4000" spc="-1" strike="noStrike">
              <a:solidFill>
                <a:srgbClr val="ffffff"/>
              </a:solidFill>
              <a:latin typeface="Arial"/>
            </a:endParaRPr>
          </a:p>
        </p:txBody>
      </p:sp>
      <p:sp>
        <p:nvSpPr>
          <p:cNvPr id="314" name="Date Placeholder 1"/>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2492-BDDC-4117-88A9-4F2411DD6494}"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315" name="Footer Placeholder 2"/>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A563-9F43-4B29-A22B-EF57D38949A2}"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23640" y="4076640"/>
            <a:ext cx="747684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4bc40"/>
                </a:solidFill>
                <a:latin typeface="Arial"/>
                <a:cs typeface="B Zar"/>
              </a:rPr>
              <a:t>راه های تماس</a:t>
            </a:r>
            <a:r>
              <a:rPr b="1" lang="fa-IR" sz="2800" spc="-1" strike="noStrike">
                <a:solidFill>
                  <a:srgbClr val="f4bc40"/>
                </a:solidFill>
                <a:latin typeface="Arial"/>
                <a:ea typeface="B Zar"/>
              </a:rPr>
              <a:t>:</a:t>
            </a:r>
            <a:br>
              <a:rPr sz="2800"/>
            </a:br>
            <a:br>
              <a:rPr sz="2400"/>
            </a:br>
            <a:r>
              <a:rPr b="0" lang="it-IT" sz="2400" spc="-1" strike="noStrike">
                <a:solidFill>
                  <a:srgbClr val="f4bc40"/>
                </a:solidFill>
                <a:latin typeface="Arial"/>
                <a:ea typeface="B Zar"/>
              </a:rPr>
              <a:t>Mobile: 09123156539</a:t>
            </a:r>
            <a:br>
              <a:rPr sz="2400"/>
            </a:br>
            <a:r>
              <a:rPr b="0" lang="it-IT" sz="2400" spc="-1" strike="noStrike">
                <a:solidFill>
                  <a:srgbClr val="f4bc40"/>
                </a:solidFill>
                <a:latin typeface="Arial"/>
                <a:ea typeface="B Zar"/>
              </a:rPr>
              <a:t>Office: 64492468</a:t>
            </a:r>
            <a:br>
              <a:rPr sz="2400"/>
            </a:br>
            <a:br>
              <a:rPr sz="2400"/>
            </a:br>
            <a:endParaRPr b="0" lang="en-US" sz="2400" spc="-1" strike="noStrike">
              <a:solidFill>
                <a:srgbClr val="f4bc40"/>
              </a:solidFill>
              <a:latin typeface="Arial"/>
            </a:endParaRPr>
          </a:p>
        </p:txBody>
      </p:sp>
      <p:pic>
        <p:nvPicPr>
          <p:cNvPr id="318" name="Picture 3" descr=""/>
          <p:cNvPicPr/>
          <p:nvPr/>
        </p:nvPicPr>
        <p:blipFill>
          <a:blip r:embed="rId1"/>
          <a:stretch/>
        </p:blipFill>
        <p:spPr>
          <a:xfrm>
            <a:off x="108000" y="115920"/>
            <a:ext cx="7704000" cy="2952720"/>
          </a:xfrm>
          <a:prstGeom prst="rect">
            <a:avLst/>
          </a:prstGeom>
          <a:ln w="0">
            <a:noFill/>
          </a:ln>
        </p:spPr>
      </p:pic>
      <p:sp>
        <p:nvSpPr>
          <p:cNvPr id="319" name="Date Placeholder 1"/>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F3D0-44F6-4C75-AED8-163A11613E42}"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320"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A988-7987-4FD4-884A-B2A0124089EB}"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24000" y="1197000"/>
            <a:ext cx="7386480" cy="4875120"/>
          </a:xfrm>
          <a:prstGeom prst="rect">
            <a:avLst/>
          </a:prstGeom>
          <a:noFill/>
          <a:ln w="0">
            <a:noFill/>
          </a:ln>
        </p:spPr>
        <p:txBody>
          <a:bodyPr anchor="t">
            <a:normAutofit fontScale="91000"/>
          </a:bodyPr>
          <a:p>
            <a:pPr marL="312120" indent="-312120" algn="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66"/>
                </a:solidFill>
                <a:latin typeface="Arial"/>
                <a:cs typeface="B Titr"/>
              </a:rPr>
              <a:t>چرا کاریابی؟</a:t>
            </a:r>
            <a:endParaRPr b="0" lang="en-US" sz="2400" spc="-1" strike="noStrike">
              <a:solidFill>
                <a:srgbClr val="ffffff"/>
              </a:solidFill>
              <a:latin typeface="Arial"/>
            </a:endParaRPr>
          </a:p>
          <a:p>
            <a:pPr marL="312120" indent="-312120" algn="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66"/>
                </a:solidFill>
                <a:latin typeface="Arial"/>
                <a:cs typeface="B Titr"/>
              </a:rPr>
              <a:t>یکی از ابزارهای مهم شناخت و تنظيم بازار کار</a:t>
            </a:r>
            <a:endParaRPr b="0" lang="en-US" sz="2400" spc="-1" strike="noStrike">
              <a:solidFill>
                <a:srgbClr val="ffffff"/>
              </a:solidFill>
              <a:latin typeface="Arial"/>
            </a:endParaRPr>
          </a:p>
          <a:p>
            <a:pPr marL="312120" indent="-312120" algn="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66"/>
                </a:solidFill>
                <a:latin typeface="Arial"/>
                <a:cs typeface="B Titr"/>
              </a:rPr>
              <a:t>ایفای نقش به عنوان حلقه واسط بين عرضه و تقاضاي نيروي کار  </a:t>
            </a:r>
            <a:endParaRPr b="0" lang="en-US" sz="2400" spc="-1" strike="noStrike">
              <a:solidFill>
                <a:srgbClr val="ffffff"/>
              </a:solidFill>
              <a:latin typeface="Arial"/>
            </a:endParaRPr>
          </a:p>
          <a:p>
            <a:pPr marL="312120" indent="-312120" algn="r" rtl="1">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66"/>
                </a:solidFill>
                <a:latin typeface="Arial"/>
                <a:cs typeface="B Titr"/>
              </a:rPr>
              <a:t>یکی از سیاست های فعال بازار کار</a:t>
            </a:r>
            <a:endParaRPr b="0" lang="en-US" sz="2400" spc="-1" strike="noStrike">
              <a:solidFill>
                <a:srgbClr val="ffffff"/>
              </a:solidFill>
              <a:latin typeface="Arial"/>
            </a:endParaRPr>
          </a:p>
          <a:p>
            <a:pPr marL="312120" indent="-312120" algn="r" rtl="1">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66"/>
                </a:solidFill>
                <a:latin typeface="Arial"/>
                <a:cs typeface="B Titr"/>
              </a:rPr>
              <a:t>ایجاد زمينه هاي لازم را براي ايجاد تعادل بين عرضه و تقاضاي نيروي كار فعال و به تبع آن كاهش بيكاري</a:t>
            </a:r>
            <a:endParaRPr b="0" lang="en-US" sz="2400" spc="-1" strike="noStrike">
              <a:solidFill>
                <a:srgbClr val="ffffff"/>
              </a:solidFill>
              <a:latin typeface="Arial"/>
            </a:endParaRPr>
          </a:p>
          <a:p>
            <a:pPr marL="312120" indent="-312120" algn="r" rtl="1">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66"/>
                </a:solidFill>
                <a:latin typeface="Arial"/>
                <a:cs typeface="B Titr"/>
              </a:rPr>
              <a:t>هدایت افراد به سوی رشته تحصیلی و شغلی مناسب و مورد نیاز، و افزایش بهره وری نیروی کار</a:t>
            </a:r>
            <a:endParaRPr b="0" lang="en-US" sz="2400" spc="-1" strike="noStrike">
              <a:solidFill>
                <a:srgbClr val="ffffff"/>
              </a:solidFill>
              <a:latin typeface="Arial"/>
            </a:endParaRPr>
          </a:p>
          <a:p>
            <a:pPr marL="312120" indent="-312120" algn="r" rtl="1">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66"/>
                </a:solidFill>
                <a:latin typeface="Arial"/>
                <a:cs typeface="B Titr"/>
              </a:rPr>
              <a:t>يکي از سياست هاي پيشرو در ايجاد تعادل هاي موجود در بازار کار و ابزار عمده سياست گذاري اشتغال در بسياري از کشورهاي پيشرفته و در حال توسعه و کمک به طور مستقيم و غير مستقيم به ايجاد و بهبود كاركرد در بازار كار</a:t>
            </a:r>
            <a:endParaRPr b="0" lang="en-US" sz="2400" spc="-1" strike="noStrike">
              <a:solidFill>
                <a:srgbClr val="ffffff"/>
              </a:solidFill>
              <a:latin typeface="Arial"/>
            </a:endParaRPr>
          </a:p>
        </p:txBody>
      </p:sp>
      <p:sp>
        <p:nvSpPr>
          <p:cNvPr id="206" name="Rectangle 6"/>
          <p:cNvSpPr/>
          <p:nvPr/>
        </p:nvSpPr>
        <p:spPr>
          <a:xfrm>
            <a:off x="3000240" y="357120"/>
            <a:ext cx="16034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66"/>
                </a:solidFill>
                <a:latin typeface="Arial"/>
                <a:cs typeface="B Titr"/>
              </a:rPr>
              <a:t>مقدمه</a:t>
            </a:r>
            <a:endParaRPr b="0" lang="en-US" sz="3200" spc="-1" strike="noStrike">
              <a:solidFill>
                <a:srgbClr val="ffffff"/>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898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4bc40"/>
                </a:solidFill>
                <a:latin typeface="Arial"/>
                <a:cs typeface="B Titr"/>
              </a:rPr>
              <a:t>نقش و وظایف دفاتر کاریابی</a:t>
            </a:r>
            <a:endParaRPr b="0" lang="en-US" sz="4000" spc="-1" strike="noStrike">
              <a:solidFill>
                <a:srgbClr val="f4bc40"/>
              </a:solidFill>
              <a:latin typeface="Arial"/>
            </a:endParaRPr>
          </a:p>
        </p:txBody>
      </p:sp>
      <p:sp>
        <p:nvSpPr>
          <p:cNvPr id="208" name=""/>
          <p:cNvSpPr txBox="1"/>
          <p:nvPr/>
        </p:nvSpPr>
        <p:spPr>
          <a:xfrm>
            <a:off x="263520" y="1125000"/>
            <a:ext cx="7386480" cy="4970520"/>
          </a:xfrm>
          <a:prstGeom prst="rect">
            <a:avLst/>
          </a:prstGeom>
          <a:noFill/>
          <a:ln w="0">
            <a:noFill/>
          </a:ln>
        </p:spPr>
        <p:txBody>
          <a:bodyPr anchor="t">
            <a:normAutofit/>
          </a:bodyPr>
          <a:p>
            <a:pPr marL="343080" indent="-343080" algn="r" rtl="1">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Arial"/>
                <a:cs typeface="B Zar"/>
              </a:rPr>
              <a:t>دفاتر کاریابی  در واقع  مراکزی هستند که به عنوان  یک واسط بین کارفرما و جوینده کار عمل می کنند. اولین چیزی  که در مواجهه  با این مطلب  باید مورد  توجه  قرار گیرد  </a:t>
            </a:r>
            <a:endParaRPr b="0" lang="en-US" sz="2200" spc="-1" strike="noStrike">
              <a:solidFill>
                <a:srgbClr val="ffffff"/>
              </a:solidFill>
              <a:latin typeface="Arial"/>
            </a:endParaRPr>
          </a:p>
          <a:p>
            <a:pPr marL="343080" indent="-343080" algn="r" rtl="1">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Arial"/>
                <a:cs typeface="B Zar"/>
              </a:rPr>
              <a:t>موسسات کاریابی حرفه ای مشاورین زبده ای دارند که در قبال دریافت  مبالغی به عنوان حق ثبت نام و مشاوره با دریافت رزومه‌کاری، بررسی مهارت‌ها، تحصیلات، علایق، تیپ شخصیتی و… کار مناسب افراد را جست‌وجو کرده و به آن‌ها پیشنهاد می‌دهند.</a:t>
            </a:r>
            <a:endParaRPr b="0" lang="en-US" sz="2200" spc="-1" strike="noStrike">
              <a:solidFill>
                <a:srgbClr val="ffffff"/>
              </a:solidFill>
              <a:latin typeface="Arial"/>
            </a:endParaRPr>
          </a:p>
          <a:p>
            <a:pPr marL="343080" indent="-343080" algn="r" rtl="1">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Arial"/>
                <a:cs typeface="B Zar"/>
              </a:rPr>
              <a:t>کارجو می‌تواند کار مورد نظر را بپذیرد، و یا رد کند و منتظر فرصت بعدی بماند. موسسه‌ کاریابی یک سازمان مدیریت منابع انسانی است که کارفرما و کارجو را به هم متصل می‌کند.</a:t>
            </a:r>
            <a:endParaRPr b="0" lang="en-US" sz="2200" spc="-1" strike="noStrike">
              <a:solidFill>
                <a:srgbClr val="ffffff"/>
              </a:solidFill>
              <a:latin typeface="Arial"/>
            </a:endParaRPr>
          </a:p>
        </p:txBody>
      </p:sp>
      <p:sp>
        <p:nvSpPr>
          <p:cNvPr id="209" name="Date Placeholder 3"/>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6E18-653F-47CA-9297-727940197336}"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10" name="Footer Placeholder 4"/>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7208-00AA-43ED-81EA-324888D2B889}"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71760" y="285480"/>
            <a:ext cx="4348080" cy="695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4bc40"/>
                </a:solidFill>
                <a:latin typeface="Arial"/>
                <a:cs typeface="B Zar"/>
              </a:rPr>
              <a:t>وظایف کاریابی هادر آیین نامه</a:t>
            </a:r>
            <a:endParaRPr b="0" lang="en-US" sz="3600" spc="-1" strike="noStrike">
              <a:solidFill>
                <a:srgbClr val="f4bc40"/>
              </a:solidFill>
              <a:latin typeface="Arial"/>
            </a:endParaRPr>
          </a:p>
        </p:txBody>
      </p:sp>
      <p:sp>
        <p:nvSpPr>
          <p:cNvPr id="213" name=""/>
          <p:cNvSpPr txBox="1"/>
          <p:nvPr/>
        </p:nvSpPr>
        <p:spPr>
          <a:xfrm>
            <a:off x="263520" y="1125000"/>
            <a:ext cx="7386480" cy="4970520"/>
          </a:xfrm>
          <a:prstGeom prst="rect">
            <a:avLst/>
          </a:prstGeom>
          <a:noFill/>
          <a:ln w="0">
            <a:noFill/>
          </a:ln>
        </p:spPr>
        <p:txBody>
          <a:bodyPr anchor="t">
            <a:normAutofit fontScale="91000"/>
          </a:bodyPr>
          <a:p>
            <a:pPr marL="312120" indent="-31212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شناخت بازار کار داخلی و خارجی </a:t>
            </a:r>
            <a:endParaRPr b="0" lang="en-US" sz="2400" spc="-1" strike="noStrike">
              <a:solidFill>
                <a:srgbClr val="ffffff"/>
              </a:solidFill>
              <a:latin typeface="Arial"/>
            </a:endParaRPr>
          </a:p>
          <a:p>
            <a:pPr marL="312120" indent="-31212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ثبت نام از متقاضیان کار </a:t>
            </a:r>
            <a:endParaRPr b="0" lang="en-US" sz="2400" spc="-1" strike="noStrike">
              <a:solidFill>
                <a:srgbClr val="ffffff"/>
              </a:solidFill>
              <a:latin typeface="Arial"/>
            </a:endParaRPr>
          </a:p>
          <a:p>
            <a:pPr marL="312120" indent="-31212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کسب فرصت های شغلی </a:t>
            </a:r>
            <a:endParaRPr b="0" lang="en-US" sz="2400" spc="-1" strike="noStrike">
              <a:solidFill>
                <a:srgbClr val="ffffff"/>
              </a:solidFill>
              <a:latin typeface="Arial"/>
            </a:endParaRPr>
          </a:p>
          <a:p>
            <a:pPr marL="312120" indent="-312120" algn="r" rtl="1">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مشاوره و راهنمایی شغلی جویندگان کار و کارفرمایان </a:t>
            </a:r>
            <a:endParaRPr b="0" lang="en-US" sz="2400" spc="-1" strike="noStrike">
              <a:solidFill>
                <a:srgbClr val="ffffff"/>
              </a:solidFill>
              <a:latin typeface="Arial"/>
            </a:endParaRPr>
          </a:p>
          <a:p>
            <a:pPr marL="312120" indent="-312120" algn="r" rtl="1">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معرفی جویندگان فاقد مهارت کار به مراکز آموزش فنی و حرفه ای</a:t>
            </a:r>
            <a:endParaRPr b="0" lang="en-US" sz="2400" spc="-1" strike="noStrike">
              <a:solidFill>
                <a:srgbClr val="ffffff"/>
              </a:solidFill>
              <a:latin typeface="Arial"/>
            </a:endParaRPr>
          </a:p>
          <a:p>
            <a:pPr marL="312120" indent="-312120" algn="r" rtl="1">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ایجاد بانك اطلاعات جامع جويندگان كار و كارفرمايان متقاضي نيروي كار در كشور</a:t>
            </a:r>
            <a:endParaRPr b="0" lang="en-US" sz="2400" spc="-1" strike="noStrike">
              <a:solidFill>
                <a:srgbClr val="ffffff"/>
              </a:solidFill>
              <a:latin typeface="Arial"/>
            </a:endParaRPr>
          </a:p>
          <a:p>
            <a:pPr marL="312120" indent="-312120" algn="r" rtl="1">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تسهیل دسترسي به اطلاعات بازار كار </a:t>
            </a:r>
            <a:endParaRPr b="0" lang="en-US" sz="2400" spc="-1" strike="noStrike">
              <a:solidFill>
                <a:srgbClr val="ffffff"/>
              </a:solidFill>
              <a:latin typeface="Arial"/>
            </a:endParaRPr>
          </a:p>
          <a:p>
            <a:pPr marL="312120" indent="-312120" algn="r" rtl="1">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تبادل و نقل و انتقال نیروی کار</a:t>
            </a:r>
            <a:endParaRPr b="0" lang="en-US" sz="2400" spc="-1" strike="noStrike">
              <a:solidFill>
                <a:srgbClr val="ffffff"/>
              </a:solidFill>
              <a:latin typeface="Arial"/>
            </a:endParaRPr>
          </a:p>
          <a:p>
            <a:pPr marL="312120" indent="-312120" algn="r" rtl="1">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حفظ ونگهداری اطلاعات شغلی و هویتی جویندگان کار</a:t>
            </a:r>
            <a:endParaRPr b="0" lang="en-US" sz="2400" spc="-1" strike="noStrike">
              <a:solidFill>
                <a:srgbClr val="ffffff"/>
              </a:solidFill>
              <a:latin typeface="Arial"/>
            </a:endParaRPr>
          </a:p>
        </p:txBody>
      </p:sp>
      <p:sp>
        <p:nvSpPr>
          <p:cNvPr id="214" name="Date Placeholder 1"/>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5030-7995-4B90-A2D9-E1D068C1BA14}"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15" name="Footer Placeholder 2"/>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B362-060E-4AE0-910A-91874935F77E}"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898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4bc40"/>
                </a:solidFill>
                <a:latin typeface="Arial"/>
                <a:cs typeface="B Zar"/>
              </a:rPr>
              <a:t>هدف از راه اندازی کاریابی ها:</a:t>
            </a:r>
            <a:endParaRPr b="0" lang="en-US" sz="4000" spc="-1" strike="noStrike">
              <a:solidFill>
                <a:srgbClr val="f4bc40"/>
              </a:solidFill>
              <a:latin typeface="Arial"/>
            </a:endParaRPr>
          </a:p>
        </p:txBody>
      </p:sp>
      <p:sp>
        <p:nvSpPr>
          <p:cNvPr id="218" name=""/>
          <p:cNvSpPr txBox="1"/>
          <p:nvPr/>
        </p:nvSpPr>
        <p:spPr>
          <a:xfrm>
            <a:off x="263520" y="1125360"/>
            <a:ext cx="7386480" cy="5399280"/>
          </a:xfrm>
          <a:prstGeom prst="rect">
            <a:avLst/>
          </a:prstGeom>
          <a:noFill/>
          <a:ln w="0">
            <a:noFill/>
          </a:ln>
        </p:spPr>
        <p:txBody>
          <a:bodyPr anchor="t">
            <a:normAutofit fontScale="94000"/>
          </a:bodyPr>
          <a:p>
            <a:pPr marL="322200" indent="-32220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در راستاي اجرای سياست هاي كلي اصل </a:t>
            </a:r>
            <a:r>
              <a:rPr b="1" lang="fa-IR" sz="2400" spc="-1" strike="noStrike">
                <a:solidFill>
                  <a:srgbClr val="ffffff"/>
                </a:solidFill>
                <a:latin typeface="Arial"/>
                <a:ea typeface="B Zar"/>
              </a:rPr>
              <a:t>44</a:t>
            </a:r>
            <a:r>
              <a:rPr b="1" lang="fa-IR" sz="2400" spc="-1" strike="noStrike">
                <a:solidFill>
                  <a:srgbClr val="ffffff"/>
                </a:solidFill>
                <a:latin typeface="Arial"/>
                <a:ea typeface="B Zar"/>
              </a:rPr>
              <a:t> قانون اساسي و قانون برنامه سوم توسعه اقتصادی و اجتماعی کشورمبنی بر واگذاري فعاليت ها و امور غير حاكميتي دولت به بخش خصوصی و كاهش تصدي گري دولت، وزارت کار امور کاریابی و اشتغال را از سال </a:t>
            </a:r>
            <a:r>
              <a:rPr b="1" lang="fa-IR" sz="2400" spc="-1" strike="noStrike">
                <a:solidFill>
                  <a:srgbClr val="ffffff"/>
                </a:solidFill>
                <a:latin typeface="Arial"/>
                <a:ea typeface="B Zar"/>
              </a:rPr>
              <a:t>1380</a:t>
            </a:r>
            <a:r>
              <a:rPr b="1" lang="fa-IR" sz="2400" spc="-1" strike="noStrike">
                <a:solidFill>
                  <a:srgbClr val="ffffff"/>
                </a:solidFill>
                <a:latin typeface="Arial"/>
                <a:ea typeface="B Zar"/>
              </a:rPr>
              <a:t> به دفاترکاریابی غیردولتی واگذار کرد</a:t>
            </a:r>
            <a:endParaRPr b="0" lang="en-US" sz="2400" spc="-1" strike="noStrike">
              <a:solidFill>
                <a:srgbClr val="ffffff"/>
              </a:solidFill>
              <a:latin typeface="Arial"/>
            </a:endParaRPr>
          </a:p>
          <a:p>
            <a:pPr marL="322200" indent="-32220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استناد قانونی</a:t>
            </a:r>
            <a:endParaRPr b="0" lang="en-US" sz="2400" spc="-1" strike="noStrike">
              <a:solidFill>
                <a:srgbClr val="ffffff"/>
              </a:solidFill>
              <a:latin typeface="Arial"/>
            </a:endParaRPr>
          </a:p>
          <a:p>
            <a:pPr marL="322200" indent="-32220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ماده واحده قانون مجازت اشتغال به حرفه کاریابی و مشاوره شغلی بدون داشتن پروانه کار مصوب</a:t>
            </a:r>
            <a:r>
              <a:rPr b="1" lang="fa-IR" sz="2400" spc="-1" strike="noStrike">
                <a:solidFill>
                  <a:srgbClr val="ffffff"/>
                </a:solidFill>
                <a:latin typeface="Arial"/>
                <a:cs typeface="B Zar"/>
              </a:rPr>
              <a:t>۱۰</a:t>
            </a:r>
            <a:r>
              <a:rPr b="1" lang="fa-IR" sz="2400" spc="-1" strike="noStrike">
                <a:solidFill>
                  <a:srgbClr val="ffffff"/>
                </a:solidFill>
                <a:latin typeface="Arial"/>
                <a:ea typeface="B Zar"/>
              </a:rPr>
              <a:t>|</a:t>
            </a:r>
            <a:r>
              <a:rPr b="1" lang="fa-IR" sz="2400" spc="-1" strike="noStrike">
                <a:solidFill>
                  <a:srgbClr val="ffffff"/>
                </a:solidFill>
                <a:latin typeface="Arial"/>
                <a:cs typeface="B Zar"/>
              </a:rPr>
              <a:t>۷</a:t>
            </a:r>
            <a:r>
              <a:rPr b="1" lang="fa-IR" sz="2400" spc="-1" strike="noStrike">
                <a:solidFill>
                  <a:srgbClr val="ffffff"/>
                </a:solidFill>
                <a:latin typeface="Arial"/>
                <a:ea typeface="B Zar"/>
              </a:rPr>
              <a:t>|</a:t>
            </a:r>
            <a:r>
              <a:rPr b="1" lang="fa-IR" sz="2400" spc="-1" strike="noStrike">
                <a:solidFill>
                  <a:srgbClr val="ffffff"/>
                </a:solidFill>
                <a:latin typeface="Arial"/>
                <a:cs typeface="B Zar"/>
              </a:rPr>
              <a:t>۱۳۸۰</a:t>
            </a:r>
            <a:r>
              <a:rPr b="1" lang="fa-IR" sz="2400" spc="-1" strike="noStrike">
                <a:solidFill>
                  <a:srgbClr val="ffffff"/>
                </a:solidFill>
                <a:latin typeface="Arial"/>
                <a:cs typeface="B Zar"/>
              </a:rPr>
              <a:t>مجلس شورای اسلامی</a:t>
            </a:r>
            <a:endParaRPr b="0" lang="en-US" sz="2400" spc="-1" strike="noStrike">
              <a:solidFill>
                <a:srgbClr val="ffffff"/>
              </a:solidFill>
              <a:latin typeface="Arial"/>
            </a:endParaRPr>
          </a:p>
          <a:p>
            <a:pPr marL="322200" indent="-322200" algn="r" rtl="1">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آئین نامه اجرایی قانون مجازات اشتغال به حرفه کاریابی و مشاوره شغلی بدون داشتن پروانه کار مصوب سال </a:t>
            </a:r>
            <a:r>
              <a:rPr b="1" lang="fa-IR" sz="2400" spc="-1" strike="noStrike">
                <a:solidFill>
                  <a:srgbClr val="ffffff"/>
                </a:solidFill>
                <a:latin typeface="Arial"/>
                <a:ea typeface="B Zar"/>
              </a:rPr>
              <a:t>1387</a:t>
            </a:r>
            <a:r>
              <a:rPr b="1" lang="fa-IR" sz="2400" spc="-1" strike="noStrike">
                <a:solidFill>
                  <a:srgbClr val="ffffff"/>
                </a:solidFill>
                <a:latin typeface="Arial"/>
                <a:ea typeface="B Zar"/>
              </a:rPr>
              <a:t> هیئت محترم وزیران</a:t>
            </a:r>
            <a:endParaRPr b="0" lang="en-US" sz="2400" spc="-1" strike="noStrike">
              <a:solidFill>
                <a:srgbClr val="ffffff"/>
              </a:solidFill>
              <a:latin typeface="Arial"/>
            </a:endParaRPr>
          </a:p>
        </p:txBody>
      </p:sp>
      <p:sp>
        <p:nvSpPr>
          <p:cNvPr id="219" name="Date Placeholder 1"/>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EF8E-AFD8-4259-BDAF-6F580BEBAE6B}"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20" name="Footer Placeholder 2"/>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A8EA-E8C1-4BB4-A756-6397F2400F8C}"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4bc40"/>
                </a:solidFill>
                <a:latin typeface="Arial"/>
                <a:cs typeface="B Zar"/>
              </a:rPr>
              <a:t>انواع کاریابی های غیردولتی:</a:t>
            </a:r>
            <a:endParaRPr b="0" lang="en-US" sz="4000" spc="-1" strike="noStrike">
              <a:solidFill>
                <a:srgbClr val="f4bc40"/>
              </a:solidFill>
              <a:latin typeface="Arial"/>
            </a:endParaRPr>
          </a:p>
        </p:txBody>
      </p:sp>
      <p:sp>
        <p:nvSpPr>
          <p:cNvPr id="223" name=""/>
          <p:cNvSpPr txBox="1"/>
          <p:nvPr/>
        </p:nvSpPr>
        <p:spPr>
          <a:xfrm>
            <a:off x="263520" y="1598760"/>
            <a:ext cx="7386480" cy="4497120"/>
          </a:xfrm>
          <a:prstGeom prst="rect">
            <a:avLst/>
          </a:prstGeom>
          <a:no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B Zar"/>
              </a:rPr>
              <a:t></a:t>
            </a:r>
            <a:r>
              <a:rPr b="1" lang="fa-IR" sz="3200" spc="-1" strike="noStrike">
                <a:solidFill>
                  <a:srgbClr val="ffffff"/>
                </a:solidFill>
                <a:latin typeface="Arial"/>
                <a:ea typeface="B Zar"/>
              </a:rPr>
              <a:t>	</a:t>
            </a:r>
            <a:r>
              <a:rPr b="1" lang="fa-IR" sz="3200" spc="-1" strike="noStrike">
                <a:solidFill>
                  <a:srgbClr val="ffffff"/>
                </a:solidFill>
                <a:latin typeface="Arial"/>
                <a:cs typeface="B Zar"/>
              </a:rPr>
              <a:t>کاریابی های غیردولتی داخلی: کاریابی و مشاوره شغلی در داخل کشور را انجام می دهند.</a:t>
            </a:r>
            <a:endParaRPr b="0" lang="en-US" sz="3200" spc="-1" strike="noStrike">
              <a:solidFill>
                <a:srgbClr val="ffffff"/>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B Zar"/>
              </a:rPr>
              <a:t></a:t>
            </a:r>
            <a:r>
              <a:rPr b="1" lang="fa-IR" sz="3200" spc="-1" strike="noStrike">
                <a:solidFill>
                  <a:srgbClr val="ffffff"/>
                </a:solidFill>
                <a:latin typeface="Arial"/>
                <a:ea typeface="B Zar"/>
              </a:rPr>
              <a:t>	</a:t>
            </a:r>
            <a:r>
              <a:rPr b="1" lang="fa-IR" sz="3200" spc="-1" strike="noStrike">
                <a:solidFill>
                  <a:srgbClr val="ffffff"/>
                </a:solidFill>
                <a:latin typeface="Arial"/>
                <a:cs typeface="B Zar"/>
              </a:rPr>
              <a:t>کاریابی های غیردولتی خارجی: کاریابی و مشاوره شغلی درخارج از کشور را به عهده داشته و مجاز به اعزام نیروی کار به خارج از کشور می باشند.</a:t>
            </a:r>
            <a:endParaRPr b="0" lang="en-US" sz="3200" spc="-1" strike="noStrike">
              <a:solidFill>
                <a:srgbClr val="ffffff"/>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Date Placeholder 1"/>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6ECD-2CFF-4BE7-810A-A55BDF340221}"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25" name="Footer Placeholder 2"/>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CCD5-AC4C-4849-A277-7C02413D347A}"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8880" y="227160"/>
            <a:ext cx="7476840" cy="753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4bc40"/>
                </a:solidFill>
                <a:latin typeface="Arial"/>
                <a:cs typeface="B Zar"/>
              </a:rPr>
              <a:t>طبقه بندی دفاتر مشاوره شغلی و کاریابی های غیردولتی(کاریابی تخصصی)</a:t>
            </a:r>
            <a:endParaRPr b="0" lang="en-US" sz="2800" spc="-1" strike="noStrike">
              <a:solidFill>
                <a:srgbClr val="f4bc40"/>
              </a:solidFill>
              <a:latin typeface="Arial"/>
            </a:endParaRPr>
          </a:p>
        </p:txBody>
      </p:sp>
      <p:sp>
        <p:nvSpPr>
          <p:cNvPr id="228" name=""/>
          <p:cNvSpPr txBox="1"/>
          <p:nvPr/>
        </p:nvSpPr>
        <p:spPr>
          <a:xfrm>
            <a:off x="263520" y="981000"/>
            <a:ext cx="7386480" cy="5616720"/>
          </a:xfrm>
          <a:prstGeom prst="rect">
            <a:avLst/>
          </a:prstGeom>
          <a:noFill/>
          <a:ln w="0">
            <a:noFill/>
          </a:ln>
        </p:spPr>
        <p:txBody>
          <a:bodyPr anchor="t">
            <a:normAutofit/>
          </a:bodyPr>
          <a:p>
            <a:pPr marL="343080" indent="-34308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طبقه بندی از نظر میزان تحصیلات، مدارک تحصیلی، تخصص، توانایی و مهارت</a:t>
            </a:r>
            <a:endParaRPr b="0" lang="en-US" sz="2400" spc="-1" strike="noStrike">
              <a:solidFill>
                <a:srgbClr val="ffffff"/>
              </a:solidFill>
              <a:latin typeface="Arial"/>
            </a:endParaRPr>
          </a:p>
          <a:p>
            <a:pPr marL="343080" indent="-34308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وی‍ژه فارغ التحصیلان رشته های کشاورزی</a:t>
            </a:r>
            <a:endParaRPr b="0" lang="en-US" sz="2400" spc="-1" strike="noStrike">
              <a:solidFill>
                <a:srgbClr val="ffffff"/>
              </a:solidFill>
              <a:latin typeface="Arial"/>
            </a:endParaRPr>
          </a:p>
          <a:p>
            <a:pPr marL="343080" indent="-34308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ویژه فارغ التحصیلان رشته های فنی و مهندسی</a:t>
            </a:r>
            <a:endParaRPr b="0" lang="en-US" sz="2400" spc="-1" strike="noStrike">
              <a:solidFill>
                <a:srgbClr val="ffffff"/>
              </a:solidFill>
              <a:latin typeface="Arial"/>
            </a:endParaRPr>
          </a:p>
          <a:p>
            <a:pPr marL="343080" indent="-343080" algn="r" rtl="1">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ویژه فارغ التحصیلان رشته های حسابداری و مدیران اداری</a:t>
            </a:r>
            <a:endParaRPr b="0" lang="en-US" sz="2400" spc="-1" strike="noStrike">
              <a:solidFill>
                <a:srgbClr val="ffffff"/>
              </a:solidFill>
              <a:latin typeface="Arial"/>
            </a:endParaRPr>
          </a:p>
          <a:p>
            <a:pPr marL="343080" indent="-343080" algn="r" rtl="1">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ویژه فارغ التحصیلان رشته های علوم انسانی</a:t>
            </a:r>
            <a:endParaRPr b="0" lang="en-US" sz="2400" spc="-1" strike="noStrike">
              <a:solidFill>
                <a:srgbClr val="ffffff"/>
              </a:solidFill>
              <a:latin typeface="Arial"/>
            </a:endParaRPr>
          </a:p>
          <a:p>
            <a:pPr marL="343080" indent="-343080" algn="r" rtl="1">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ویژه فارغ التحصیلان رشته های پزشکی و بهداشت</a:t>
            </a:r>
            <a:endParaRPr b="0" lang="en-US" sz="2400" spc="-1" strike="noStrike">
              <a:solidFill>
                <a:srgbClr val="ffffff"/>
              </a:solidFill>
              <a:latin typeface="Arial"/>
            </a:endParaRPr>
          </a:p>
          <a:p>
            <a:pPr marL="343080" indent="-343080" algn="r" rtl="1">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ویژه زنان</a:t>
            </a:r>
            <a:endParaRPr b="0" lang="en-US" sz="2400" spc="-1" strike="noStrike">
              <a:solidFill>
                <a:srgbClr val="ffffff"/>
              </a:solidFill>
              <a:latin typeface="Arial"/>
            </a:endParaRPr>
          </a:p>
          <a:p>
            <a:pPr marL="343080" indent="-343080" algn="r" rtl="1">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به صورت تخصصی در حوزه اشتغال معلولین </a:t>
            </a:r>
            <a:endParaRPr b="0" lang="en-US" sz="2400" spc="-1" strike="noStrike">
              <a:solidFill>
                <a:srgbClr val="ffffff"/>
              </a:solidFill>
              <a:latin typeface="Arial"/>
            </a:endParaRPr>
          </a:p>
          <a:p>
            <a:pPr marL="343080" indent="-343080" algn="r" rtl="1">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Zar"/>
              </a:rPr>
              <a:t>ویژه متخصصان </a:t>
            </a:r>
            <a:r>
              <a:rPr b="1" lang="en-US" sz="2400" spc="-1" strike="noStrike">
                <a:solidFill>
                  <a:srgbClr val="ffffff"/>
                </a:solidFill>
                <a:latin typeface="Arial"/>
                <a:ea typeface="B Zar"/>
              </a:rPr>
              <a:t>IT</a:t>
            </a:r>
            <a:endParaRPr b="0" lang="en-US" sz="2400" spc="-1" strike="noStrike">
              <a:solidFill>
                <a:srgbClr val="ffffff"/>
              </a:solidFill>
              <a:latin typeface="Arial"/>
            </a:endParaRPr>
          </a:p>
        </p:txBody>
      </p:sp>
      <p:sp>
        <p:nvSpPr>
          <p:cNvPr id="229" name="Date Placeholder 1"/>
          <p:cNvSpPr/>
          <p:nvPr/>
        </p:nvSpPr>
        <p:spPr>
          <a:xfrm>
            <a:off x="301680" y="6242040"/>
            <a:ext cx="1782720" cy="47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2C94-2D6B-4868-A761-EE1094064F82}" type="datetime">
              <a:rPr b="0" lang="fa-IR" sz="1000" spc="-1" strike="noStrike">
                <a:solidFill>
                  <a:srgbClr val="ffffff"/>
                </a:solidFill>
                <a:latin typeface="Arial"/>
              </a:rPr>
              <a:t>۲۰۲۶/۰۷/۳۱</a:t>
            </a:fld>
            <a:endParaRPr b="0" lang="en-US" sz="1000" spc="-1" strike="noStrike">
              <a:solidFill>
                <a:srgbClr val="ffffff"/>
              </a:solidFill>
              <a:latin typeface="Arial"/>
            </a:endParaRPr>
          </a:p>
        </p:txBody>
      </p:sp>
      <p:sp>
        <p:nvSpPr>
          <p:cNvPr id="230" name="Footer Placeholder 2"/>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2462-636D-4E22-A94B-F07522BADBB5}"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21400" cy="680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4bc40"/>
                </a:solidFill>
                <a:latin typeface="Arial"/>
                <a:cs typeface="B Titr"/>
              </a:rPr>
              <a:t>روش های اخذ فرصت های شغلی از کارفرمایان</a:t>
            </a:r>
            <a:endParaRPr b="0" lang="en-US" sz="2000" spc="-1" strike="noStrike">
              <a:solidFill>
                <a:srgbClr val="f4bc40"/>
              </a:solidFill>
              <a:latin typeface="Arial"/>
            </a:endParaRPr>
          </a:p>
        </p:txBody>
      </p:sp>
      <p:sp>
        <p:nvSpPr>
          <p:cNvPr id="233" name=""/>
          <p:cNvSpPr txBox="1"/>
          <p:nvPr/>
        </p:nvSpPr>
        <p:spPr>
          <a:xfrm>
            <a:off x="301680" y="907920"/>
            <a:ext cx="7480080" cy="5616720"/>
          </a:xfrm>
          <a:prstGeom prst="rect">
            <a:avLst/>
          </a:prstGeom>
          <a:noFill/>
          <a:ln w="0">
            <a:noFill/>
          </a:ln>
        </p:spPr>
        <p:txBody>
          <a:bodyPr anchor="t">
            <a:normAutofit fontScale="92000"/>
          </a:bodyPr>
          <a:p>
            <a:pPr marL="315360" indent="-315360" algn="just" rtl="1">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cs typeface="B Mitra"/>
              </a:rPr>
              <a:t>دفاتر کاریابی یکی از مراجع تامین نیروی کار مورد نیاز کارفرمایان می باشند لیکن کارفرمایان به لحاظ قانونی ملزم به تامین نیروی مورد نیاز خود از طریق دفاتر کاریابی نمی باشند به همین دلیل کاریابی ها می کوشند با ایجاد مزیت، کارفرمایان را ترغیب نمایند که از خدمات کاریابی استفاده نمایند.</a:t>
            </a:r>
            <a:endParaRPr b="0" lang="en-US" sz="2000" spc="-1" strike="noStrike">
              <a:solidFill>
                <a:srgbClr val="ffffff"/>
              </a:solidFill>
              <a:latin typeface="Arial"/>
            </a:endParaRPr>
          </a:p>
          <a:p>
            <a:pPr marL="315360" indent="-315360" algn="just" rtl="1">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cs typeface="B Mitra"/>
              </a:rPr>
              <a:t>دفاتر کاریابی برای ارتباط با کارفرمایان و شناسایی فرصت های شغلی از روش های زیر استفاده می کنند.</a:t>
            </a:r>
            <a:endParaRPr b="0" lang="en-US" sz="2000" spc="-1" strike="noStrike">
              <a:solidFill>
                <a:srgbClr val="ffffff"/>
              </a:solidFill>
              <a:latin typeface="Arial"/>
            </a:endParaRPr>
          </a:p>
          <a:p>
            <a:pPr marL="315360" indent="-315360" algn="just" rtl="1">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Mitra"/>
              </a:rPr>
              <a:t> ـ استخدام کاریاب های خبره و کار بلد برای مراجعه به کارفرمایان و بنگاه ها</a:t>
            </a:r>
            <a:endParaRPr b="0" lang="en-US" sz="2000" spc="-1" strike="noStrike">
              <a:solidFill>
                <a:srgbClr val="ffffff"/>
              </a:solidFill>
              <a:latin typeface="Arial"/>
            </a:endParaRPr>
          </a:p>
          <a:p>
            <a:pPr marL="315360" indent="-315360" algn="just" rtl="1">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Mitra"/>
              </a:rPr>
              <a:t> ـ رسانه ها و شبکه های مجازی فعال در حوزه کاریابی</a:t>
            </a:r>
            <a:endParaRPr b="0" lang="en-US" sz="2000" spc="-1" strike="noStrike">
              <a:solidFill>
                <a:srgbClr val="ffffff"/>
              </a:solidFill>
              <a:latin typeface="Arial"/>
            </a:endParaRPr>
          </a:p>
          <a:p>
            <a:pPr marL="315360" indent="-315360" algn="just" rtl="1">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Mitra"/>
              </a:rPr>
              <a:t> ـ مراجعه کارفرمایان متقاضی نیروی کار جدید به دفاتر کاریابی</a:t>
            </a:r>
            <a:endParaRPr b="0" lang="en-US" sz="2000" spc="-1" strike="noStrike">
              <a:solidFill>
                <a:srgbClr val="ffffff"/>
              </a:solidFill>
              <a:latin typeface="Arial"/>
            </a:endParaRPr>
          </a:p>
          <a:p>
            <a:pPr marL="315360" indent="-315360" algn="just" rtl="1">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Mitra"/>
              </a:rPr>
              <a:t> ـ ارتباطات شخصی و فامیلی مدیر کاریابی با کارفرمایان</a:t>
            </a:r>
            <a:endParaRPr b="0" lang="en-US" sz="2000" spc="-1" strike="noStrike">
              <a:solidFill>
                <a:srgbClr val="ffffff"/>
              </a:solidFill>
              <a:latin typeface="Arial"/>
            </a:endParaRPr>
          </a:p>
          <a:p>
            <a:pPr marL="315360" indent="-31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Mitra"/>
              </a:rPr>
              <a:t> دفاتر کاریابی پس از کسب فرصت شغلی، فرصت های شغلی را در سامانه کاریابیها بارگذاری می نمایند. جویندگان کار متقاضی می توانند برای کسب اطلاعات و جزئیات فرصت های شغلی، به دفتر کاریابی مراجعه نمایند. دفاتر کاریابی با اعلام شرایط کارفرمایان به جویندگان کار، افراد واجد شرایط را به کارفرمایان طی معرفی نامه جداگانه اعالم می نمایند.</a:t>
            </a:r>
            <a:endParaRPr b="0" lang="en-US" sz="2000" spc="-1" strike="noStrike">
              <a:solidFill>
                <a:srgbClr val="ffffff"/>
              </a:solidFill>
              <a:latin typeface="Arial"/>
            </a:endParaRPr>
          </a:p>
        </p:txBody>
      </p:sp>
      <p:sp>
        <p:nvSpPr>
          <p:cNvPr id="234" name="Slide Number Placeholder 5"/>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6B07-E683-4E3C-9486-D863A646CE75}" type="slidenum">
              <a:rPr b="0" lang="fa-IR"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04:24:57Z</dcterms:created>
  <dc:creator>Pishgam Rayaneh</dc:creator>
  <dc:description/>
  <dc:language>en-US</dc:language>
  <cp:lastModifiedBy>سعيد تفويضي</cp:lastModifiedBy>
  <dcterms:modified xsi:type="dcterms:W3CDTF">2023-01-17T09:27:06Z</dcterms:modified>
  <cp:revision>303</cp:revision>
  <dc:subject/>
  <dc:title>اعطاي كارت اعتباري مهارت آموزي و شغل يابي به جويندگان كار</dc:title>
</cp:coreProperties>
</file>